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1.wmf" ContentType="image/x-wmf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wmf" ContentType="image/x-wmf"/>
  <Override PartName="/ppt/media/image2.jpeg" ContentType="image/jpeg"/>
  <Override PartName="/ppt/media/image3.wmf" ContentType="image/x-wmf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701675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0" y="0"/>
            <a:ext cx="70164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02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dt" idx="22"/>
          </p:nvPr>
        </p:nvSpPr>
        <p:spPr>
          <a:xfrm>
            <a:off x="3974760" y="0"/>
            <a:ext cx="30402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sldImg"/>
          </p:nvPr>
        </p:nvSpPr>
        <p:spPr>
          <a:xfrm>
            <a:off x="118080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ftr" idx="23"/>
          </p:nvPr>
        </p:nvSpPr>
        <p:spPr>
          <a:xfrm>
            <a:off x="-36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 type="sldNum" idx="24"/>
          </p:nvPr>
        </p:nvSpPr>
        <p:spPr>
          <a:xfrm>
            <a:off x="397476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81F33-C2B5-4235-B2C6-78BBA96EE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4D845-6453-480A-AF19-7B776BC41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Date Placeholder 4"/>
          <p:cNvSpPr/>
          <p:nvPr/>
        </p:nvSpPr>
        <p:spPr>
          <a:xfrm>
            <a:off x="3975120" y="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5A3FC-7183-4274-96C7-9065EFC2E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Date Placeholder 4"/>
          <p:cNvSpPr/>
          <p:nvPr/>
        </p:nvSpPr>
        <p:spPr>
          <a:xfrm>
            <a:off x="3975120" y="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A9C6-AE35-4F54-A898-974764EB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29C-7329-4C23-BEBE-843E7293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B6F-2AB9-4A9B-B1DB-F4CE69E2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644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168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56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644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168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B52-8952-4825-85D5-275BE8E5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0137-DDCC-4820-BD41-A67410D1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C323-30F6-46C4-A8C3-10A57F80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B077-AE4F-4AEE-BA75-3AFA9120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F835-2458-459A-96B1-5C0EB000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69BD-6A82-42E0-83B6-2EAD1443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5B64-562E-4402-80E4-1B3001E3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0798-4DC3-40FA-9AD6-F1CAC6DD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1B7-FDF4-45AB-9BE6-FF8E13E3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7D1C-8740-49BF-817F-2960D545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8BEF-2A9D-4E12-9177-DBD8BDB8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E647-A503-44FC-AE20-B808CCCC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45CC-0885-4BC4-9C09-0B66911E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7644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8168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7156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7644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8168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3500-371F-4755-B9BF-BF405E9F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9E53E-72FB-425A-BC02-4711CCE8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BCEBC-9F82-489F-A746-A337F0D6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7FC06-1647-4F83-B8DA-6E1351B0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43B25-1596-4841-9DBD-7AD9B798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F539F-0A6B-4BBB-8702-4F333D66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707-7078-45E7-B00F-725B91EA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0AAB8-3EA3-4F49-99D3-1BBFB9BC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8F4DB-A4B1-4029-A96B-51D5CBA4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D9A54-B87F-4B66-A8F7-6764AA16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41AE7-0038-4E57-8A7B-8D63843D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BAB84-D2F0-4CD8-B0AC-3ADAE350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A4C65-E622-4051-8D41-4F590DC7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7644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168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87156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7644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168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A159C-0664-4E35-92CF-57156962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3D505-7174-423B-A330-DAA22880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CAA93-19B6-4559-873B-9B77DCB8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F47F1-C315-44CD-A0F9-FEFCF9CA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8642-A1AF-46EF-AAD1-8B927056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91CFB-9C18-43E1-BC4D-46D3EBB7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F6E3F-97A6-4973-AE3A-C7595FAD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F4579-CBDE-4EC9-BB51-58BDE24D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F9B38-CE2E-4641-A731-3FA088DC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ABF26-A9B8-4A5A-BCE6-8E0AA3E5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A513F-AB48-42AA-A783-4452E3FE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5D834-DA48-4997-9864-1F860B93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8426F-32BB-4A15-902E-728D66F3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7644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88168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87156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7644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88168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0F70A-6C03-4EDD-AA3A-DF26750D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0C22A-4832-4398-AFB9-ED11DAEA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A0F-6F6F-4997-99B5-3C6331BF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9B7CD-3B46-4FFE-A510-16E2DFCC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CB7DC-3634-4018-8A99-4DE70495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78FF9-7962-48A5-91E1-99E7AE80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4F444-16F1-42FE-9CD0-4835BA4A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9E809-F9C2-43EF-A872-78420B35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D6588-7DE8-4F3C-9869-B9E23905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CFB93-962C-4DD9-8B98-7F4D1ED5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1CE05-8570-47EE-AB8F-5521100D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3F18A-0F48-4295-9932-433B9ADD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F9971-184E-46A1-BD6A-472391E7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020-C466-4CA5-B407-7997F119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644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8168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7156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644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8168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27105-C48E-4B5F-A973-26510E42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8446C-3371-4330-8A9A-CCAF139E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ACC24-8B4D-4581-93D6-38AA5D15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371E6-43BC-459A-BE6A-95801A05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CD1CE-081F-4658-8FEC-B658557A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873BA-2D4E-48C7-8B76-F61046FB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6F47F-4CA5-40B0-8833-A5D67DD6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C0F7A-C68A-4120-A9A0-C3033D2E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4548F-FEF1-450E-8056-E7A7BDCF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6DE69-DECA-4058-838A-BB1D9773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1583-0706-46C0-8E16-F4C0749C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E2A30-C9D7-4C90-9653-B2646E28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C355D-1BA4-47DC-A901-634CA0CF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7644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88168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87156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7644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88168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64050-D834-4176-A67D-86E74C49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76A7C-D907-481B-B985-5235F15D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7E111-B6E7-4F54-BEAF-0B2F65E2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36D1B-3861-42FD-9850-B7F42B4D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B304E-5EBA-41B4-8A56-106C0B21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98393-48E1-4A83-8D0F-C86D98B8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B412E-064A-4FA5-890B-F144151D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3E876-F909-4960-8539-71B88940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ED3-6D16-4919-B43E-8F8A2F11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3F31F-EE7D-4AD7-8E14-C6B7E758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0AD19-2BB6-41AF-B0B2-B70971ED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F6BFF-C3E1-423B-AEA7-F307209C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8120" y="417348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61021-CDB4-4B16-BE99-809F5404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7644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881680" y="203796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87156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7644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881680" y="4173480"/>
            <a:ext cx="238536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E459F-1576-4565-9472-5D067F36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56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037960"/>
            <a:ext cx="361548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560" y="4173480"/>
            <a:ext cx="7408800" cy="19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99D-31DC-4134-B6E6-CA003CC9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Times New Roman"/>
              </a:defRPr>
            </a:lvl1pPr>
          </a:lstStyle>
          <a:p>
            <a: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51771-8BF7-4155-9BB0-69C96D5C11F2}" type="datetime">
              <a:rPr b="1" lang="en-US" sz="1000" spc="-1" strike="noStrike">
                <a:solidFill>
                  <a:srgbClr val="263b86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83296-C215-40DF-90F3-A02D1D905F76}" type="slidenum">
              <a:rPr b="1" lang="en-US" sz="1000" spc="-1" strike="noStrike">
                <a:solidFill>
                  <a:srgbClr val="263b8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6"/>
          <p:cNvSpPr/>
          <p:nvPr/>
        </p:nvSpPr>
        <p:spPr>
          <a:xfrm>
            <a:off x="254160" y="247680"/>
            <a:ext cx="8696160" cy="63864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fbd821"/>
              </a:gs>
              <a:gs pos="100000">
                <a:srgbClr val="f5edc7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54160" y="5315040"/>
            <a:ext cx="8723160" cy="1328760"/>
            <a:chOff x="254160" y="5315040"/>
            <a:chExt cx="8723160" cy="1328760"/>
          </a:xfrm>
        </p:grpSpPr>
        <p:sp>
          <p:nvSpPr>
            <p:cNvPr id="43" name="Freeform 14"/>
            <p:cNvSpPr/>
            <p:nvPr/>
          </p:nvSpPr>
          <p:spPr>
            <a:xfrm>
              <a:off x="6089760" y="545940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76b6f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62200" y="5332320"/>
              <a:ext cx="55436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76b6f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71720" y="5343480"/>
              <a:ext cx="546732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51640" y="53308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54160" y="5315040"/>
              <a:ext cx="8723160" cy="13287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Rounded Rectangle 13"/>
          <p:cNvSpPr/>
          <p:nvPr/>
        </p:nvSpPr>
        <p:spPr>
          <a:xfrm>
            <a:off x="228600" y="228600"/>
            <a:ext cx="8721720" cy="6035760"/>
          </a:xfrm>
          <a:prstGeom prst="roundRect">
            <a:avLst>
              <a:gd name="adj" fmla="val 1273"/>
            </a:avLst>
          </a:prstGeom>
          <a:solidFill>
            <a:srgbClr val="fbd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76b6f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76b6f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20" descr="logo-veritas.jpg"/>
          <p:cNvPicPr/>
          <p:nvPr/>
        </p:nvPicPr>
        <p:blipFill>
          <a:blip r:embed="rId3"/>
          <a:stretch/>
        </p:blipFill>
        <p:spPr>
          <a:xfrm>
            <a:off x="500040" y="228600"/>
            <a:ext cx="933480" cy="137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Times New Roman"/>
              </a:defRPr>
            </a:lvl1pPr>
          </a:lstStyle>
          <a:p>
            <a: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03E27-C59B-4BE5-9D44-B908A85491A6}" type="datetime">
              <a:rPr b="1" lang="en-US" sz="1000" spc="-1" strike="noStrike">
                <a:solidFill>
                  <a:srgbClr val="263b86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A396B-ADC4-4F92-B065-8C25D725A77C}" type="slidenum">
              <a:rPr b="1" lang="en-US" sz="1000" spc="-1" strike="noStrike">
                <a:solidFill>
                  <a:srgbClr val="263b8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ounded Rectangle 6"/>
          <p:cNvSpPr/>
          <p:nvPr/>
        </p:nvSpPr>
        <p:spPr>
          <a:xfrm>
            <a:off x="254160" y="247680"/>
            <a:ext cx="8696160" cy="63864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fbd821"/>
              </a:gs>
              <a:gs pos="100000">
                <a:srgbClr val="f5edc7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15"/>
          <p:cNvGrpSpPr/>
          <p:nvPr/>
        </p:nvGrpSpPr>
        <p:grpSpPr>
          <a:xfrm>
            <a:off x="254160" y="5315040"/>
            <a:ext cx="8723160" cy="1328760"/>
            <a:chOff x="254160" y="5315040"/>
            <a:chExt cx="8723160" cy="1328760"/>
          </a:xfrm>
        </p:grpSpPr>
        <p:sp>
          <p:nvSpPr>
            <p:cNvPr id="99" name="Freeform 14"/>
            <p:cNvSpPr/>
            <p:nvPr/>
          </p:nvSpPr>
          <p:spPr>
            <a:xfrm>
              <a:off x="6089760" y="545940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76b6f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8"/>
            <p:cNvSpPr/>
            <p:nvPr/>
          </p:nvSpPr>
          <p:spPr>
            <a:xfrm>
              <a:off x="2662200" y="5332320"/>
              <a:ext cx="55436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76b6f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2871720" y="5343480"/>
              <a:ext cx="546732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5651640" y="53308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254160" y="5315040"/>
              <a:ext cx="8723160" cy="13287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cf9904"/>
              </a:gs>
              <a:gs pos="100000">
                <a:srgbClr val="fdd97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76b6f2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76b6f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16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Times New Roman"/>
              </a:defRPr>
            </a:lvl1pPr>
          </a:lstStyle>
          <a:p>
            <a: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76F4F-72BC-466C-A883-0C2D7F270009}" type="datetime">
              <a:rPr b="1" lang="en-US" sz="1000" spc="-1" strike="noStrike">
                <a:solidFill>
                  <a:srgbClr val="263b86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1DBC1-0119-47AA-8DAA-B9004F85C43C}" type="slidenum">
              <a:rPr b="1" lang="en-US" sz="1000" spc="-1" strike="noStrike">
                <a:solidFill>
                  <a:srgbClr val="263b8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ounded Rectangle 6"/>
          <p:cNvSpPr/>
          <p:nvPr/>
        </p:nvSpPr>
        <p:spPr>
          <a:xfrm>
            <a:off x="254160" y="247680"/>
            <a:ext cx="8696160" cy="63864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fbd821"/>
              </a:gs>
              <a:gs pos="100000">
                <a:srgbClr val="f5edc7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Group 15"/>
          <p:cNvGrpSpPr/>
          <p:nvPr/>
        </p:nvGrpSpPr>
        <p:grpSpPr>
          <a:xfrm>
            <a:off x="254160" y="5315040"/>
            <a:ext cx="8723160" cy="1328760"/>
            <a:chOff x="254160" y="5315040"/>
            <a:chExt cx="8723160" cy="1328760"/>
          </a:xfrm>
        </p:grpSpPr>
        <p:sp>
          <p:nvSpPr>
            <p:cNvPr id="153" name="Freeform 14"/>
            <p:cNvSpPr/>
            <p:nvPr/>
          </p:nvSpPr>
          <p:spPr>
            <a:xfrm>
              <a:off x="6089760" y="545940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76b6f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>
              <a:off x="2662200" y="5332320"/>
              <a:ext cx="55436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76b6f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2871720" y="5343480"/>
              <a:ext cx="546732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26"/>
            <p:cNvSpPr/>
            <p:nvPr/>
          </p:nvSpPr>
          <p:spPr>
            <a:xfrm>
              <a:off x="5651640" y="53308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>
              <a:off x="254160" y="5315040"/>
              <a:ext cx="8723160" cy="13287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Rounded Rectangle 13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cf9904"/>
              </a:gs>
              <a:gs pos="100000">
                <a:srgbClr val="fdd97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60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76b6f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76b6f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9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Times New Roman"/>
              </a:defRPr>
            </a:lvl1pPr>
          </a:lstStyle>
          <a:p>
            <a: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1A855-7F26-4275-A67E-6229237308B3}" type="datetime">
              <a:rPr b="1" lang="en-US" sz="1000" spc="-1" strike="noStrike">
                <a:solidFill>
                  <a:srgbClr val="263b86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8FB88-091A-4A75-8765-ABD352724FDB}" type="slidenum">
              <a:rPr b="1" lang="en-US" sz="1000" spc="-1" strike="noStrike">
                <a:solidFill>
                  <a:srgbClr val="263b8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ounded Rectangle 6"/>
          <p:cNvSpPr/>
          <p:nvPr/>
        </p:nvSpPr>
        <p:spPr>
          <a:xfrm>
            <a:off x="254160" y="247680"/>
            <a:ext cx="8696160" cy="63864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fbd821"/>
              </a:gs>
              <a:gs pos="100000">
                <a:srgbClr val="f5edc7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" name="Group 15"/>
          <p:cNvGrpSpPr/>
          <p:nvPr/>
        </p:nvGrpSpPr>
        <p:grpSpPr>
          <a:xfrm>
            <a:off x="254160" y="5315040"/>
            <a:ext cx="8723160" cy="1328760"/>
            <a:chOff x="254160" y="5315040"/>
            <a:chExt cx="8723160" cy="1328760"/>
          </a:xfrm>
        </p:grpSpPr>
        <p:sp>
          <p:nvSpPr>
            <p:cNvPr id="208" name="Freeform 14"/>
            <p:cNvSpPr/>
            <p:nvPr/>
          </p:nvSpPr>
          <p:spPr>
            <a:xfrm>
              <a:off x="6089760" y="545940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76b6f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8"/>
            <p:cNvSpPr/>
            <p:nvPr/>
          </p:nvSpPr>
          <p:spPr>
            <a:xfrm>
              <a:off x="2662200" y="5332320"/>
              <a:ext cx="55436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76b6f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22"/>
            <p:cNvSpPr/>
            <p:nvPr/>
          </p:nvSpPr>
          <p:spPr>
            <a:xfrm>
              <a:off x="2871720" y="5343480"/>
              <a:ext cx="546732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26"/>
            <p:cNvSpPr/>
            <p:nvPr/>
          </p:nvSpPr>
          <p:spPr>
            <a:xfrm>
              <a:off x="5651640" y="53308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2"/>
            <p:cNvSpPr/>
            <p:nvPr/>
          </p:nvSpPr>
          <p:spPr>
            <a:xfrm>
              <a:off x="254160" y="5315040"/>
              <a:ext cx="8723160" cy="13287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" name="Rounded Rectangle 13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cf9904"/>
              </a:gs>
              <a:gs pos="100000">
                <a:srgbClr val="fdd97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15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76b6f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76b6f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Times New Roman"/>
              </a:defRPr>
            </a:lvl1pPr>
          </a:lstStyle>
          <a:p>
            <a: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647CC-D655-4C60-B644-A887ADC17458}" type="datetime">
              <a:rPr b="1" lang="en-US" sz="1000" spc="-1" strike="noStrike">
                <a:solidFill>
                  <a:srgbClr val="263b86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DA8CD-115E-41C5-8EEC-8C1226E054AC}" type="slidenum">
              <a:rPr b="1" lang="en-US" sz="1000" spc="-1" strike="noStrike">
                <a:solidFill>
                  <a:srgbClr val="263b8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ed Rectangle 6"/>
          <p:cNvSpPr/>
          <p:nvPr/>
        </p:nvSpPr>
        <p:spPr>
          <a:xfrm>
            <a:off x="254160" y="247680"/>
            <a:ext cx="8696160" cy="63864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fbd821"/>
              </a:gs>
              <a:gs pos="100000">
                <a:srgbClr val="f5edc7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Group 15"/>
          <p:cNvGrpSpPr/>
          <p:nvPr/>
        </p:nvGrpSpPr>
        <p:grpSpPr>
          <a:xfrm>
            <a:off x="254160" y="5315040"/>
            <a:ext cx="8723160" cy="1328760"/>
            <a:chOff x="254160" y="5315040"/>
            <a:chExt cx="8723160" cy="1328760"/>
          </a:xfrm>
        </p:grpSpPr>
        <p:sp>
          <p:nvSpPr>
            <p:cNvPr id="263" name="Freeform 14"/>
            <p:cNvSpPr/>
            <p:nvPr/>
          </p:nvSpPr>
          <p:spPr>
            <a:xfrm>
              <a:off x="6089760" y="545940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76b6f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18"/>
            <p:cNvSpPr/>
            <p:nvPr/>
          </p:nvSpPr>
          <p:spPr>
            <a:xfrm>
              <a:off x="2662200" y="5332320"/>
              <a:ext cx="55436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76b6f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2871720" y="5343480"/>
              <a:ext cx="546732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26"/>
            <p:cNvSpPr/>
            <p:nvPr/>
          </p:nvSpPr>
          <p:spPr>
            <a:xfrm>
              <a:off x="5651640" y="53308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254160" y="5315040"/>
              <a:ext cx="8723160" cy="13287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Rounded Rectangle 13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cf9904"/>
              </a:gs>
              <a:gs pos="100000">
                <a:srgbClr val="fdd97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7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76b6f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76b6f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Times New Roman"/>
              </a:defRPr>
            </a:lvl1pPr>
          </a:lstStyle>
          <a:p>
            <a: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04059-2540-4232-91F1-C279AAF19AD0}" type="datetime">
              <a:rPr b="1" lang="en-US" sz="1000" spc="-1" strike="noStrike">
                <a:solidFill>
                  <a:srgbClr val="263b86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65B38-5CC8-4798-AB0B-5049A06A6C44}" type="slidenum">
              <a:rPr b="1" lang="en-US" sz="1000" spc="-1" strike="noStrike">
                <a:solidFill>
                  <a:srgbClr val="263b8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ounded Rectangle 6"/>
          <p:cNvSpPr/>
          <p:nvPr/>
        </p:nvSpPr>
        <p:spPr>
          <a:xfrm>
            <a:off x="254160" y="247680"/>
            <a:ext cx="8696160" cy="63864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fbd821"/>
              </a:gs>
              <a:gs pos="100000">
                <a:srgbClr val="f5edc7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Group 15"/>
          <p:cNvGrpSpPr/>
          <p:nvPr/>
        </p:nvGrpSpPr>
        <p:grpSpPr>
          <a:xfrm>
            <a:off x="254160" y="5315040"/>
            <a:ext cx="8723160" cy="1328760"/>
            <a:chOff x="254160" y="5315040"/>
            <a:chExt cx="8723160" cy="1328760"/>
          </a:xfrm>
        </p:grpSpPr>
        <p:sp>
          <p:nvSpPr>
            <p:cNvPr id="318" name="Freeform 14"/>
            <p:cNvSpPr/>
            <p:nvPr/>
          </p:nvSpPr>
          <p:spPr>
            <a:xfrm>
              <a:off x="6089760" y="545940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76b6f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2662200" y="5332320"/>
              <a:ext cx="55436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76b6f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22"/>
            <p:cNvSpPr/>
            <p:nvPr/>
          </p:nvSpPr>
          <p:spPr>
            <a:xfrm>
              <a:off x="2871720" y="5343480"/>
              <a:ext cx="546732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26"/>
            <p:cNvSpPr/>
            <p:nvPr/>
          </p:nvSpPr>
          <p:spPr>
            <a:xfrm>
              <a:off x="5651640" y="53308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0"/>
            <p:cNvSpPr/>
            <p:nvPr/>
          </p:nvSpPr>
          <p:spPr>
            <a:xfrm>
              <a:off x="254160" y="5315040"/>
              <a:ext cx="8723160" cy="13287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Rounded Rectangle 13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cf9904"/>
              </a:gs>
              <a:gs pos="100000">
                <a:srgbClr val="fdd97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25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76b6f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76b6f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71560" y="2037960"/>
            <a:ext cx="74088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fbc01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b8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Times New Roman"/>
              </a:defRPr>
            </a:lvl1pPr>
          </a:lstStyle>
          <a:p>
            <a:pPr indent="0" algn="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4D9CA-355B-4048-B375-5E071FA247EA}" type="datetime">
              <a:rPr b="1" lang="en-US" sz="1000" spc="-1" strike="noStrike">
                <a:solidFill>
                  <a:srgbClr val="263b86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263b86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84704-0EB8-4E22-BAA2-C8A16D54A947}" type="slidenum">
              <a:rPr b="1" lang="en-US" sz="1000" spc="-1" strike="noStrike">
                <a:solidFill>
                  <a:srgbClr val="263b8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E8850-ACB0-42E4-B6FA-9FF47351F95C}" type="slidenum">
              <a:rPr b="1" lang="en-US" sz="1000" spc="-1" strike="noStrike">
                <a:solidFill>
                  <a:srgbClr val="263b86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itle 1"/>
          <p:cNvSpPr/>
          <p:nvPr/>
        </p:nvSpPr>
        <p:spPr>
          <a:xfrm>
            <a:off x="990720" y="1738440"/>
            <a:ext cx="7556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RANSITION TO WORK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RACER STUDY RESULTS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ACULTY OF ECONOMICS UNIVERSITY OF INDONESIA 201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ubtitle 2"/>
          <p:cNvSpPr/>
          <p:nvPr/>
        </p:nvSpPr>
        <p:spPr>
          <a:xfrm>
            <a:off x="1271520" y="5654520"/>
            <a:ext cx="6997680" cy="736920"/>
          </a:xfrm>
          <a:prstGeom prst="rect">
            <a:avLst/>
          </a:prstGeom>
          <a:solidFill>
            <a:srgbClr val="d6d8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ri Daryanti*, Leni Martiani *,   Ahmad Syafiq**, and Sandra Fikawati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Object 8"/>
          <p:cNvGraphicFramePr/>
          <p:nvPr/>
        </p:nvGraphicFramePr>
        <p:xfrm>
          <a:off x="996840" y="1857240"/>
          <a:ext cx="7883640" cy="48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1857240"/>
                    <a:ext cx="7883640" cy="4834080"/>
                  </a:xfrm>
                  <a:prstGeom prst="rect">
                    <a:avLst/>
                  </a:prstGeom>
                  <a:ln w="9360">
                    <a:solidFill>
                      <a:srgbClr val="fbc01e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5" name="Oval 7"/>
          <p:cNvSpPr/>
          <p:nvPr/>
        </p:nvSpPr>
        <p:spPr>
          <a:xfrm>
            <a:off x="3071880" y="4632480"/>
            <a:ext cx="106668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2686320" y="453240"/>
            <a:ext cx="51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b86"/>
                </a:solidFill>
                <a:latin typeface="Arial"/>
                <a:ea typeface="Times New Roman"/>
              </a:rPr>
              <a:t>Contact Mechanism (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Object 3"/>
          <p:cNvGraphicFramePr/>
          <p:nvPr/>
        </p:nvGraphicFramePr>
        <p:xfrm>
          <a:off x="669960" y="271440"/>
          <a:ext cx="960120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71440"/>
                    <a:ext cx="96012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2763360" y="453240"/>
            <a:ext cx="51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b86"/>
                </a:solidFill>
                <a:latin typeface="Arial"/>
                <a:ea typeface="Times New Roman"/>
              </a:rPr>
              <a:t>Contact Mechanism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Oval 7"/>
          <p:cNvSpPr/>
          <p:nvPr/>
        </p:nvSpPr>
        <p:spPr>
          <a:xfrm>
            <a:off x="669960" y="1938240"/>
            <a:ext cx="990720" cy="981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84280" y="375840"/>
            <a:ext cx="74836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3b86"/>
                </a:solidFill>
                <a:latin typeface="Arial"/>
                <a:ea typeface="Arial"/>
              </a:rPr>
              <a:t>The Data Collection</a:t>
            </a:r>
            <a:endParaRPr b="0" lang="en-US" sz="3200" spc="-1" strike="noStrike">
              <a:solidFill>
                <a:srgbClr val="263b86"/>
              </a:solidFill>
              <a:latin typeface="Arial"/>
            </a:endParaRPr>
          </a:p>
        </p:txBody>
      </p:sp>
      <p:pic>
        <p:nvPicPr>
          <p:cNvPr id="443" name="Picture 8" descr="foto tracer B"/>
          <p:cNvPicPr/>
          <p:nvPr/>
        </p:nvPicPr>
        <p:blipFill>
          <a:blip r:embed="rId1"/>
          <a:stretch/>
        </p:blipFill>
        <p:spPr>
          <a:xfrm>
            <a:off x="4724280" y="1905120"/>
            <a:ext cx="5241960" cy="373356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9"/>
          <p:cNvSpPr/>
          <p:nvPr/>
        </p:nvSpPr>
        <p:spPr>
          <a:xfrm>
            <a:off x="2944800" y="5769000"/>
            <a:ext cx="60706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er Study UI Enum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5" descr="Picture1.jpg"/>
          <p:cNvPicPr/>
          <p:nvPr/>
        </p:nvPicPr>
        <p:blipFill>
          <a:blip r:embed="rId2"/>
          <a:stretch/>
        </p:blipFill>
        <p:spPr>
          <a:xfrm>
            <a:off x="-262080" y="1895400"/>
            <a:ext cx="4986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b86"/>
                </a:solidFill>
                <a:latin typeface="Arial"/>
              </a:rPr>
              <a:t>Website Interface</a:t>
            </a:r>
            <a:endParaRPr b="0" lang="en-US" sz="3600" spc="-1" strike="noStrike">
              <a:solidFill>
                <a:srgbClr val="263b86"/>
              </a:solidFill>
              <a:latin typeface="Arial"/>
            </a:endParaRPr>
          </a:p>
        </p:txBody>
      </p:sp>
      <p:pic>
        <p:nvPicPr>
          <p:cNvPr id="447" name="Picture 5" descr=""/>
          <p:cNvPicPr/>
          <p:nvPr/>
        </p:nvPicPr>
        <p:blipFill>
          <a:blip r:embed="rId1"/>
          <a:srcRect l="16669" t="11778" r="16669" b="12668"/>
          <a:stretch/>
        </p:blipFill>
        <p:spPr>
          <a:xfrm>
            <a:off x="1514520" y="1382760"/>
            <a:ext cx="743436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3"/>
          <p:cNvSpPr/>
          <p:nvPr/>
        </p:nvSpPr>
        <p:spPr>
          <a:xfrm>
            <a:off x="1333440" y="381240"/>
            <a:ext cx="75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3b86"/>
                </a:solidFill>
                <a:latin typeface="Arial"/>
                <a:ea typeface="Times New Roman"/>
              </a:rPr>
              <a:t>Questionnaire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263b86"/>
                </a:solidFill>
                <a:latin typeface="Arial"/>
                <a:ea typeface="Times New Roman"/>
              </a:rPr>
              <a:t>Tracer Study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rcRect l="24444" t="10002" r="25001" b="14445"/>
          <a:stretch/>
        </p:blipFill>
        <p:spPr>
          <a:xfrm>
            <a:off x="1752480" y="1332000"/>
            <a:ext cx="56912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1" descr=""/>
          <p:cNvPicPr/>
          <p:nvPr/>
        </p:nvPicPr>
        <p:blipFill>
          <a:blip r:embed="rId1"/>
          <a:srcRect l="24444" t="24224" r="25557" b="35780"/>
          <a:stretch/>
        </p:blipFill>
        <p:spPr>
          <a:xfrm>
            <a:off x="1639800" y="270000"/>
            <a:ext cx="6208920" cy="3105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2" descr=""/>
          <p:cNvPicPr/>
          <p:nvPr/>
        </p:nvPicPr>
        <p:blipFill>
          <a:blip r:embed="rId2"/>
          <a:srcRect l="24444" t="24224" r="25557" b="18001"/>
          <a:stretch/>
        </p:blipFill>
        <p:spPr>
          <a:xfrm>
            <a:off x="2514600" y="2179800"/>
            <a:ext cx="6477120" cy="4678200"/>
          </a:xfrm>
          <a:prstGeom prst="rect">
            <a:avLst/>
          </a:prstGeom>
          <a:ln w="0">
            <a:noFill/>
          </a:ln>
        </p:spPr>
      </p:pic>
      <p:sp>
        <p:nvSpPr>
          <p:cNvPr id="452" name="Oval 8"/>
          <p:cNvSpPr/>
          <p:nvPr/>
        </p:nvSpPr>
        <p:spPr>
          <a:xfrm>
            <a:off x="1787400" y="720720"/>
            <a:ext cx="2286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Oval 10"/>
          <p:cNvSpPr/>
          <p:nvPr/>
        </p:nvSpPr>
        <p:spPr>
          <a:xfrm>
            <a:off x="2654280" y="2863800"/>
            <a:ext cx="2286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8437680" y="304920"/>
            <a:ext cx="53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AD6E-4B5B-45AE-AFDC-F7898B58F2FB}" type="slidenum">
              <a:rPr b="1" lang="en-GB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82320" y="43920"/>
            <a:ext cx="786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400" spc="-1" strike="noStrike">
                <a:solidFill>
                  <a:srgbClr val="263b86"/>
                </a:solidFill>
                <a:latin typeface="Arial"/>
              </a:rPr>
              <a:t>Response Rate TSUI 2010 &amp; 2011</a:t>
            </a:r>
            <a:endParaRPr b="0" lang="en-US" sz="3400" spc="-1" strike="noStrike">
              <a:solidFill>
                <a:srgbClr val="263b86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1920960" y="1415880"/>
          <a:ext cx="6172200" cy="5016600"/>
        </p:xfrm>
        <a:graphic>
          <a:graphicData uri="http://schemas.openxmlformats.org/drawingml/2006/table">
            <a:tbl>
              <a:tblPr/>
              <a:tblGrid>
                <a:gridCol w="2209680"/>
                <a:gridCol w="1905120"/>
                <a:gridCol w="2057400"/>
              </a:tblGrid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w Cen MT"/>
                          <a:ea typeface="Arial"/>
                        </a:rPr>
                        <a:t>Facul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w Cen MT"/>
                          <a:ea typeface="Arial"/>
                        </a:rPr>
                        <a:t>TSUI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w Cen MT"/>
                          <a:ea typeface="Arial"/>
                        </a:rPr>
                        <a:t>TSUI 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F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63b86"/>
                          </a:solidFill>
                          <a:latin typeface="Tw Cen MT"/>
                          <a:ea typeface="Arial"/>
                        </a:rPr>
                        <a:t>3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63b86"/>
                          </a:solidFill>
                          <a:latin typeface="Tw Cen MT"/>
                          <a:ea typeface="Arial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F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9900"/>
                          </a:solidFill>
                          <a:latin typeface="Tw Cen MT"/>
                          <a:ea typeface="Arial"/>
                        </a:rPr>
                        <a:t>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9900"/>
                          </a:solidFill>
                          <a:latin typeface="Tw Cen MT"/>
                          <a:ea typeface="Arial"/>
                        </a:rPr>
                        <a:t>3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F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63b86"/>
                          </a:solidFill>
                          <a:latin typeface="Tw Cen MT"/>
                          <a:ea typeface="Arial"/>
                        </a:rPr>
                        <a:t>4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63b86"/>
                          </a:solidFill>
                          <a:latin typeface="Tw Cen MT"/>
                          <a:ea typeface="Arial"/>
                        </a:rPr>
                        <a:t>3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63b86"/>
                          </a:solidFill>
                          <a:latin typeface="Tw Cen MT"/>
                          <a:ea typeface="Arial"/>
                        </a:rPr>
                        <a:t>6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63b86"/>
                          </a:solidFill>
                          <a:latin typeface="Tw Cen MT"/>
                          <a:ea typeface="Arial"/>
                        </a:rPr>
                        <a:t>4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F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9900"/>
                          </a:solidFill>
                          <a:latin typeface="Tw Cen MT"/>
                          <a:ea typeface="Arial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9900"/>
                          </a:solidFill>
                          <a:latin typeface="Tw Cen MT"/>
                          <a:ea typeface="Arial"/>
                        </a:rPr>
                        <a:t>3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9900"/>
                          </a:solidFill>
                          <a:latin typeface="Tw Cen MT"/>
                          <a:ea typeface="Arial"/>
                        </a:rPr>
                        <a:t>3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9900"/>
                          </a:solidFill>
                          <a:latin typeface="Tw Cen MT"/>
                          <a:ea typeface="Arial"/>
                        </a:rPr>
                        <a:t>3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F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63b86"/>
                          </a:solidFill>
                          <a:latin typeface="Tw Cen MT"/>
                          <a:ea typeface="Arial"/>
                        </a:rPr>
                        <a:t>4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63b86"/>
                          </a:solidFill>
                          <a:latin typeface="Tw Cen MT"/>
                          <a:ea typeface="Arial"/>
                        </a:rPr>
                        <a:t>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FP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9900"/>
                          </a:solidFill>
                          <a:latin typeface="Tw Cen MT"/>
                          <a:ea typeface="Arial"/>
                        </a:rPr>
                        <a:t>4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9900"/>
                          </a:solidFill>
                          <a:latin typeface="Tw Cen MT"/>
                          <a:ea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FS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63b86"/>
                          </a:solidFill>
                          <a:latin typeface="Tw Cen MT"/>
                          <a:ea typeface="Arial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63b86"/>
                          </a:solidFill>
                          <a:latin typeface="Tw Cen MT"/>
                          <a:ea typeface="Arial"/>
                        </a:rPr>
                        <a:t>2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F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63b86"/>
                          </a:solidFill>
                          <a:latin typeface="Tw Cen MT"/>
                          <a:ea typeface="Arial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63b86"/>
                          </a:solidFill>
                          <a:latin typeface="Tw Cen MT"/>
                          <a:ea typeface="Arial"/>
                        </a:rPr>
                        <a:t>3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FK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9900"/>
                          </a:solidFill>
                          <a:latin typeface="Tw Cen MT"/>
                          <a:ea typeface="Arial"/>
                        </a:rPr>
                        <a:t>4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9900"/>
                          </a:solidFill>
                          <a:latin typeface="Tw Cen MT"/>
                          <a:ea typeface="Arial"/>
                        </a:rPr>
                        <a:t>5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F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63b86"/>
                          </a:solidFill>
                          <a:latin typeface="Tw Cen MT"/>
                          <a:ea typeface="Arial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63b86"/>
                          </a:solidFill>
                          <a:latin typeface="Tw Cen MT"/>
                          <a:ea typeface="Arial"/>
                        </a:rPr>
                        <a:t>3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U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63b86"/>
                          </a:solidFill>
                          <a:latin typeface="Tw Cen MT"/>
                          <a:ea typeface="Arial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63b86"/>
                          </a:solidFill>
                          <a:latin typeface="Tw Cen MT"/>
                          <a:ea typeface="Arial"/>
                        </a:rPr>
                        <a:t>4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263b86"/>
                </a:solidFill>
                <a:latin typeface="Arial"/>
              </a:rPr>
              <a:t>Response Rate</a:t>
            </a:r>
            <a:r>
              <a:rPr b="1" lang="en-US" sz="4000" spc="-1" strike="noStrike">
                <a:solidFill>
                  <a:srgbClr val="263b8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263b86"/>
              </a:solidFill>
              <a:latin typeface="Arial"/>
            </a:endParaRPr>
          </a:p>
        </p:txBody>
      </p:sp>
      <p:graphicFrame>
        <p:nvGraphicFramePr>
          <p:cNvPr id="458" name="Object 6"/>
          <p:cNvGraphicFramePr/>
          <p:nvPr/>
        </p:nvGraphicFramePr>
        <p:xfrm>
          <a:off x="76320" y="1630440"/>
          <a:ext cx="9067680" cy="522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630440"/>
                    <a:ext cx="906768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Text Box 19"/>
          <p:cNvSpPr/>
          <p:nvPr/>
        </p:nvSpPr>
        <p:spPr>
          <a:xfrm>
            <a:off x="125280" y="6510240"/>
            <a:ext cx="11430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 UI = 4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84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8437680" y="304920"/>
            <a:ext cx="53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7928-715E-481A-B05E-B48216D5F7FC}" type="slidenum">
              <a:rPr b="1" lang="en-GB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5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CE7E8-9C12-4CDF-A8B1-FE034A731940}" type="slidenum">
              <a:rPr b="1" lang="en-US" sz="1000" spc="-1" strike="noStrike">
                <a:solidFill>
                  <a:srgbClr val="263b86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itle 1"/>
          <p:cNvSpPr/>
          <p:nvPr/>
        </p:nvSpPr>
        <p:spPr>
          <a:xfrm>
            <a:off x="990720" y="1738440"/>
            <a:ext cx="7556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3b86"/>
                </a:solidFill>
                <a:latin typeface="Cambria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334440"/>
            <a:ext cx="752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3b86"/>
                </a:solidFill>
                <a:latin typeface="Arial"/>
              </a:rPr>
              <a:t>FEUI Graduates Profile</a:t>
            </a:r>
            <a:br>
              <a:rPr sz="3600"/>
            </a:br>
            <a:r>
              <a:rPr b="0" lang="en-US" sz="3600" spc="-1" strike="noStrike">
                <a:solidFill>
                  <a:srgbClr val="263b86"/>
                </a:solidFill>
                <a:latin typeface="Arial"/>
              </a:rPr>
              <a:t>Tracer Study 2012</a:t>
            </a:r>
            <a:endParaRPr b="0" lang="en-US" sz="3600" spc="-1" strike="noStrike">
              <a:solidFill>
                <a:srgbClr val="263b86"/>
              </a:solidFill>
              <a:latin typeface="Arial"/>
            </a:endParaRPr>
          </a:p>
        </p:txBody>
      </p:sp>
      <p:pic>
        <p:nvPicPr>
          <p:cNvPr id="465" name="Chart 4" descr=""/>
          <p:cNvPicPr/>
          <p:nvPr/>
        </p:nvPicPr>
        <p:blipFill>
          <a:blip r:embed="rId1"/>
          <a:stretch/>
        </p:blipFill>
        <p:spPr>
          <a:xfrm>
            <a:off x="298440" y="1938240"/>
            <a:ext cx="4097520" cy="2743200"/>
          </a:xfrm>
          <a:prstGeom prst="rect">
            <a:avLst/>
          </a:prstGeom>
          <a:ln w="0">
            <a:noFill/>
          </a:ln>
        </p:spPr>
      </p:pic>
      <p:pic>
        <p:nvPicPr>
          <p:cNvPr id="466" name="Chart 5" descr=""/>
          <p:cNvPicPr/>
          <p:nvPr/>
        </p:nvPicPr>
        <p:blipFill>
          <a:blip r:embed="rId2"/>
          <a:stretch/>
        </p:blipFill>
        <p:spPr>
          <a:xfrm>
            <a:off x="3348000" y="4113360"/>
            <a:ext cx="5140440" cy="28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7" name=""/>
          <p:cNvGraphicFramePr/>
          <p:nvPr/>
        </p:nvGraphicFramePr>
        <p:xfrm>
          <a:off x="4675320" y="1938240"/>
          <a:ext cx="4249440" cy="1854360"/>
        </p:xfrm>
        <a:graphic>
          <a:graphicData uri="http://schemas.openxmlformats.org/drawingml/2006/table">
            <a:tbl>
              <a:tblPr/>
              <a:tblGrid>
                <a:gridCol w="1603080"/>
                <a:gridCol w="2030400"/>
                <a:gridCol w="615960"/>
              </a:tblGrid>
              <a:tr h="324720">
                <a:tc rowSpan="5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high was your GPA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4e7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4e7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4e7"/>
                    </a:solidFill>
                  </a:tcPr>
                </a:tc>
              </a:tr>
              <a:tr h="32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4e7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4e7"/>
                    </a:solidFill>
                  </a:tcPr>
                </a:tc>
              </a:tr>
              <a:tr h="32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4e7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4e7"/>
                    </a:solidFill>
                  </a:tcPr>
                </a:tc>
              </a:tr>
              <a:tr h="32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i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4e7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4e7"/>
                    </a:solidFill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4e7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4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875960" y="304920"/>
            <a:ext cx="6356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63b86"/>
                </a:solidFill>
                <a:latin typeface="Arial"/>
              </a:rPr>
              <a:t>Introduction </a:t>
            </a:r>
            <a:endParaRPr b="0" lang="en-US" sz="36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1800" y="24678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101"/>
          <p:cNvSpPr/>
          <p:nvPr/>
        </p:nvSpPr>
        <p:spPr>
          <a:xfrm>
            <a:off x="0" y="4297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 Box 104"/>
          <p:cNvSpPr/>
          <p:nvPr/>
        </p:nvSpPr>
        <p:spPr>
          <a:xfrm>
            <a:off x="409680" y="2019240"/>
            <a:ext cx="8458200" cy="99900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>
              <a:lnSpc>
                <a:spcPct val="110000"/>
              </a:lnSpc>
              <a:tabLst>
                <a:tab algn="l" pos="0"/>
                <a:tab algn="l" pos="689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Tracer study is defined as study to trace graduates of higher education institute. Graduate surveys, alumni research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graduate  career tracking, follow up study  are other term for it. (Schomburg , 200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 Box 105"/>
          <p:cNvSpPr/>
          <p:nvPr/>
        </p:nvSpPr>
        <p:spPr>
          <a:xfrm>
            <a:off x="409680" y="3402000"/>
            <a:ext cx="8076960" cy="160236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racer study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ims  to give the outcome such as: supporting new graduates through the transition from student to professional, providing a context for work, fostering interdisciplinary working and collaboration, and developing critical reflection skil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8486640" y="304920"/>
            <a:ext cx="389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6A67-E5FD-4CA2-A15E-DC746941D98B}" type="slidenum">
              <a:rPr b="1" lang="en-GB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 Box 40"/>
          <p:cNvSpPr/>
          <p:nvPr/>
        </p:nvSpPr>
        <p:spPr>
          <a:xfrm>
            <a:off x="6077160" y="121932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cer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334440"/>
            <a:ext cx="752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3b86"/>
                </a:solidFill>
                <a:latin typeface="Arial"/>
              </a:rPr>
              <a:t>FEUI Graduates Profile</a:t>
            </a:r>
            <a:br>
              <a:rPr sz="3600"/>
            </a:br>
            <a:r>
              <a:rPr b="0" lang="en-US" sz="3600" spc="-1" strike="noStrike">
                <a:solidFill>
                  <a:srgbClr val="263b86"/>
                </a:solidFill>
                <a:latin typeface="Arial"/>
              </a:rPr>
              <a:t>Tracer Study 2011</a:t>
            </a:r>
            <a:endParaRPr b="0" lang="en-US" sz="3600" spc="-1" strike="noStrike">
              <a:solidFill>
                <a:srgbClr val="263b86"/>
              </a:solidFill>
              <a:latin typeface="Arial"/>
            </a:endParaRPr>
          </a:p>
        </p:txBody>
      </p:sp>
      <p:pic>
        <p:nvPicPr>
          <p:cNvPr id="469" name="Chart 6" descr=""/>
          <p:cNvPicPr/>
          <p:nvPr/>
        </p:nvPicPr>
        <p:blipFill>
          <a:blip r:embed="rId1"/>
          <a:stretch/>
        </p:blipFill>
        <p:spPr>
          <a:xfrm>
            <a:off x="438120" y="2206800"/>
            <a:ext cx="3633840" cy="2573280"/>
          </a:xfrm>
          <a:prstGeom prst="rect">
            <a:avLst/>
          </a:prstGeom>
          <a:ln w="0">
            <a:noFill/>
          </a:ln>
        </p:spPr>
      </p:pic>
      <p:pic>
        <p:nvPicPr>
          <p:cNvPr id="470" name="Chart 7" descr=""/>
          <p:cNvPicPr/>
          <p:nvPr/>
        </p:nvPicPr>
        <p:blipFill>
          <a:blip r:embed="rId2"/>
          <a:stretch/>
        </p:blipFill>
        <p:spPr>
          <a:xfrm>
            <a:off x="4341960" y="218592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471" name="Chart 8" descr=""/>
          <p:cNvPicPr/>
          <p:nvPr/>
        </p:nvPicPr>
        <p:blipFill>
          <a:blip r:embed="rId3"/>
          <a:stretch/>
        </p:blipFill>
        <p:spPr>
          <a:xfrm>
            <a:off x="2235240" y="5008680"/>
            <a:ext cx="443556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3b86"/>
                </a:solidFill>
                <a:latin typeface="Cambria"/>
              </a:rPr>
              <a:t>JOB TRANSITION </a:t>
            </a: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263b8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1"/>
          <p:cNvSpPr/>
          <p:nvPr/>
        </p:nvSpPr>
        <p:spPr>
          <a:xfrm>
            <a:off x="1371600" y="1544760"/>
            <a:ext cx="64008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EUI graduates perceived key factors on job hiring  are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putation of the university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mputer skill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glish language skill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gram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ersonality and interpersonal skill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rganizational experienc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pecializat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GP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ork experience during colleg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commend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Rectangle 2"/>
          <p:cNvSpPr/>
          <p:nvPr/>
        </p:nvSpPr>
        <p:spPr>
          <a:xfrm>
            <a:off x="1876320" y="304920"/>
            <a:ext cx="665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3b86"/>
                </a:solidFill>
                <a:latin typeface="Arial"/>
              </a:rPr>
              <a:t>Transition To Work: Importance Aspects for Company Recruitment (Graduates Perception Bas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75960" y="304920"/>
            <a:ext cx="6356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3b86"/>
                </a:solidFill>
                <a:latin typeface="Arial"/>
              </a:rPr>
              <a:t>Transition to Work: Perceived Graduates Competencies Level</a:t>
            </a:r>
            <a:endParaRPr b="0" lang="en-US" sz="28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1800" y="24678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101"/>
          <p:cNvSpPr/>
          <p:nvPr/>
        </p:nvSpPr>
        <p:spPr>
          <a:xfrm>
            <a:off x="0" y="4297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 Box 105"/>
          <p:cNvSpPr/>
          <p:nvPr/>
        </p:nvSpPr>
        <p:spPr>
          <a:xfrm>
            <a:off x="604800" y="1806480"/>
            <a:ext cx="8077320" cy="76428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mpetence self-assessment held by gradua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he results shown that  the competencies scores are average (fair high) for overall compet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 Box 40"/>
          <p:cNvSpPr/>
          <p:nvPr/>
        </p:nvSpPr>
        <p:spPr>
          <a:xfrm>
            <a:off x="2813040" y="15526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184320" y="2903400"/>
            <a:ext cx="8691480" cy="371412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228600"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. Competencies were measured ar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6720" indent="-228600"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nowledge in discipline, Knowledge outside discipline, General knowledg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6720" indent="-228600"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ternet skills, Computer skill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6720" indent="-228600"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ritical thinking, Research skill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6720" indent="-228600"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bility to learn, Ability to communicat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6720" indent="-228600"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orking under pressure, time management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6720" indent="-228600"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ork independently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6720" indent="-228600"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orking in a team / working with other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6720" indent="-228600"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bility to solve problems, Negotiations, Analytical skills, Tolerance, Adaptability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6720" indent="-228600"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oyalty and integrity, Initiatives, Management of project / program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6720" indent="-228600"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bility to present ideas / products / report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6720" indent="-228600"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bility to write reports, memos and documents, Ability to learn lifelong continually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875960" y="304920"/>
            <a:ext cx="6356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3b86"/>
                </a:solidFill>
                <a:latin typeface="Arial"/>
              </a:rPr>
              <a:t>Transition to  Work: Career Process and Job Orientation</a:t>
            </a:r>
            <a:endParaRPr b="0" lang="en-US" sz="32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1800" y="24678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101"/>
          <p:cNvSpPr/>
          <p:nvPr/>
        </p:nvSpPr>
        <p:spPr>
          <a:xfrm>
            <a:off x="0" y="4297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 Box 105"/>
          <p:cNvSpPr/>
          <p:nvPr/>
        </p:nvSpPr>
        <p:spPr>
          <a:xfrm>
            <a:off x="604800" y="1806480"/>
            <a:ext cx="8077320" cy="76428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  <a:ea typeface="Arial"/>
              </a:rPr>
              <a:t>More than a half of graduates (58%) did not mind to be placed outside their hometow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 Box 40"/>
          <p:cNvSpPr/>
          <p:nvPr/>
        </p:nvSpPr>
        <p:spPr>
          <a:xfrm>
            <a:off x="2813040" y="15526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184320" y="2903400"/>
            <a:ext cx="8691480" cy="109944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  <a:ea typeface="Arial"/>
              </a:rPr>
              <a:t>The rest who refused to be placed outside their hometown indicat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he reasons they refused it, including: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  <a:ea typeface="Arial"/>
              </a:rPr>
              <a:t>far from family, slow career movement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nadequate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  <a:ea typeface="Arial"/>
              </a:rPr>
              <a:t>faciliti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875960" y="304920"/>
            <a:ext cx="6356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3b86"/>
                </a:solidFill>
                <a:latin typeface="Arial"/>
              </a:rPr>
              <a:t>Transition to  Work: Career Process and Job Orientation</a:t>
            </a:r>
            <a:endParaRPr b="0" lang="en-US" sz="32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1800" y="24678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101"/>
          <p:cNvSpPr/>
          <p:nvPr/>
        </p:nvSpPr>
        <p:spPr>
          <a:xfrm>
            <a:off x="0" y="4297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 Box 105"/>
          <p:cNvSpPr/>
          <p:nvPr/>
        </p:nvSpPr>
        <p:spPr>
          <a:xfrm>
            <a:off x="604800" y="1806480"/>
            <a:ext cx="8077320" cy="277524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wo years after graduation, graduates of FEUI had been worked for 3 employers (in aver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ypes of companie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Char char="-"/>
              <a:tabLst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Private companies (56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Char char="-"/>
              <a:tabLst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ate-owned enterprises/public officer (36%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Char char="-"/>
              <a:tabLst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Non-government organizations (5%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Char char="-"/>
              <a:tabLst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ntrepreneur (3%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 Box 40"/>
          <p:cNvSpPr/>
          <p:nvPr/>
        </p:nvSpPr>
        <p:spPr>
          <a:xfrm>
            <a:off x="2813040" y="15526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297000" y="4767120"/>
            <a:ext cx="8692920" cy="42912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he type of industry was mostly in services sector (45%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875960" y="304920"/>
            <a:ext cx="6356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3b86"/>
                </a:solidFill>
                <a:latin typeface="Arial"/>
              </a:rPr>
              <a:t>Transition to  Work: Career Process and Job Orientation</a:t>
            </a:r>
            <a:endParaRPr b="0" lang="en-US" sz="32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1800" y="24678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101"/>
          <p:cNvSpPr/>
          <p:nvPr/>
        </p:nvSpPr>
        <p:spPr>
          <a:xfrm>
            <a:off x="0" y="4297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 Box 105"/>
          <p:cNvSpPr/>
          <p:nvPr/>
        </p:nvSpPr>
        <p:spPr>
          <a:xfrm>
            <a:off x="604800" y="1806480"/>
            <a:ext cx="8077320" cy="109944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n terms of the process to enter the workforce, some graduates were looking for work before graduation (41%) and some after graduation (40%). The average of job seeking period is about 3.42 mon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 Box 40"/>
          <p:cNvSpPr/>
          <p:nvPr/>
        </p:nvSpPr>
        <p:spPr>
          <a:xfrm>
            <a:off x="2813040" y="15526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2"/>
          <p:cNvSpPr/>
          <p:nvPr/>
        </p:nvSpPr>
        <p:spPr>
          <a:xfrm>
            <a:off x="452520" y="3479760"/>
            <a:ext cx="8691480" cy="143460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On average, graduates applied for 10 companies. Job search method included internet (21%), faculty and university career centers (16%) and career exhibition (12%). Consideration of picking first job were driven by salary (35%) and work challenges (34%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875960" y="304920"/>
            <a:ext cx="6356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b86"/>
                </a:solidFill>
                <a:latin typeface="Arial"/>
              </a:rPr>
              <a:t>Transition to Work: Job Matched</a:t>
            </a:r>
            <a:endParaRPr b="0" lang="en-US" sz="36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1800" y="24678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01"/>
          <p:cNvSpPr/>
          <p:nvPr/>
        </p:nvSpPr>
        <p:spPr>
          <a:xfrm>
            <a:off x="0" y="4297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105"/>
          <p:cNvSpPr/>
          <p:nvPr/>
        </p:nvSpPr>
        <p:spPr>
          <a:xfrm>
            <a:off x="604800" y="1806480"/>
            <a:ext cx="8077320" cy="176976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n terms of the miss-match between study and work, 70% of graduates stated that their job matches their study (economics related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- 67% said that their job is perfectly matched their level of e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- 27% stated under-educat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- 6% stated over-educated for their job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40"/>
          <p:cNvSpPr/>
          <p:nvPr/>
        </p:nvSpPr>
        <p:spPr>
          <a:xfrm>
            <a:off x="2813040" y="15526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297000" y="4481640"/>
            <a:ext cx="8692920" cy="76428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hose figures are considered as good outcome and reflecting the relevance of FEUI to the community demand or their  j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875960" y="304920"/>
            <a:ext cx="6356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b86"/>
                </a:solidFill>
                <a:latin typeface="Arial"/>
              </a:rPr>
              <a:t>Transition to Work: Job Matched</a:t>
            </a:r>
            <a:endParaRPr b="0" lang="en-US" sz="36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1800" y="24678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01"/>
          <p:cNvSpPr/>
          <p:nvPr/>
        </p:nvSpPr>
        <p:spPr>
          <a:xfrm>
            <a:off x="0" y="4297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 Box 105"/>
          <p:cNvSpPr/>
          <p:nvPr/>
        </p:nvSpPr>
        <p:spPr>
          <a:xfrm>
            <a:off x="604800" y="1806480"/>
            <a:ext cx="8077320" cy="116604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sponse rate is l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ations of the data analysis method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 Box 40"/>
          <p:cNvSpPr/>
          <p:nvPr/>
        </p:nvSpPr>
        <p:spPr>
          <a:xfrm>
            <a:off x="2813040" y="15526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3b86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366920" y="1436760"/>
            <a:ext cx="64180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D2165-FB23-4BC8-9BA1-EC13813A7D27}" type="slidenum">
              <a:rPr b="1" lang="en-US" sz="1000" spc="-1" strike="noStrike">
                <a:solidFill>
                  <a:srgbClr val="263b86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75960" y="304920"/>
            <a:ext cx="6356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3b86"/>
                </a:solidFill>
                <a:latin typeface="Arial"/>
              </a:rPr>
              <a:t>Introduction Cont’</a:t>
            </a:r>
            <a:endParaRPr b="0" lang="en-US" sz="36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1800" y="24678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101"/>
          <p:cNvSpPr/>
          <p:nvPr/>
        </p:nvSpPr>
        <p:spPr>
          <a:xfrm>
            <a:off x="0" y="4297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 Box 105"/>
          <p:cNvSpPr/>
          <p:nvPr/>
        </p:nvSpPr>
        <p:spPr>
          <a:xfrm>
            <a:off x="604800" y="2384280"/>
            <a:ext cx="8077320" cy="130068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ablished on 18 September 19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st of three departments:  Accounting , Economics and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ages to preserve its reputation as a center of education excellence in Indones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40"/>
          <p:cNvSpPr/>
          <p:nvPr/>
        </p:nvSpPr>
        <p:spPr>
          <a:xfrm>
            <a:off x="2829960" y="1552680"/>
            <a:ext cx="586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culty Of Economics University of Indones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486640" y="304920"/>
            <a:ext cx="389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B9EB-85FA-4DFA-92C5-BE5058302F54}" type="slidenum">
              <a:rPr b="1" lang="en-GB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1903320" y="4110120"/>
            <a:ext cx="6805800" cy="220572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gages in mutual cooperation with many universities worldwide in the areas of research, student exchange programs and quality education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quips its graduates with a high level of competitiveness , self discipline and motivation, so that its graduate has enabled to earn key positions both in the private and public s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875960" y="304920"/>
            <a:ext cx="6356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3b86"/>
                </a:solidFill>
                <a:latin typeface="Arial"/>
              </a:rPr>
              <a:t>Research Objectives</a:t>
            </a:r>
            <a:endParaRPr b="0" lang="en-US" sz="36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1800" y="24678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101"/>
          <p:cNvSpPr/>
          <p:nvPr/>
        </p:nvSpPr>
        <p:spPr>
          <a:xfrm>
            <a:off x="0" y="4297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105"/>
          <p:cNvSpPr/>
          <p:nvPr/>
        </p:nvSpPr>
        <p:spPr>
          <a:xfrm>
            <a:off x="604800" y="2384280"/>
            <a:ext cx="8077320" cy="130068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jective of the Stu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trace graduates transition from college to work by knowing graduates expectation, actual competence and learning process that will be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co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 important input to learning strategies improvement in the fu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40"/>
          <p:cNvSpPr/>
          <p:nvPr/>
        </p:nvSpPr>
        <p:spPr>
          <a:xfrm>
            <a:off x="2813040" y="15526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8486640" y="304920"/>
            <a:ext cx="389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1C12-A8D6-49CB-AA59-8A916A30EBC0}" type="slidenum">
              <a:rPr b="1" lang="en-GB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1"/>
          <p:cNvSpPr/>
          <p:nvPr/>
        </p:nvSpPr>
        <p:spPr>
          <a:xfrm>
            <a:off x="1903320" y="4110120"/>
            <a:ext cx="6805800" cy="190404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jective of the Pap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report Tracer Study UI 2011 results in which Faculty of Economics University of Indonesia has participated. The tracer study result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expected to give insights to the program about  their graduates transition from college to wor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75960" y="304920"/>
            <a:ext cx="6356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3b86"/>
                </a:solidFill>
                <a:latin typeface="Arial"/>
              </a:rPr>
              <a:t>Theoritical Background</a:t>
            </a:r>
            <a:endParaRPr b="0" lang="en-US" sz="36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1800" y="24678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101"/>
          <p:cNvSpPr/>
          <p:nvPr/>
        </p:nvSpPr>
        <p:spPr>
          <a:xfrm>
            <a:off x="0" y="4297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 Box 105"/>
          <p:cNvSpPr/>
          <p:nvPr/>
        </p:nvSpPr>
        <p:spPr>
          <a:xfrm>
            <a:off x="604800" y="1806480"/>
            <a:ext cx="8077320" cy="130068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terms of transition to work, the tracer study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ims  to give the outcome such as: supporting new graduates through the transition from student to professional, providing a context for work, fostering interdisciplinary working and collaboration, and developing critical reflection skills (Smith and Pilling, 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 Box 40"/>
          <p:cNvSpPr/>
          <p:nvPr/>
        </p:nvSpPr>
        <p:spPr>
          <a:xfrm>
            <a:off x="2813040" y="15526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8486640" y="304920"/>
            <a:ext cx="389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A621-6027-4542-8484-84FFF0FA3537}" type="slidenum">
              <a:rPr b="1" lang="en-GB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1"/>
          <p:cNvSpPr/>
          <p:nvPr/>
        </p:nvSpPr>
        <p:spPr>
          <a:xfrm>
            <a:off x="604800" y="3519360"/>
            <a:ext cx="6804000" cy="130068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ensions in translating the learning of academic training to the workforce are particularly evident during the graduate year (Perkins, 2001 in Smith and Pilling, 2008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75960" y="304920"/>
            <a:ext cx="6356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3b86"/>
                </a:solidFill>
                <a:latin typeface="Arial"/>
              </a:rPr>
              <a:t>Theoretical Background (Con’t)</a:t>
            </a:r>
            <a:endParaRPr b="0" lang="en-US" sz="36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1800" y="24678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01"/>
          <p:cNvSpPr/>
          <p:nvPr/>
        </p:nvSpPr>
        <p:spPr>
          <a:xfrm>
            <a:off x="0" y="4297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105"/>
          <p:cNvSpPr/>
          <p:nvPr/>
        </p:nvSpPr>
        <p:spPr>
          <a:xfrm>
            <a:off x="604800" y="1806480"/>
            <a:ext cx="8077320" cy="109944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duate employability is an important aspect of the higher education industry. It evaluates the success and ability of the particular institution in producing work-ready graduates. (Abdol Latif and Bahroom, 20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40"/>
          <p:cNvSpPr/>
          <p:nvPr/>
        </p:nvSpPr>
        <p:spPr>
          <a:xfrm>
            <a:off x="2813040" y="15526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8486640" y="304920"/>
            <a:ext cx="389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1C59-573D-46D6-81BC-FBA0B19BAA19}" type="slidenum">
              <a:rPr b="1" lang="en-GB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1112760" y="3559320"/>
            <a:ext cx="7485120" cy="109944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ly, the quality of a university can be determined by the evaluation made by its own graduates. (Abdol Latif and Bahroom, 20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875960" y="304920"/>
            <a:ext cx="6356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b86"/>
                </a:solidFill>
                <a:latin typeface="Arial"/>
              </a:rPr>
              <a:t>Research Methods and Procedures</a:t>
            </a:r>
            <a:endParaRPr b="0" lang="en-US" sz="36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1800" y="24678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101"/>
          <p:cNvSpPr/>
          <p:nvPr/>
        </p:nvSpPr>
        <p:spPr>
          <a:xfrm>
            <a:off x="0" y="4297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105"/>
          <p:cNvSpPr/>
          <p:nvPr/>
        </p:nvSpPr>
        <p:spPr>
          <a:xfrm>
            <a:off x="604800" y="1806480"/>
            <a:ext cx="8077320" cy="109944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6271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ata was taken from Tracer Study UI 2011 (TSUI 2011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ich was conducted by Career Development Center University of Indonesia (CDC-UI).  Data analysis  conducted by university level and faculty lev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40"/>
          <p:cNvSpPr/>
          <p:nvPr/>
        </p:nvSpPr>
        <p:spPr>
          <a:xfrm>
            <a:off x="2813040" y="15526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8486640" y="304920"/>
            <a:ext cx="389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B2A9-D79C-43D0-A1FC-7A7792CC4A6F}" type="slidenum">
              <a:rPr b="1" lang="en-GB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900000" y="2903400"/>
            <a:ext cx="7485120" cy="344556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SUI 2011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raced all UI students who graduated in 2009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from all facult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icluding Faculty of Economic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was conduct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specific characteristics of Sens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Sensu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elf administered online data collec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oug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000" spc="-1" strike="noStrike">
                <a:solidFill>
                  <a:srgbClr val="404040"/>
                </a:solidFill>
                <a:latin typeface="Calibri"/>
              </a:rPr>
              <a:t>http:/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/www.</a:t>
            </a:r>
            <a:r>
              <a:rPr b="0" lang="id-ID" sz="2000" spc="-1" strike="noStrike">
                <a:solidFill>
                  <a:srgbClr val="404040"/>
                </a:solidFill>
                <a:latin typeface="Calibri"/>
              </a:rPr>
              <a:t>tr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acer study.ui.ac.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tandardized instrument (questionnaire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QTAFI softwar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96720" indent="-228600"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  <a:ea typeface="Arial"/>
              </a:rPr>
              <a:t>Januari 201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– Des 201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75960" y="304920"/>
            <a:ext cx="6356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63b86"/>
                </a:solidFill>
                <a:latin typeface="Arial"/>
              </a:rPr>
              <a:t>About Tracer Study UI</a:t>
            </a:r>
            <a:endParaRPr b="0" lang="en-US" sz="36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800" y="24678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001880" y="2440080"/>
          <a:ext cx="7410240" cy="1373040"/>
        </p:xfrm>
        <a:graphic>
          <a:graphicData uri="http://schemas.openxmlformats.org/drawingml/2006/table">
            <a:tbl>
              <a:tblPr/>
              <a:tblGrid>
                <a:gridCol w="1670040"/>
                <a:gridCol w="1396800"/>
                <a:gridCol w="1405080"/>
                <a:gridCol w="1398600"/>
                <a:gridCol w="1539720"/>
              </a:tblGrid>
              <a:tr h="541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63b86"/>
                          </a:solidFill>
                          <a:latin typeface="Arial"/>
                          <a:ea typeface="Times New Roman"/>
                        </a:rPr>
                        <a:t>TSUI 1 </a:t>
                      </a:r>
                      <a:r>
                        <a:rPr b="1" lang="en-AU" sz="1400" spc="-1" strike="noStrike">
                          <a:solidFill>
                            <a:srgbClr val="263b86"/>
                          </a:solidFill>
                          <a:latin typeface="Arial"/>
                          <a:ea typeface="Times New Roman"/>
                        </a:rPr>
                        <a:t> (20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263b8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1400" spc="-1" strike="noStrike">
                          <a:solidFill>
                            <a:srgbClr val="263b86"/>
                          </a:solidFill>
                          <a:latin typeface="Arial"/>
                          <a:ea typeface="Times New Roman"/>
                        </a:rPr>
                        <a:t>SUI</a:t>
                      </a:r>
                      <a:r>
                        <a:rPr b="1" lang="en-AU" sz="1400" spc="-1" strike="noStrike">
                          <a:solidFill>
                            <a:srgbClr val="263b86"/>
                          </a:solidFill>
                          <a:latin typeface="Arial"/>
                          <a:ea typeface="Times New Roman"/>
                        </a:rPr>
                        <a:t> 2 (20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63b86"/>
                          </a:solidFill>
                          <a:latin typeface="Arial"/>
                          <a:ea typeface="Times New Roman"/>
                        </a:rPr>
                        <a:t>TSUI 3 </a:t>
                      </a:r>
                      <a:r>
                        <a:rPr b="1" lang="en-AU" sz="1400" spc="-1" strike="noStrike">
                          <a:solidFill>
                            <a:srgbClr val="263b86"/>
                          </a:solidFill>
                          <a:latin typeface="Arial"/>
                          <a:ea typeface="Times New Roman"/>
                        </a:rPr>
                        <a:t>(20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263b8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1400" spc="-1" strike="noStrike">
                          <a:solidFill>
                            <a:srgbClr val="263b86"/>
                          </a:solidFill>
                          <a:latin typeface="Arial"/>
                          <a:ea typeface="Times New Roman"/>
                        </a:rPr>
                        <a:t>SUI</a:t>
                      </a:r>
                      <a:r>
                        <a:rPr b="1" lang="en-AU" sz="1400" spc="-1" strike="noStrike">
                          <a:solidFill>
                            <a:srgbClr val="263b86"/>
                          </a:solidFill>
                          <a:latin typeface="Arial"/>
                          <a:ea typeface="Times New Roman"/>
                        </a:rPr>
                        <a:t> 4 (201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 marL="403200" indent="-40320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63b86"/>
                          </a:solidFill>
                          <a:latin typeface="Arial"/>
                          <a:ea typeface="Times New Roman"/>
                        </a:rPr>
                        <a:t>First survey</a:t>
                      </a:r>
                      <a:r>
                        <a:rPr b="1" lang="en-AU" sz="1400" spc="-1" strike="noStrike">
                          <a:solidFill>
                            <a:srgbClr val="263b86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63b86"/>
                          </a:solidFill>
                          <a:latin typeface="Arial"/>
                          <a:ea typeface="Times New Roman"/>
                        </a:rPr>
                        <a:t>Cohort </a:t>
                      </a:r>
                      <a:r>
                        <a:rPr b="1" lang="en-AU" sz="1400" spc="-1" strike="noStrike">
                          <a:solidFill>
                            <a:srgbClr val="263b86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Cohort </a:t>
                      </a:r>
                      <a:r>
                        <a:rPr b="1" lang="en-AU" sz="1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63b86"/>
                          </a:solidFill>
                          <a:latin typeface="Arial"/>
                          <a:ea typeface="Times New Roman"/>
                        </a:rPr>
                        <a:t>Cohort</a:t>
                      </a:r>
                      <a:r>
                        <a:rPr b="1" lang="en-AU" sz="1400" spc="-1" strike="noStrike">
                          <a:solidFill>
                            <a:srgbClr val="263b86"/>
                          </a:solidFill>
                          <a:latin typeface="Arial"/>
                          <a:ea typeface="Times New Roman"/>
                        </a:rPr>
                        <a:t>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63b86"/>
                          </a:solidFill>
                          <a:latin typeface="Arial"/>
                          <a:ea typeface="Tahoma"/>
                        </a:rPr>
                        <a:t>Cohort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520">
                <a:tc>
                  <a:txBody>
                    <a:bodyPr lIns="90000" rIns="90000" anchor="t">
                      <a:noAutofit/>
                    </a:bodyPr>
                    <a:p>
                      <a:pPr marL="279360" indent="-27936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63b86"/>
                          </a:solidFill>
                          <a:latin typeface="Arial"/>
                          <a:ea typeface="Times New Roman"/>
                        </a:rPr>
                        <a:t>Second Survey</a:t>
                      </a:r>
                      <a:r>
                        <a:rPr b="1" lang="en-AU" sz="1400" spc="-1" strike="noStrike">
                          <a:solidFill>
                            <a:srgbClr val="263b86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63b86"/>
                          </a:solidFill>
                          <a:latin typeface="Arial"/>
                          <a:ea typeface="Times New Roman"/>
                        </a:rPr>
                        <a:t>Kohort </a:t>
                      </a:r>
                      <a:r>
                        <a:rPr b="1" lang="en-AU" sz="1400" spc="-1" strike="noStrike">
                          <a:solidFill>
                            <a:srgbClr val="263b86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426" name="Rectangle 101"/>
          <p:cNvSpPr/>
          <p:nvPr/>
        </p:nvSpPr>
        <p:spPr>
          <a:xfrm>
            <a:off x="0" y="4297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 Box 104"/>
          <p:cNvSpPr/>
          <p:nvPr/>
        </p:nvSpPr>
        <p:spPr>
          <a:xfrm>
            <a:off x="417600" y="5175360"/>
            <a:ext cx="84582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**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Survey</a:t>
            </a: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the dynamics of the work and its relation to the acquisition of competences. In 5 years the  research subjects  (graduates) considered to have been exposed to the dynamic aspects of 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 Box 105"/>
          <p:cNvSpPr/>
          <p:nvPr/>
        </p:nvSpPr>
        <p:spPr>
          <a:xfrm>
            <a:off x="417600" y="4094280"/>
            <a:ext cx="834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rst Survey</a:t>
            </a:r>
            <a:r>
              <a:rPr b="0" lang="en-AU" sz="1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the first job search and evaluation of process learning In 2 years, The research subject (graduates) is considered to have a job and  understand  about the aspects of job 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 Box 40"/>
          <p:cNvSpPr/>
          <p:nvPr/>
        </p:nvSpPr>
        <p:spPr>
          <a:xfrm>
            <a:off x="982440" y="193824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tudy UI 2010 -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8486640" y="304920"/>
            <a:ext cx="389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DC9A-4A2C-41A4-AE39-BA076E17B506}" type="slidenum">
              <a:rPr b="1" lang="en-GB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04520" y="3873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3b86"/>
                </a:solidFill>
                <a:latin typeface="Arial"/>
              </a:rPr>
              <a:t>Questionnaire Structure </a:t>
            </a:r>
            <a:br>
              <a:rPr sz="3200"/>
            </a:br>
            <a:r>
              <a:rPr b="1" lang="id-ID" sz="3200" spc="-1" strike="noStrike">
                <a:solidFill>
                  <a:srgbClr val="263b86"/>
                </a:solidFill>
                <a:latin typeface="Arial"/>
              </a:rPr>
              <a:t>TSUI 2011</a:t>
            </a:r>
            <a:endParaRPr b="0" lang="en-US" sz="3200" spc="-1" strike="noStrike">
              <a:solidFill>
                <a:srgbClr val="263b8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04880" y="2249280"/>
            <a:ext cx="8151840" cy="4297320"/>
          </a:xfrm>
          <a:prstGeom prst="rect">
            <a:avLst/>
          </a:prstGeom>
          <a:gradFill rotWithShape="0">
            <a:gsLst>
              <a:gs pos="0">
                <a:srgbClr val="ffde83"/>
              </a:gs>
              <a:gs pos="100000">
                <a:srgbClr val="fff3db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263b8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3b86"/>
                </a:solidFill>
                <a:latin typeface="Calibri"/>
                <a:ea typeface="Calibri"/>
              </a:rPr>
              <a:t>Sosiobiografi characteristics</a:t>
            </a:r>
            <a:endParaRPr b="0" lang="en-US" sz="2800" spc="-1" strike="noStrike">
              <a:solidFill>
                <a:srgbClr val="263b8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263b8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3b86"/>
                </a:solidFill>
                <a:latin typeface="Calibri"/>
                <a:ea typeface="Calibri"/>
              </a:rPr>
              <a:t>education and jobs before college</a:t>
            </a:r>
            <a:endParaRPr b="0" lang="en-US" sz="2800" spc="-1" strike="noStrike">
              <a:solidFill>
                <a:srgbClr val="263b8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263b8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3b86"/>
                </a:solidFill>
                <a:latin typeface="Calibri"/>
                <a:ea typeface="Calibri"/>
              </a:rPr>
              <a:t>Educational activities and learning experiences</a:t>
            </a:r>
            <a:endParaRPr b="0" lang="en-US" sz="2800" spc="-1" strike="noStrike">
              <a:solidFill>
                <a:srgbClr val="263b8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263b8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63b86"/>
                </a:solidFill>
                <a:uFillTx/>
                <a:latin typeface="Calibri"/>
                <a:ea typeface="Calibri"/>
              </a:rPr>
              <a:t>Job search and transition to work</a:t>
            </a:r>
            <a:endParaRPr b="0" lang="en-US" sz="2800" spc="-1" strike="noStrike">
              <a:solidFill>
                <a:srgbClr val="263b8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263b8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3b86"/>
                </a:solidFill>
                <a:latin typeface="Calibri"/>
                <a:ea typeface="Calibri"/>
              </a:rPr>
              <a:t>Employment and competence</a:t>
            </a:r>
            <a:endParaRPr b="0" lang="en-US" sz="2800" spc="-1" strike="noStrike">
              <a:solidFill>
                <a:srgbClr val="263b8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263b8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3b86"/>
                </a:solidFill>
                <a:latin typeface="Calibri"/>
                <a:ea typeface="Calibri"/>
              </a:rPr>
              <a:t>the relationship (miss-match) between work and study</a:t>
            </a:r>
            <a:endParaRPr b="0" lang="en-US" sz="2800" spc="-1" strike="noStrike">
              <a:solidFill>
                <a:srgbClr val="263b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07:42:22Z</dcterms:created>
  <dc:creator>Ahmad Syafiq</dc:creator>
  <dc:description/>
  <dc:language>en-US</dc:language>
  <cp:lastModifiedBy>User</cp:lastModifiedBy>
  <dcterms:modified xsi:type="dcterms:W3CDTF">2012-10-22T00:26:43Z</dcterms:modified>
  <cp:revision>256</cp:revision>
  <dc:subject/>
  <dc:title>Tracer Study Concepts and Principles</dc:title>
</cp:coreProperties>
</file>