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306-7B41-47A9-8C7B-D2C4C475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7A1-F03F-4468-8E43-6161F8B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183-DEEF-4A8E-9E5A-2997F9AA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1D4-D81E-463B-81BF-AF3129BD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592A-BD08-4663-A65E-DF952971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B321-D3D7-44E7-9223-7283BF03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9CF3-9085-4399-A0BE-6EB2E847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B738-8FAC-4747-BDB8-A68E31C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E944-6840-4610-97F5-EAECEE0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B59-ABCB-45F0-BB3B-1C1B7048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16A-14CB-4800-9FBC-ECC7EE37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3BE-2B17-4D8F-8596-602D09FA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A610-310A-4820-A13F-A7964AF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E056-EE31-4130-8CC4-BD349844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DEAE-99C8-496E-BB7D-7C39894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7B0F-D3B0-437E-ABEC-F722DB06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2B10-A9E3-4C2F-8559-6B77A956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8EB5-94C0-44FF-A613-2E161CFB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40DD-CE42-458B-89D2-05B1715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5488-1F0D-4025-8BFF-6CC924EA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39BF-630B-4782-B602-EEE68A2D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25C5-513D-4BE3-A8C3-989C775A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786-DDDC-48CF-94FF-B291B1F9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6FBF-F654-4D8A-8D7B-0DE30438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4F50-4B7F-489C-B110-9E00CD2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EC4B-1CC9-49D6-8DE2-C3E7BB89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7660-D698-42FD-9109-2463CCB5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6379-C208-4A2D-8C35-3D0F4BDE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93C0-A14E-4367-A0DF-271772A0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A70F-13A6-44F0-913B-5E49EF36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4FD7-5122-42AE-A3E1-53E38014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9668-387D-4131-BEAF-ADE58C9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BD63-CDB0-4213-89DC-6E6FE414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C65-9FB6-43A7-ABD3-FA7CCB7B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1233-F427-44DD-A535-E2F7A666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0EF9-A2C5-4317-B016-D84F3745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B867-5EF3-4EF8-A3A5-C96B4F7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55F9-A616-4BB8-AF4F-E72BB28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7F0E-AC6D-40C3-A3E8-E75017E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C349-89AA-4B39-9FE3-0CF1960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EECB-3659-4D34-B8CF-EA64D5F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F26A-A2F6-4DED-96DD-C7A691FB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0AB5-ADCF-46ED-A6CD-6653B80C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559A-FF87-4A3F-ABA2-77D246E4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C78-F71C-46E2-806F-91040CE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7027-3844-4F8C-9B02-C4EEB4E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CD41-D825-4276-A5A0-6F72EA99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E4FE-1935-4588-8CF2-1534BAE3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9C0A2-DA20-4DFD-929C-42CB2FC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910C-4121-4BDC-A384-FA0C3558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8E175-0169-4EB7-B648-5883F55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B8CBF-DE26-4A37-9232-52006AF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1687-CB01-4997-A2DA-D133DC3F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D34E-171F-4E1B-8034-43FA0A6A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DB9E-5F08-4D6D-B473-59684A8F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B86-ADF4-4ADF-AB43-C5A10DDB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B9F1-AC4F-45EF-9999-331BE2EF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295-9837-4B10-97C8-183FC9B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1A9-1F91-450E-8DE4-47BE2987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391-4667-4173-ADFD-4E3B0B0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E76C-5CFB-4B00-8905-6A3D9CE5D443}" type="slidenum">
              <a: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矩形 3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矩形 3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直線接點 4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rebuchet MS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rebuchet MS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ffffff"/>
                </a:solidFill>
                <a:latin typeface="Trebuchet MS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7163-FA78-4327-984F-04B7143632AF}" type="slidenum">
              <a:rPr b="0" lang="zh-TW" sz="1100" spc="-1" strike="noStrike">
                <a:solidFill>
                  <a:srgbClr val="ffffff"/>
                </a:solidFill>
                <a:latin typeface="Trebuchet MS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903D-C577-46BD-A7EA-F3915069BF06}" type="slidenum">
              <a: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4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743-D782-4EA2-8489-255D85F276A6}" type="slidenum">
              <a: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946-FDD5-40E9-BBA3-C4EEECB46C4E}" type="slidenum">
              <a: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標題 1" descr=""/>
          <p:cNvPicPr/>
          <p:nvPr/>
        </p:nvPicPr>
        <p:blipFill>
          <a:blip r:embed="rId1"/>
          <a:stretch/>
        </p:blipFill>
        <p:spPr>
          <a:xfrm>
            <a:off x="2962440" y="974880"/>
            <a:ext cx="6029280" cy="3902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43280" y="4868640"/>
            <a:ext cx="597672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enter for Educational Research &amp; Evaluation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ational Taiwan Normal University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esenter: Dr. Shu-Chen Chiang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2012.10.22/23-EXLIM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圖片 3" descr="教評LOGO.jpg"/>
          <p:cNvPicPr/>
          <p:nvPr/>
        </p:nvPicPr>
        <p:blipFill>
          <a:blip r:embed="rId2"/>
          <a:stretch/>
        </p:blipFill>
        <p:spPr>
          <a:xfrm>
            <a:off x="108000" y="1916280"/>
            <a:ext cx="2449440" cy="2997000"/>
          </a:xfrm>
          <a:prstGeom prst="rect">
            <a:avLst/>
          </a:prstGeom>
          <a:ln w="0">
            <a:noFill/>
          </a:ln>
        </p:spPr>
      </p:pic>
      <p:pic>
        <p:nvPicPr>
          <p:cNvPr id="229" name="圖片 4" descr="p12.jpg"/>
          <p:cNvPicPr/>
          <p:nvPr/>
        </p:nvPicPr>
        <p:blipFill>
          <a:blip r:embed="rId3"/>
          <a:stretch/>
        </p:blipFill>
        <p:spPr>
          <a:xfrm>
            <a:off x="5651640" y="4221000"/>
            <a:ext cx="57600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標題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16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ts val="3498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rief of Taiwan Integrated Postsecondary Education Database (TIPED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3498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 learned from TIPED in the last deca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2-2012)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challenges vs. solution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visions vs. suggestions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9200"/>
            <a:ext cx="7570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d by Dr. Samual, S. Peng in 20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ing in 2008, Dr. Li-Yun Wang  takes the leadership and implement TIPED on a national sc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ts val="4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saah"/>
                <a:ea typeface="Utsaa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圖片 3" descr="教評LOGO.jpg"/>
          <p:cNvPicPr/>
          <p:nvPr/>
        </p:nvPicPr>
        <p:blipFill>
          <a:blip r:embed="rId1"/>
          <a:stretch/>
        </p:blipFill>
        <p:spPr>
          <a:xfrm>
            <a:off x="7164360" y="5732640"/>
            <a:ext cx="7462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標題 1" descr=""/>
          <p:cNvPicPr/>
          <p:nvPr/>
        </p:nvPicPr>
        <p:blipFill>
          <a:blip r:embed="rId2"/>
          <a:stretch/>
        </p:blipFill>
        <p:spPr>
          <a:xfrm>
            <a:off x="463680" y="109440"/>
            <a:ext cx="72849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標題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430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117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791920" cy="4735440"/>
          </a:xfrm>
          <a:prstGeom prst="rect">
            <a:avLst/>
          </a:prstGeom>
          <a:ln w="0">
            <a:noFill/>
          </a:ln>
        </p:spPr>
      </p:pic>
      <p:sp>
        <p:nvSpPr>
          <p:cNvPr id="237" name="Line 85"/>
          <p:cNvSpPr/>
          <p:nvPr/>
        </p:nvSpPr>
        <p:spPr>
          <a:xfrm>
            <a:off x="250920" y="2133720"/>
            <a:ext cx="20890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"/>
          <p:cNvSpPr/>
          <p:nvPr/>
        </p:nvSpPr>
        <p:spPr>
          <a:xfrm>
            <a:off x="0" y="1125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0099"/>
                </a:solidFill>
                <a:latin typeface="微軟正黑體"/>
                <a:ea typeface="微軟正黑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（☆：</a:t>
            </a:r>
            <a:r>
              <a:rPr b="1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completed</a:t>
            </a:r>
            <a:r>
              <a:rPr b="1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；★：</a:t>
            </a:r>
            <a:r>
              <a:rPr b="1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 process</a:t>
            </a:r>
            <a:r>
              <a:rPr b="1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___</a:t>
            </a:r>
            <a:r>
              <a:rPr b="1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ith teacher education </a:t>
            </a:r>
            <a:r>
              <a:rPr b="1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投影片編號版面配置區 6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F14-6008-4457-979C-2E8343A74267}" type="slidenum">
              <a:rPr b="0" lang="zh-TW" sz="1100" spc="-1" strike="noStrike">
                <a:solidFill>
                  <a:srgbClr val="b13f9a"/>
                </a:solidFill>
                <a:latin typeface="Trebuchet MS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標題 1" descr=""/>
          <p:cNvPicPr/>
          <p:nvPr/>
        </p:nvPicPr>
        <p:blipFill>
          <a:blip r:embed="rId1"/>
          <a:stretch/>
        </p:blipFill>
        <p:spPr>
          <a:xfrm>
            <a:off x="262080" y="79200"/>
            <a:ext cx="7449840" cy="6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95280" y="1628640"/>
          <a:ext cx="6553080" cy="5002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12720"/>
                <a:gridCol w="165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微軟正黑體"/>
                        </a:rPr>
                        <a:t>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微軟正黑體"/>
                        </a:rPr>
                        <a:t>Opportun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微軟正黑體"/>
                        </a:rPr>
                        <a:t>Eff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微軟正黑體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Abilit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eg. Compet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Curriculum &amp;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Time Alloc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Academ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Family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Neighbor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Teachers&amp; Pe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Study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Psychological and Behavioral Outc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Dis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eg. Attitudes towards education &amp;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Conditions of li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Learning behav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Career/Employabilit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Prior Exper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School Infrastructu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Particip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Satisfaction with colle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  <a:ea typeface="微軟正黑體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(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微軟正黑體"/>
                        </a:rPr>
                        <a:t>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242" name="圖片 6" descr="教評LOGO.jpg"/>
          <p:cNvPicPr/>
          <p:nvPr/>
        </p:nvPicPr>
        <p:blipFill>
          <a:blip r:embed="rId2"/>
          <a:stretch/>
        </p:blipFill>
        <p:spPr>
          <a:xfrm>
            <a:off x="7164360" y="5732640"/>
            <a:ext cx="746280" cy="914400"/>
          </a:xfrm>
          <a:prstGeom prst="rect">
            <a:avLst/>
          </a:prstGeom>
          <a:ln w="0">
            <a:noFill/>
          </a:ln>
        </p:spPr>
      </p:pic>
      <p:sp>
        <p:nvSpPr>
          <p:cNvPr id="243" name="文字方塊 5"/>
          <p:cNvSpPr/>
          <p:nvPr/>
        </p:nvSpPr>
        <p:spPr>
          <a:xfrm>
            <a:off x="684360" y="836640"/>
            <a:ext cx="62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Numbers referring to those surveyed— 1 (freshmen), 3 (junior), 4(graduate), +1(one year after graduation), +3 (three years after gradu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標題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816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483920"/>
            <a:ext cx="7238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llenges &amp; Our Solu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certain budget vs. personnel issue – gradually stabilize the budge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ngeable survey periods vs. questionnaires – sustain survey peri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oor school-based records – educate/ assist institutions at the school leve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requent changes of staff – disseminate via workshop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rying cooperation from schools – promote continuous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標題 1" descr=""/>
          <p:cNvPicPr/>
          <p:nvPr/>
        </p:nvPicPr>
        <p:blipFill>
          <a:blip r:embed="rId1"/>
          <a:stretch/>
        </p:blipFill>
        <p:spPr>
          <a:xfrm>
            <a:off x="341280" y="317520"/>
            <a:ext cx="7364520" cy="669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570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sure the principle issues of higher educ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Key information: government &amp; school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Important issues: by rotat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School- based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標題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882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rengthen the support system and advance corresponding services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Attain Information Security management  System (ISMS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Establish On-line Analysis System (OAS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Improve the use of dat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標題 1" descr=""/>
          <p:cNvPicPr/>
          <p:nvPr/>
        </p:nvPicPr>
        <p:blipFill>
          <a:blip r:embed="rId1"/>
          <a:stretch/>
        </p:blipFill>
        <p:spPr>
          <a:xfrm>
            <a:off x="4986360" y="1981080"/>
            <a:ext cx="3670200" cy="2073240"/>
          </a:xfrm>
          <a:prstGeom prst="rect">
            <a:avLst/>
          </a:prstGeom>
          <a:ln w="0">
            <a:noFill/>
          </a:ln>
        </p:spPr>
      </p:pic>
      <p:pic>
        <p:nvPicPr>
          <p:cNvPr id="251" name="圖片版面配置區 4" descr="教評LOGO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pic>
        <p:nvPicPr>
          <p:cNvPr id="252" name="圖片 3" descr="p12.jpg"/>
          <p:cNvPicPr/>
          <p:nvPr/>
        </p:nvPicPr>
        <p:blipFill>
          <a:blip r:embed="rId3"/>
          <a:stretch/>
        </p:blipFill>
        <p:spPr>
          <a:xfrm>
            <a:off x="755640" y="4581360"/>
            <a:ext cx="57636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8:02:26Z</dcterms:created>
  <dc:creator>CERE</dc:creator>
  <dc:description/>
  <dc:language>en-US</dc:language>
  <cp:lastModifiedBy>iuce</cp:lastModifiedBy>
  <dcterms:modified xsi:type="dcterms:W3CDTF">2012-10-20T03:13:45Z</dcterms:modified>
  <cp:revision>184</cp:revision>
  <dc:subject/>
  <dc:title>國立臺灣師範大學 教育研究與評鑑中心</dc:title>
</cp:coreProperties>
</file>