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701675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70164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02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19"/>
          </p:nvPr>
        </p:nvSpPr>
        <p:spPr>
          <a:xfrm>
            <a:off x="3974760" y="0"/>
            <a:ext cx="30402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8080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0"/>
          </p:nvPr>
        </p:nvSpPr>
        <p:spPr>
          <a:xfrm>
            <a:off x="-36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1"/>
          </p:nvPr>
        </p:nvSpPr>
        <p:spPr>
          <a:xfrm>
            <a:off x="397476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89603-6C37-4E70-B2CF-8FAFFEF1A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47BCFE-6C1B-4264-A528-D149684E2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545-6356-45AC-833A-F9F813CE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716-5074-4D0D-9207-47DC43C3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F00-B2A4-43C7-8B35-FF522CEE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7644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8168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87156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7644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88168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32F-DF78-43DD-9868-8F197D83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0104-1D07-4691-95E0-E88D3874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799C-750B-4B58-A7B3-511A92BC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4B2B-C103-4AA7-9ACB-40B6E2D7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8809-EB92-4029-AB9B-32038FE1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2CC8-D41E-431C-A9D7-FBC5DB88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9700-AA9E-4222-8D81-D1E27434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311E-6ACE-48B2-B638-65EF899F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18D3-525A-4D6E-9401-D19E85F0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C6F4-5D29-4622-8E80-CC831F62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F6DC-0685-48CF-81BF-875CEE6B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EA35-244D-4E43-B1E6-287030D9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80C1-4581-4418-9346-E3E6A30C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7644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88168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87156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7644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88168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C6E1-DD25-4744-9418-23248761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02A91-02EB-4AA9-8B3E-1B9332E2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9441D-476B-4F67-A2BD-947AE504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738BD-9403-43B6-9CB4-2B21EC2D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87CC1-2EBE-4ACC-94AD-CC5790EA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41E4E-7CD5-48D4-96B6-F9B54809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ABD-473F-432B-92E6-FC2A8C68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9AA9B-B785-4558-BAAA-F33BB0CF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787A-ACEC-4B6B-9382-8E3AEC3D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656D-4D9F-4804-9832-A734F125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5B7B4-66E7-43E4-8862-0F0FB20B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0A18C-1EAC-4415-B90D-D18BE7F1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91DBA-B8DF-4D78-813B-7F4F7521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7644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88168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7156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7644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88168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B0D2F-E3C9-447B-B487-429A6020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2F762-3723-4A40-AB78-07871AE4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D8EFF-578D-4EA6-995B-DB521466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43DFB-24EB-4FC1-A87B-675E90F1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B6EC-A623-44A8-9E99-B4422676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21FAA-B1D6-4977-B31F-ED51691A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AF802-4AF2-42EA-BBC5-D3B96868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EA785-8B95-4FB4-B746-312AF319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779A6-30EC-4FDD-80BC-4EA48DEC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B2280-CE6D-4C62-9C25-4639C51B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01356-3001-4C08-B89C-61013DCA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0F05F-B5BA-4448-92C1-CC41856C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971CB-9448-4DBC-89E9-F49C95CA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7644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88168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7156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7644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88168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83F01-1873-4D97-BFD1-97A6B6FE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F1715-5EAF-48C6-B67E-454BBF7E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469-312A-4468-AB54-68E46977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396E3-9B6D-4D86-B391-303E4743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0B7CA-5810-403E-BFEF-F6DE6614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09663-9BB1-4F93-ADAD-16EE93BB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FBF72-548D-4F7D-AE1D-2944BDCD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9546F-E98C-4431-B27C-B21DD8A1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0DB17-EA03-4053-811B-D71C6E00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F4F87-3717-4E9E-96BF-4FF7A3A2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5968C-6A9D-407F-BA03-ECB47702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18EA7-00DC-4600-9C22-99A2D65B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F2915-9427-4DF7-85FE-C5C17959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1326-B76C-45C9-9856-AA518BBB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7644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8168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7156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7644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88168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7154A-52E9-4CDD-B037-3498DD78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2A4A0-C2AB-4C08-A035-9A1AC497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9CD33-7F8E-49D9-B9D6-CA6BED17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53BD4-8673-42F0-AFAE-BCD1F260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39EF2-CC9E-4FE5-9F90-88218A1C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57046-60F2-49E8-855C-A7437700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B0DA4-3E47-4A01-AC88-85A527B5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546F2-46F3-43A0-924E-3ECF59CC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FF73D-46C3-40CF-8A0F-DEACB05B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49969-6B3C-4A12-B248-FFC621AA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AD4C-DE46-4773-9F76-7A940CE7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8CF05-CA6D-40DD-BE51-7730BA2F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4E52C-A9D5-4F10-B4D7-AE1FBE16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7644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88168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87156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7644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88168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3D044-D9C3-473C-B334-B4CF040F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EF1-24AA-4F4A-AD6B-7E2DB0D0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7C74-B271-4761-B835-DFC7DF7D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54160" y="247680"/>
            <a:ext cx="8696160" cy="63864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fbd821"/>
              </a:gs>
              <a:gs pos="100000">
                <a:srgbClr val="f5edc7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54160" y="5315040"/>
            <a:ext cx="8723160" cy="1328760"/>
            <a:chOff x="254160" y="5315040"/>
            <a:chExt cx="8723160" cy="1328760"/>
          </a:xfrm>
        </p:grpSpPr>
        <p:sp>
          <p:nvSpPr>
            <p:cNvPr id="2" name="Freeform 14"/>
            <p:cNvSpPr/>
            <p:nvPr/>
          </p:nvSpPr>
          <p:spPr>
            <a:xfrm>
              <a:off x="6089760" y="5459400"/>
              <a:ext cx="2876400" cy="714240"/>
            </a:xfrm>
            <a:prstGeom prst="pie">
              <a:avLst/>
            </a:pr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62200" y="5332320"/>
              <a:ext cx="5543640" cy="849240"/>
            </a:xfrm>
            <a:prstGeom prst="pie">
              <a:avLst/>
            </a:pr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71720" y="5343480"/>
              <a:ext cx="546732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51640" y="53308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54160" y="5315040"/>
              <a:ext cx="8723160" cy="1328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Rounded Rectangle 14"/>
          <p:cNvSpPr/>
          <p:nvPr/>
        </p:nvSpPr>
        <p:spPr>
          <a:xfrm>
            <a:off x="228600" y="228600"/>
            <a:ext cx="8721720" cy="6035760"/>
          </a:xfrm>
          <a:prstGeom prst="roundRect">
            <a:avLst>
              <a:gd name="adj" fmla="val 1273"/>
            </a:avLst>
          </a:prstGeom>
          <a:solidFill>
            <a:srgbClr val="fbd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" name="Picture 26" descr="logo-veritas.jpg"/>
          <p:cNvPicPr/>
          <p:nvPr/>
        </p:nvPicPr>
        <p:blipFill>
          <a:blip r:embed="rId3"/>
          <a:stretch/>
        </p:blipFill>
        <p:spPr>
          <a:xfrm>
            <a:off x="500040" y="228600"/>
            <a:ext cx="933480" cy="137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Calibri"/>
              </a:defRPr>
            </a:lvl1pPr>
          </a:lstStyle>
          <a:p>
            <a: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9C1A9-8512-4CB5-8791-F07D5D8CB007}" type="datetime">
              <a:rPr b="1" lang="en-US" sz="1000" spc="-1" strike="noStrike">
                <a:solidFill>
                  <a:srgbClr val="263b86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000" spc="-1" strike="noStrike">
                <a:solidFill>
                  <a:srgbClr val="263b86"/>
                </a:solidFill>
                <a:latin typeface="Calibri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000" spc="-1" strike="noStrike">
                <a:solidFill>
                  <a:srgbClr val="263b86"/>
                </a:solidFill>
                <a:latin typeface="Calibri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Calibri"/>
              </a:defRPr>
            </a:lvl1pPr>
          </a:lstStyle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1A060-96ED-499A-A9C8-1FA126523C31}" type="slidenum">
              <a:rPr b="1" lang="en-US" sz="1000" spc="-1" strike="noStrike">
                <a:solidFill>
                  <a:srgbClr val="263b86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ounded Rectangle 13"/>
          <p:cNvSpPr/>
          <p:nvPr/>
        </p:nvSpPr>
        <p:spPr>
          <a:xfrm>
            <a:off x="254160" y="247680"/>
            <a:ext cx="8696160" cy="63864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fbd821"/>
              </a:gs>
              <a:gs pos="100000">
                <a:srgbClr val="f5edc7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15"/>
          <p:cNvGrpSpPr/>
          <p:nvPr/>
        </p:nvGrpSpPr>
        <p:grpSpPr>
          <a:xfrm>
            <a:off x="254160" y="5315040"/>
            <a:ext cx="8723160" cy="1328760"/>
            <a:chOff x="254160" y="5315040"/>
            <a:chExt cx="8723160" cy="1328760"/>
          </a:xfrm>
        </p:grpSpPr>
        <p:sp>
          <p:nvSpPr>
            <p:cNvPr id="58" name="Freeform 14"/>
            <p:cNvSpPr/>
            <p:nvPr/>
          </p:nvSpPr>
          <p:spPr>
            <a:xfrm>
              <a:off x="6089760" y="5459400"/>
              <a:ext cx="2876400" cy="714240"/>
            </a:xfrm>
            <a:prstGeom prst="pie">
              <a:avLst/>
            </a:pr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2662200" y="5332320"/>
              <a:ext cx="5543640" cy="849240"/>
            </a:xfrm>
            <a:prstGeom prst="pie">
              <a:avLst/>
            </a:pr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2871720" y="5343480"/>
              <a:ext cx="546732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5651640" y="53308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0"/>
            <p:cNvSpPr/>
            <p:nvPr/>
          </p:nvSpPr>
          <p:spPr>
            <a:xfrm>
              <a:off x="254160" y="5315040"/>
              <a:ext cx="8723160" cy="1328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cf9904"/>
              </a:gs>
              <a:gs pos="100000">
                <a:srgbClr val="fdd97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76b6f2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76b6f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Calibri"/>
              </a:defRPr>
            </a:lvl1pPr>
          </a:lstStyle>
          <a:p>
            <a: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A34E4-C76C-43C1-BFB3-9B15D0BD3ADF}" type="datetime">
              <a:rPr b="1" lang="en-US" sz="1000" spc="-1" strike="noStrike">
                <a:solidFill>
                  <a:srgbClr val="263b86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000" spc="-1" strike="noStrike">
                <a:solidFill>
                  <a:srgbClr val="263b86"/>
                </a:solidFill>
                <a:latin typeface="Calibri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000" spc="-1" strike="noStrike">
                <a:solidFill>
                  <a:srgbClr val="263b86"/>
                </a:solidFill>
                <a:latin typeface="Calibri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Calibri"/>
              </a:defRPr>
            </a:lvl1pPr>
          </a:lstStyle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22C5A-D227-4636-95D3-72DF570661C1}" type="slidenum">
              <a:rPr b="1" lang="en-US" sz="1000" spc="-1" strike="noStrike">
                <a:solidFill>
                  <a:srgbClr val="263b86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ounded Rectangle 13"/>
          <p:cNvSpPr/>
          <p:nvPr/>
        </p:nvSpPr>
        <p:spPr>
          <a:xfrm>
            <a:off x="254160" y="247680"/>
            <a:ext cx="8696160" cy="63864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fbd821"/>
              </a:gs>
              <a:gs pos="100000">
                <a:srgbClr val="f5edc7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Group 15"/>
          <p:cNvGrpSpPr/>
          <p:nvPr/>
        </p:nvGrpSpPr>
        <p:grpSpPr>
          <a:xfrm>
            <a:off x="254160" y="5315040"/>
            <a:ext cx="8723160" cy="1328760"/>
            <a:chOff x="254160" y="5315040"/>
            <a:chExt cx="8723160" cy="1328760"/>
          </a:xfrm>
        </p:grpSpPr>
        <p:sp>
          <p:nvSpPr>
            <p:cNvPr id="112" name="Freeform 14"/>
            <p:cNvSpPr/>
            <p:nvPr/>
          </p:nvSpPr>
          <p:spPr>
            <a:xfrm>
              <a:off x="6089760" y="5459400"/>
              <a:ext cx="2876400" cy="714240"/>
            </a:xfrm>
            <a:prstGeom prst="pie">
              <a:avLst/>
            </a:pr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8"/>
            <p:cNvSpPr/>
            <p:nvPr/>
          </p:nvSpPr>
          <p:spPr>
            <a:xfrm>
              <a:off x="2662200" y="5332320"/>
              <a:ext cx="5543640" cy="849240"/>
            </a:xfrm>
            <a:prstGeom prst="pie">
              <a:avLst/>
            </a:pr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2"/>
            <p:cNvSpPr/>
            <p:nvPr/>
          </p:nvSpPr>
          <p:spPr>
            <a:xfrm>
              <a:off x="2871720" y="5343480"/>
              <a:ext cx="546732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>
              <a:off x="5651640" y="53308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>
              <a:off x="254160" y="5315040"/>
              <a:ext cx="8723160" cy="1328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cf9904"/>
              </a:gs>
              <a:gs pos="100000">
                <a:srgbClr val="fdd97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19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25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Calibri"/>
              </a:defRPr>
            </a:lvl1pPr>
          </a:lstStyle>
          <a:p>
            <a: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86497-A671-4EF5-A332-7B9DD4C27235}" type="datetime">
              <a:rPr b="1" lang="en-US" sz="1000" spc="-1" strike="noStrike">
                <a:solidFill>
                  <a:srgbClr val="263b86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000" spc="-1" strike="noStrike">
                <a:solidFill>
                  <a:srgbClr val="263b86"/>
                </a:solidFill>
                <a:latin typeface="Calibri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000" spc="-1" strike="noStrike">
                <a:solidFill>
                  <a:srgbClr val="263b86"/>
                </a:solidFill>
                <a:latin typeface="Calibri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Calibri"/>
              </a:defRPr>
            </a:lvl1pPr>
          </a:lstStyle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418BE-7EBA-4A20-9533-B72DE843CB3F}" type="slidenum">
              <a:rPr b="1" lang="en-US" sz="1000" spc="-1" strike="noStrike">
                <a:solidFill>
                  <a:srgbClr val="263b86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ounded Rectangle 13"/>
          <p:cNvSpPr/>
          <p:nvPr/>
        </p:nvSpPr>
        <p:spPr>
          <a:xfrm>
            <a:off x="254160" y="247680"/>
            <a:ext cx="8696160" cy="63864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fbd821"/>
              </a:gs>
              <a:gs pos="100000">
                <a:srgbClr val="f5edc7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oup 15"/>
          <p:cNvGrpSpPr/>
          <p:nvPr/>
        </p:nvGrpSpPr>
        <p:grpSpPr>
          <a:xfrm>
            <a:off x="254160" y="5315040"/>
            <a:ext cx="8723160" cy="1328760"/>
            <a:chOff x="254160" y="5315040"/>
            <a:chExt cx="8723160" cy="1328760"/>
          </a:xfrm>
        </p:grpSpPr>
        <p:sp>
          <p:nvSpPr>
            <p:cNvPr id="167" name="Freeform 14"/>
            <p:cNvSpPr/>
            <p:nvPr/>
          </p:nvSpPr>
          <p:spPr>
            <a:xfrm>
              <a:off x="6089760" y="5459400"/>
              <a:ext cx="2876400" cy="714240"/>
            </a:xfrm>
            <a:prstGeom prst="pie">
              <a:avLst/>
            </a:pr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2662200" y="5332320"/>
              <a:ext cx="5543640" cy="849240"/>
            </a:xfrm>
            <a:prstGeom prst="pie">
              <a:avLst/>
            </a:pr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22"/>
            <p:cNvSpPr/>
            <p:nvPr/>
          </p:nvSpPr>
          <p:spPr>
            <a:xfrm>
              <a:off x="2871720" y="5343480"/>
              <a:ext cx="546732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26"/>
            <p:cNvSpPr/>
            <p:nvPr/>
          </p:nvSpPr>
          <p:spPr>
            <a:xfrm>
              <a:off x="5651640" y="53308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0"/>
            <p:cNvSpPr/>
            <p:nvPr/>
          </p:nvSpPr>
          <p:spPr>
            <a:xfrm>
              <a:off x="254160" y="5315040"/>
              <a:ext cx="8723160" cy="1328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cf9904"/>
              </a:gs>
              <a:gs pos="100000">
                <a:srgbClr val="fdd97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74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5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Calibri"/>
              </a:defRPr>
            </a:lvl1pPr>
          </a:lstStyle>
          <a:p>
            <a: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90E961-5900-498C-84C8-BE808425851D}" type="datetime">
              <a:rPr b="1" lang="en-US" sz="1000" spc="-1" strike="noStrike">
                <a:solidFill>
                  <a:srgbClr val="263b86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000" spc="-1" strike="noStrike">
                <a:solidFill>
                  <a:srgbClr val="263b86"/>
                </a:solidFill>
                <a:latin typeface="Calibri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000" spc="-1" strike="noStrike">
                <a:solidFill>
                  <a:srgbClr val="263b86"/>
                </a:solidFill>
                <a:latin typeface="Calibri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Calibri"/>
              </a:defRPr>
            </a:lvl1pPr>
          </a:lstStyle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AAA80-8D29-4D4E-A20F-AF782D8F5745}" type="slidenum">
              <a:rPr b="1" lang="en-US" sz="1000" spc="-1" strike="noStrike">
                <a:solidFill>
                  <a:srgbClr val="263b86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13"/>
          <p:cNvSpPr/>
          <p:nvPr/>
        </p:nvSpPr>
        <p:spPr>
          <a:xfrm>
            <a:off x="254160" y="247680"/>
            <a:ext cx="8696160" cy="63864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fbd821"/>
              </a:gs>
              <a:gs pos="100000">
                <a:srgbClr val="f5edc7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Group 15"/>
          <p:cNvGrpSpPr/>
          <p:nvPr/>
        </p:nvGrpSpPr>
        <p:grpSpPr>
          <a:xfrm>
            <a:off x="254160" y="5315040"/>
            <a:ext cx="8723160" cy="1328760"/>
            <a:chOff x="254160" y="5315040"/>
            <a:chExt cx="8723160" cy="1328760"/>
          </a:xfrm>
        </p:grpSpPr>
        <p:sp>
          <p:nvSpPr>
            <p:cNvPr id="222" name="Freeform 14"/>
            <p:cNvSpPr/>
            <p:nvPr/>
          </p:nvSpPr>
          <p:spPr>
            <a:xfrm>
              <a:off x="6089760" y="5459400"/>
              <a:ext cx="2876400" cy="714240"/>
            </a:xfrm>
            <a:prstGeom prst="pie">
              <a:avLst/>
            </a:pr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2662200" y="5332320"/>
              <a:ext cx="5543640" cy="849240"/>
            </a:xfrm>
            <a:prstGeom prst="pie">
              <a:avLst/>
            </a:pr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22"/>
            <p:cNvSpPr/>
            <p:nvPr/>
          </p:nvSpPr>
          <p:spPr>
            <a:xfrm>
              <a:off x="2871720" y="5343480"/>
              <a:ext cx="546732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26"/>
            <p:cNvSpPr/>
            <p:nvPr/>
          </p:nvSpPr>
          <p:spPr>
            <a:xfrm>
              <a:off x="5651640" y="53308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254160" y="5315040"/>
              <a:ext cx="8723160" cy="1328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cf9904"/>
              </a:gs>
              <a:gs pos="100000">
                <a:srgbClr val="fdd97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29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25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Calibri"/>
              </a:defRPr>
            </a:lvl1pPr>
          </a:lstStyle>
          <a:p>
            <a: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1FAE9-A861-498B-81E6-A3785B862226}" type="datetime">
              <a:rPr b="1" lang="en-US" sz="1000" spc="-1" strike="noStrike">
                <a:solidFill>
                  <a:srgbClr val="263b86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000" spc="-1" strike="noStrike">
                <a:solidFill>
                  <a:srgbClr val="263b86"/>
                </a:solidFill>
                <a:latin typeface="Calibri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000" spc="-1" strike="noStrike">
                <a:solidFill>
                  <a:srgbClr val="263b86"/>
                </a:solidFill>
                <a:latin typeface="Calibri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Calibri"/>
              </a:defRPr>
            </a:lvl1pPr>
          </a:lstStyle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AECF1-2AEE-45F5-9A7F-2165E1C7EE02}" type="slidenum">
              <a:rPr b="1" lang="en-US" sz="1000" spc="-1" strike="noStrike">
                <a:solidFill>
                  <a:srgbClr val="263b86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ounded Rectangle 13"/>
          <p:cNvSpPr/>
          <p:nvPr/>
        </p:nvSpPr>
        <p:spPr>
          <a:xfrm>
            <a:off x="254160" y="247680"/>
            <a:ext cx="8696160" cy="63864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fbd821"/>
              </a:gs>
              <a:gs pos="100000">
                <a:srgbClr val="f5edc7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15"/>
          <p:cNvGrpSpPr/>
          <p:nvPr/>
        </p:nvGrpSpPr>
        <p:grpSpPr>
          <a:xfrm>
            <a:off x="254160" y="5315040"/>
            <a:ext cx="8723160" cy="1328760"/>
            <a:chOff x="254160" y="5315040"/>
            <a:chExt cx="8723160" cy="1328760"/>
          </a:xfrm>
        </p:grpSpPr>
        <p:sp>
          <p:nvSpPr>
            <p:cNvPr id="277" name="Freeform 14"/>
            <p:cNvSpPr/>
            <p:nvPr/>
          </p:nvSpPr>
          <p:spPr>
            <a:xfrm>
              <a:off x="6089760" y="5459400"/>
              <a:ext cx="2876400" cy="714240"/>
            </a:xfrm>
            <a:prstGeom prst="pie">
              <a:avLst/>
            </a:pr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8"/>
            <p:cNvSpPr/>
            <p:nvPr/>
          </p:nvSpPr>
          <p:spPr>
            <a:xfrm>
              <a:off x="2662200" y="5332320"/>
              <a:ext cx="5543640" cy="849240"/>
            </a:xfrm>
            <a:prstGeom prst="pie">
              <a:avLst/>
            </a:pr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2"/>
            <p:cNvSpPr/>
            <p:nvPr/>
          </p:nvSpPr>
          <p:spPr>
            <a:xfrm>
              <a:off x="2871720" y="5343480"/>
              <a:ext cx="546732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26"/>
            <p:cNvSpPr/>
            <p:nvPr/>
          </p:nvSpPr>
          <p:spPr>
            <a:xfrm>
              <a:off x="5651640" y="53308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0"/>
            <p:cNvSpPr/>
            <p:nvPr/>
          </p:nvSpPr>
          <p:spPr>
            <a:xfrm>
              <a:off x="254160" y="5315040"/>
              <a:ext cx="8723160" cy="1328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cf9904"/>
              </a:gs>
              <a:gs pos="100000">
                <a:srgbClr val="fdd97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4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25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Calibri"/>
              </a:defRPr>
            </a:lvl1pPr>
          </a:lstStyle>
          <a:p>
            <a: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F4B93-5274-4926-9FC7-741663CD9431}" type="datetime">
              <a:rPr b="1" lang="en-US" sz="1000" spc="-1" strike="noStrike">
                <a:solidFill>
                  <a:srgbClr val="263b86"/>
                </a:solidFill>
                <a:latin typeface="Calibri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000" spc="-1" strike="noStrike">
                <a:solidFill>
                  <a:srgbClr val="263b86"/>
                </a:solidFill>
                <a:latin typeface="Calibri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000" spc="-1" strike="noStrike">
                <a:solidFill>
                  <a:srgbClr val="263b86"/>
                </a:solidFill>
                <a:latin typeface="Calibri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Calibri"/>
              </a:defRPr>
            </a:lvl1pPr>
          </a:lstStyle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6E11E-D366-4D08-A4D9-015D4F41D9AC}" type="slidenum">
              <a:rPr b="1" lang="en-US" sz="1000" spc="-1" strike="noStrike">
                <a:solidFill>
                  <a:srgbClr val="263b86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3b86"/>
                </a:solidFill>
                <a:latin typeface="Verdana"/>
              </a:rPr>
              <a:t>SUSTAINING TRACER STUDY </a:t>
            </a:r>
            <a:br>
              <a:rPr sz="3200"/>
            </a:br>
            <a:r>
              <a:rPr b="1" lang="en-US" sz="3200" spc="-1" strike="noStrike">
                <a:solidFill>
                  <a:srgbClr val="263b86"/>
                </a:solidFill>
                <a:latin typeface="Verdana"/>
              </a:rPr>
              <a:t>AT UNIVERSITY LEVEL: </a:t>
            </a:r>
            <a:br>
              <a:rPr sz="3200"/>
            </a:br>
            <a:r>
              <a:rPr b="1" lang="en-US" sz="2600" spc="-1" strike="noStrike">
                <a:solidFill>
                  <a:srgbClr val="263b86"/>
                </a:solidFill>
                <a:latin typeface="Verdana"/>
              </a:rPr>
              <a:t>UNIVERSITAS INDONESIA EXPERIENCE</a:t>
            </a:r>
            <a:endParaRPr b="0" lang="en-US" sz="26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58560" y="5497200"/>
            <a:ext cx="6627960" cy="925560"/>
          </a:xfrm>
          <a:prstGeom prst="rect">
            <a:avLst/>
          </a:prstGeom>
          <a:solidFill>
            <a:srgbClr val="efe1a2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b86"/>
                </a:solidFill>
                <a:latin typeface="Tw Cen MT"/>
              </a:rPr>
              <a:t>Sandra Fikawati and Ahmad Syafiq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b86"/>
                </a:solidFill>
                <a:latin typeface="Tw Cen MT"/>
              </a:rPr>
              <a:t>Career Development Center Universitas Indonesia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b86"/>
                </a:solidFill>
                <a:latin typeface="Tw Cen MT"/>
              </a:rPr>
              <a:t>2 0 1 2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Financial Aspect</a:t>
            </a: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3b86"/>
                </a:solidFill>
                <a:latin typeface="Calibri"/>
              </a:rPr>
              <a:t>As for the funding, CDC-UI has secured funding allocation through its yearly budgeting plan which includes TSUI. </a:t>
            </a: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3b86"/>
                </a:solidFill>
                <a:latin typeface="Calibri"/>
              </a:rPr>
              <a:t>In UI, CDC can get funding from university relatively easy because CDC-UI is a “profit center”, not a “loss center”. We can add or re-allocate the budget for tracer study. </a:t>
            </a: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73E-6EA4-4CB4-AAA3-45D9638C41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Coordination</a:t>
            </a:r>
            <a:r>
              <a:rPr b="0" lang="en-US" sz="2400" spc="-1" strike="noStrike">
                <a:solidFill>
                  <a:srgbClr val="263b86"/>
                </a:solidFill>
                <a:latin typeface="Cambria"/>
              </a:rPr>
              <a:t> (1)</a:t>
            </a:r>
            <a:endParaRPr b="0" lang="en-US" sz="2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3b86"/>
                </a:solidFill>
                <a:latin typeface="Calibri"/>
              </a:rPr>
              <a:t>One important aspect in managing university level TS is the coordination with other unit at both university and faculty level. </a:t>
            </a: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3b86"/>
                </a:solidFill>
                <a:latin typeface="Calibri"/>
              </a:rPr>
              <a:t>Participatory approach is important to ensure that faculties support the idea and the implementation of TSUI. </a:t>
            </a: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3b86"/>
                </a:solidFill>
                <a:latin typeface="Calibri"/>
              </a:rPr>
              <a:t>This achieved through a series of dialogue in form of workshop, meetings, and socialization of results. </a:t>
            </a: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3BF-F334-4D18-A3BB-DE18388530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23840" y="6276960"/>
            <a:ext cx="7037280" cy="41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Arial"/>
              </a:rPr>
              <a:t>Questionnaire Development Workshop, Cipanas 20 July 201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84120" y="1362240"/>
            <a:ext cx="3071880" cy="1971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3541680" y="230040"/>
            <a:ext cx="5238720" cy="30736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244440" y="3417840"/>
            <a:ext cx="4937040" cy="27367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5303880" y="3435480"/>
            <a:ext cx="3476520" cy="273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9637-1712-4230-8D41-AFF5AE88DD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Coordination </a:t>
            </a:r>
            <a:r>
              <a:rPr b="0" lang="en-US" sz="2400" spc="-1" strike="noStrike">
                <a:solidFill>
                  <a:srgbClr val="263b86"/>
                </a:solidFill>
                <a:latin typeface="Cambria"/>
              </a:rPr>
              <a:t>(2)</a:t>
            </a:r>
            <a:endParaRPr b="0" lang="en-US" sz="2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7120" y="1847880"/>
            <a:ext cx="8367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Coordination is established with other directorates: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Directorate for Academic Affair and 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Directorate for Information Technology System 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Coordination including: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Formally informing about TS activity in the university database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Requirement to update database prior to graduation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The number of undelivered cases decreased significantly 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952560" y="5372280"/>
          <a:ext cx="6343200" cy="1090440"/>
        </p:xfrm>
        <a:graphic>
          <a:graphicData uri="http://schemas.openxmlformats.org/drawingml/2006/table">
            <a:tbl>
              <a:tblPr/>
              <a:tblGrid>
                <a:gridCol w="2134440"/>
                <a:gridCol w="2134440"/>
                <a:gridCol w="2074320"/>
              </a:tblGrid>
              <a:tr h="398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Percentage of undelivered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b9f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TSUI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b9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TSUI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b9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TSUI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b9f8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b9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b9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b9f8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C51-71D7-42FE-B538-C2C3698632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0" y="3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389640" y="4481640"/>
            <a:ext cx="2241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1384200" y="4697280"/>
            <a:ext cx="5643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/>
          <p:nvPr/>
        </p:nvSpPr>
        <p:spPr>
          <a:xfrm>
            <a:off x="3809880" y="1479600"/>
            <a:ext cx="5143680" cy="65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is data will be used for UI legal document such as certificates, transcript, letters, and tracer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8782200" y="2304720"/>
            <a:ext cx="0" cy="21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8631000" y="442440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094160" y="464040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7264440" y="3251160"/>
            <a:ext cx="0" cy="140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/>
          <p:nvPr/>
        </p:nvSpPr>
        <p:spPr>
          <a:xfrm>
            <a:off x="3321000" y="2514600"/>
            <a:ext cx="4934160" cy="68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 data is compulsory as one requirement of final exam , thesis, dissertation a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yudicium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34F-2F31-4E3F-BA5B-4BA362B2F7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-47520" y="-17640"/>
            <a:ext cx="9798120" cy="68756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3480" y="1744560"/>
            <a:ext cx="1925640" cy="3872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/>
          <p:nvPr/>
        </p:nvSpPr>
        <p:spPr>
          <a:xfrm>
            <a:off x="5035680" y="2265480"/>
            <a:ext cx="1666800" cy="384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/>
          <p:nvPr/>
        </p:nvSpPr>
        <p:spPr>
          <a:xfrm>
            <a:off x="2228760" y="3124080"/>
            <a:ext cx="1562040" cy="1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"/>
          <p:cNvSpPr/>
          <p:nvPr/>
        </p:nvSpPr>
        <p:spPr>
          <a:xfrm>
            <a:off x="2235240" y="4216320"/>
            <a:ext cx="1562040" cy="1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"/>
          <p:cNvSpPr/>
          <p:nvPr/>
        </p:nvSpPr>
        <p:spPr>
          <a:xfrm>
            <a:off x="7359480" y="3130560"/>
            <a:ext cx="1746360" cy="11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/>
          <p:nvPr/>
        </p:nvSpPr>
        <p:spPr>
          <a:xfrm>
            <a:off x="7365960" y="4222800"/>
            <a:ext cx="1562040" cy="11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F2B-FE65-4516-B935-8E6D2E1B98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0164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Result Dissemination</a:t>
            </a: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38360" y="2037960"/>
            <a:ext cx="8059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63b86"/>
                </a:solidFill>
                <a:latin typeface="Calibri"/>
              </a:rPr>
              <a:t>Result dissemination is a compulsory activity in the middle of the year after finishing the analysis</a:t>
            </a:r>
            <a:endParaRPr b="0" lang="en-US" sz="2300" spc="-1" strike="noStrike">
              <a:solidFill>
                <a:srgbClr val="263b86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63b86"/>
                </a:solidFill>
                <a:latin typeface="Calibri"/>
              </a:rPr>
              <a:t>In the same time, collecting database and socializing the next tracer study schedule are also conducted </a:t>
            </a:r>
            <a:endParaRPr b="0" lang="en-US" sz="2300" spc="-1" strike="noStrike">
              <a:solidFill>
                <a:srgbClr val="263b86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63b86"/>
                </a:solidFill>
                <a:latin typeface="Calibri"/>
              </a:rPr>
              <a:t>As important medium for raising awareness on the objectives of implementing tracer study in university level:</a:t>
            </a:r>
            <a:r>
              <a:rPr b="0" lang="en-US" sz="2200" spc="-1" strike="noStrike">
                <a:solidFill>
                  <a:srgbClr val="263b86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524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3b86"/>
                </a:solidFill>
                <a:latin typeface="Calibri"/>
              </a:rPr>
              <a:t>More effective, less budget</a:t>
            </a:r>
            <a:endParaRPr b="0" lang="en-US" sz="21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524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3b86"/>
                </a:solidFill>
                <a:latin typeface="Calibri"/>
              </a:rPr>
              <a:t>Benchmarking</a:t>
            </a:r>
            <a:endParaRPr b="0" lang="en-US" sz="21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524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3b86"/>
                </a:solidFill>
                <a:latin typeface="Calibri"/>
              </a:rPr>
              <a:t>High quality of tracer study method</a:t>
            </a:r>
            <a:endParaRPr b="0" lang="en-US" sz="21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524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3b86"/>
                </a:solidFill>
                <a:latin typeface="Calibri"/>
              </a:rPr>
              <a:t>No disadvantages. Without conducting their own study, they still can get information they need.</a:t>
            </a:r>
            <a:endParaRPr b="0" lang="en-US" sz="21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228A-2868-46CC-8C7D-39B549031C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4560" y="475920"/>
            <a:ext cx="8642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3b86"/>
                </a:solidFill>
                <a:latin typeface="Cambria"/>
              </a:rPr>
              <a:t>Result Dissemination at Faculty</a:t>
            </a:r>
            <a:br>
              <a:rPr sz="3600"/>
            </a:br>
            <a:r>
              <a:rPr b="0" lang="en-US" sz="3600" spc="-1" strike="noStrike">
                <a:solidFill>
                  <a:srgbClr val="263b86"/>
                </a:solidFill>
                <a:latin typeface="Cambria"/>
              </a:rPr>
              <a:t>and University Level</a:t>
            </a:r>
            <a:endParaRPr b="0" lang="en-US" sz="3600" spc="-1" strike="noStrike">
              <a:solidFill>
                <a:srgbClr val="263b86"/>
              </a:solidFill>
              <a:latin typeface="Cambria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17520" y="1825560"/>
            <a:ext cx="4540320" cy="293688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5087880" y="1862280"/>
            <a:ext cx="3589560" cy="21240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3871800" y="3986280"/>
            <a:ext cx="4176720" cy="26510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5"/>
          <a:stretch/>
        </p:blipFill>
        <p:spPr>
          <a:xfrm>
            <a:off x="652320" y="4314960"/>
            <a:ext cx="2891160" cy="196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7E5-E3BD-472F-B792-15E884EEB8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Socialization</a:t>
            </a: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71200" y="2038320"/>
            <a:ext cx="78152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3b86"/>
                </a:solidFill>
                <a:latin typeface="Calibri"/>
              </a:rPr>
              <a:t>To Alumni:</a:t>
            </a:r>
            <a:endParaRPr b="0" lang="en-US" sz="2200" spc="-1" strike="noStrike">
              <a:solidFill>
                <a:srgbClr val="263b86"/>
              </a:solidFill>
              <a:latin typeface="Calibri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3b86"/>
                </a:solidFill>
                <a:latin typeface="Calibri"/>
              </a:rPr>
              <a:t>Socialization to the alumni is conducted:</a:t>
            </a:r>
            <a:endParaRPr b="0" lang="en-US" sz="22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lnSpc>
                <a:spcPct val="110000"/>
              </a:lnSpc>
              <a:spcBef>
                <a:spcPts val="550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3b86"/>
                </a:solidFill>
                <a:latin typeface="Calibri"/>
              </a:rPr>
              <a:t>During their graduation ceremony</a:t>
            </a:r>
            <a:endParaRPr b="0" lang="en-US" sz="2200" spc="-1" strike="noStrike">
              <a:solidFill>
                <a:srgbClr val="263b86"/>
              </a:solidFill>
              <a:latin typeface="Calibri"/>
            </a:endParaRPr>
          </a:p>
          <a:p>
            <a:pPr lvl="2" marL="855720" indent="-228600">
              <a:lnSpc>
                <a:spcPct val="11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b86"/>
                </a:solidFill>
                <a:latin typeface="Calibri"/>
              </a:rPr>
              <a:t>Inserting in rector speech</a:t>
            </a:r>
            <a:endParaRPr b="0" lang="en-US" sz="2000" spc="-1" strike="noStrike">
              <a:solidFill>
                <a:srgbClr val="263b86"/>
              </a:solidFill>
              <a:latin typeface="Calibri"/>
            </a:endParaRPr>
          </a:p>
          <a:p>
            <a:pPr lvl="2" marL="855720" indent="-228600">
              <a:lnSpc>
                <a:spcPct val="11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b86"/>
                </a:solidFill>
                <a:latin typeface="Calibri"/>
              </a:rPr>
              <a:t>Inserting in media promotion (video)</a:t>
            </a:r>
            <a:endParaRPr b="0" lang="en-US" sz="20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lnSpc>
                <a:spcPct val="110000"/>
              </a:lnSpc>
              <a:spcBef>
                <a:spcPts val="550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3b86"/>
                </a:solidFill>
                <a:latin typeface="Calibri"/>
              </a:rPr>
              <a:t>Tracer study information is published in the alumni website and faculty website. </a:t>
            </a:r>
            <a:endParaRPr b="0" lang="en-US" sz="2200" spc="-1" strike="noStrike">
              <a:solidFill>
                <a:srgbClr val="263b86"/>
              </a:solidFill>
              <a:latin typeface="Calibri"/>
            </a:endParaRPr>
          </a:p>
          <a:p>
            <a:pPr marL="272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3b86"/>
                </a:solidFill>
                <a:latin typeface="Calibri"/>
              </a:rPr>
              <a:t>To students:</a:t>
            </a:r>
            <a:endParaRPr b="0" lang="en-US" sz="22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lnSpc>
                <a:spcPct val="110000"/>
              </a:lnSpc>
              <a:spcBef>
                <a:spcPts val="550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3b86"/>
                </a:solidFill>
                <a:latin typeface="Calibri"/>
              </a:rPr>
              <a:t>Learning orientation program</a:t>
            </a:r>
            <a:endParaRPr b="0" lang="en-US" sz="22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lnSpc>
                <a:spcPct val="110000"/>
              </a:lnSpc>
              <a:spcBef>
                <a:spcPts val="550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3b86"/>
                </a:solidFill>
                <a:latin typeface="Calibri"/>
              </a:rPr>
              <a:t>Student profession seminars</a:t>
            </a:r>
            <a:endParaRPr b="0" lang="en-US" sz="22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6F7-146E-4A30-9DE2-3AD5742F91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204840" y="17640"/>
            <a:ext cx="8734320" cy="61531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239760" y="944640"/>
            <a:ext cx="2598840" cy="4110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/>
          <p:nvPr/>
        </p:nvSpPr>
        <p:spPr>
          <a:xfrm>
            <a:off x="1909800" y="3084480"/>
            <a:ext cx="2147760" cy="93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ll alumni S1 201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lease fill in the questionnai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AB0-D4B0-42F0-A049-F61FBA05DA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Structure of Presentation</a:t>
            </a: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766520" y="1886040"/>
            <a:ext cx="619596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263b86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3b86"/>
                </a:solidFill>
                <a:latin typeface="Cambria"/>
              </a:rPr>
              <a:t>History of TS at university level</a:t>
            </a:r>
            <a:endParaRPr b="0" lang="en-US" sz="2500" spc="-1" strike="noStrike">
              <a:solidFill>
                <a:srgbClr val="263b86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263b86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3b86"/>
                </a:solidFill>
                <a:latin typeface="Cambria"/>
              </a:rPr>
              <a:t>Improvement of TSUI</a:t>
            </a:r>
            <a:endParaRPr b="0" lang="en-US" sz="2500" spc="-1" strike="noStrike">
              <a:solidFill>
                <a:srgbClr val="263b86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263b86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3b86"/>
                </a:solidFill>
                <a:latin typeface="Cambria"/>
              </a:rPr>
              <a:t>Management of TSUI</a:t>
            </a:r>
            <a:endParaRPr b="0" lang="en-US" sz="2500" spc="-1" strike="noStrike">
              <a:solidFill>
                <a:srgbClr val="263b86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263b86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3b86"/>
                </a:solidFill>
                <a:latin typeface="Cambria"/>
              </a:rPr>
              <a:t>Organization Structure</a:t>
            </a:r>
            <a:endParaRPr b="0" lang="en-US" sz="2500" spc="-1" strike="noStrike">
              <a:solidFill>
                <a:srgbClr val="263b86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263b86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3b86"/>
                </a:solidFill>
                <a:latin typeface="Cambria"/>
              </a:rPr>
              <a:t>Financial Aspect</a:t>
            </a:r>
            <a:endParaRPr b="0" lang="en-US" sz="2500" spc="-1" strike="noStrike">
              <a:solidFill>
                <a:srgbClr val="263b86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263b86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3b86"/>
                </a:solidFill>
                <a:latin typeface="Cambria"/>
              </a:rPr>
              <a:t>Coordination with other Directorates</a:t>
            </a:r>
            <a:endParaRPr b="0" lang="en-US" sz="2500" spc="-1" strike="noStrike">
              <a:solidFill>
                <a:srgbClr val="263b86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263b86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3b86"/>
                </a:solidFill>
                <a:latin typeface="Cambria"/>
              </a:rPr>
              <a:t>Result Dissemination</a:t>
            </a:r>
            <a:endParaRPr b="0" lang="en-US" sz="2500" spc="-1" strike="noStrike">
              <a:solidFill>
                <a:srgbClr val="263b86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263b86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3b86"/>
                </a:solidFill>
                <a:latin typeface="Cambria"/>
              </a:rPr>
              <a:t>Socialization to Alumni</a:t>
            </a:r>
            <a:endParaRPr b="0" lang="en-US" sz="2500" spc="-1" strike="noStrike">
              <a:solidFill>
                <a:srgbClr val="263b86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263b86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3b86"/>
                </a:solidFill>
                <a:latin typeface="Cambria"/>
              </a:rPr>
              <a:t>Advantage for Other Units</a:t>
            </a:r>
            <a:endParaRPr b="0" lang="en-US" sz="2500" spc="-1" strike="noStrike">
              <a:solidFill>
                <a:srgbClr val="263b86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263b86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3b86"/>
                </a:solidFill>
                <a:latin typeface="Cambria"/>
              </a:rPr>
              <a:t>Summary</a:t>
            </a:r>
            <a:endParaRPr b="0" lang="en-US" sz="2500" spc="-1" strike="noStrike">
              <a:solidFill>
                <a:srgbClr val="263b86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63b86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15F-4A19-4959-9583-B91E082F4F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676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11240" y="6215040"/>
            <a:ext cx="8875440" cy="46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You will be contacted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Arial"/>
              </a:rPr>
              <a:t>by 2014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. Please participate and respo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B8A-BCAC-4126-8D22-D1E4C4097D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0164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Advantage for Other Units</a:t>
            </a: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5000"/>
              </a:lnSpc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3b86"/>
                </a:solidFill>
                <a:latin typeface="Calibri"/>
              </a:rPr>
              <a:t>Implementation of TSUI has positive impact for other units in university level including providing data for Office of Development, Public Relations Office, and faculties </a:t>
            </a: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  <a:p>
            <a:pPr marL="272880" indent="-272880">
              <a:lnSpc>
                <a:spcPct val="105000"/>
              </a:lnSpc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3b86"/>
                </a:solidFill>
                <a:latin typeface="Calibri"/>
              </a:rPr>
              <a:t>TS is providing input to improve and to ensure the update of student-graduate database. </a:t>
            </a: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  <a:p>
            <a:pPr marL="2728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F60-93F9-41FB-8878-F03A4F0EAF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84A7-A358-4FB0-B72C-BE726F99053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37920" y="274320"/>
            <a:ext cx="731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3b86"/>
                </a:solidFill>
                <a:latin typeface="Cambria"/>
              </a:rPr>
              <a:t>Demand for TS</a:t>
            </a:r>
            <a:r>
              <a:rPr b="0" lang="id-ID" sz="3600" spc="-1" strike="noStrike">
                <a:solidFill>
                  <a:srgbClr val="263b86"/>
                </a:solidFill>
                <a:latin typeface="Cambria"/>
              </a:rPr>
              <a:t>UI</a:t>
            </a:r>
            <a:r>
              <a:rPr b="0" lang="en-US" sz="3600" spc="-1" strike="noStrike">
                <a:solidFill>
                  <a:srgbClr val="263b86"/>
                </a:solidFill>
                <a:latin typeface="Cambria"/>
              </a:rPr>
              <a:t> data</a:t>
            </a:r>
            <a:endParaRPr b="0" lang="en-US" sz="3600" spc="-1" strike="noStrike">
              <a:solidFill>
                <a:srgbClr val="263b86"/>
              </a:solidFill>
              <a:latin typeface="Cambria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484200" y="1871640"/>
          <a:ext cx="8391600" cy="4686480"/>
        </p:xfrm>
        <a:graphic>
          <a:graphicData uri="http://schemas.openxmlformats.org/drawingml/2006/table">
            <a:tbl>
              <a:tblPr/>
              <a:tblGrid>
                <a:gridCol w="3324240"/>
                <a:gridCol w="1268280"/>
                <a:gridCol w="3799080"/>
              </a:tblGrid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Arial Narrow"/>
                          <a:ea typeface="ＭＳ Ｐゴシック"/>
                        </a:rPr>
                        <a:t>Study Program/Facul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Arial Narrow"/>
                          <a:ea typeface="ＭＳ Ｐゴシック"/>
                        </a:rPr>
                        <a:t>Dat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Arial Narrow"/>
                          <a:ea typeface="ＭＳ Ｐゴシック"/>
                        </a:rPr>
                        <a:t> </a:t>
                      </a:r>
                      <a:r>
                        <a:rPr b="1" lang="en-GB" sz="1900" spc="-1" strike="noStrike">
                          <a:solidFill>
                            <a:srgbClr val="000000"/>
                          </a:solidFill>
                          <a:latin typeface="Arial Narrow"/>
                          <a:ea typeface="ＭＳ Ｐゴシック"/>
                        </a:rPr>
                        <a:t>Purpo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UI Planning &amp; Development. Offi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Jan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Data for </a:t>
                      </a:r>
                      <a:r>
                        <a:rPr b="0" i="1" lang="nl-NL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University Rank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Dept of Physics, U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Feb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Accredit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F. of Nursing U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March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Accredit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F. of Public Health U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March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Accreditation</a:t>
                      </a:r>
                      <a:r>
                        <a:rPr b="0" lang="id-ID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,</a:t>
                      </a:r>
                      <a:r>
                        <a:rPr b="0" lang="en-US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 data support for department improvement program (curricula reform &amp; language laboratorium development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International Office, U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April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Accredit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Electrical Engineering</a:t>
                      </a:r>
                      <a:r>
                        <a:rPr b="0" lang="id-ID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, </a:t>
                      </a:r>
                      <a:r>
                        <a:rPr b="0" lang="en-GB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UI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May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Accreditation</a:t>
                      </a:r>
                      <a:r>
                        <a:rPr b="0" lang="id-ID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,</a:t>
                      </a:r>
                      <a:r>
                        <a:rPr b="0" lang="en-US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new curricula developm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Communication Office U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May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buClr>
                          <a:srgbClr val="000000"/>
                        </a:buClr>
                        <a:buFont typeface="Symbol" charset="2"/>
                        <a:buChar char="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en-US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Guidelines for UI entrance (</a:t>
                      </a:r>
                      <a:r>
                        <a:rPr b="0" lang="id-ID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SIMAK UI</a:t>
                      </a:r>
                      <a:r>
                        <a:rPr b="0" lang="en-US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5000"/>
                        </a:lnSpc>
                        <a:buClr>
                          <a:srgbClr val="000000"/>
                        </a:buClr>
                        <a:buFont typeface="Symbol" charset="2"/>
                        <a:buChar char="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en-US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Study Program Education Exhibi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F. of Humanities U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Oct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Accredit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F. of Economics U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Jan 20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Accredit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F. of Math &amp; Natural Science U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Jan 20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263b86"/>
                          </a:solidFill>
                          <a:latin typeface="Arial Narrow"/>
                          <a:ea typeface="ＭＳ Ｐゴシック"/>
                        </a:rPr>
                        <a:t>Accredit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27F0-3DF7-4B5A-BFF6-DB3A36C5FE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In summary…</a:t>
            </a: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200" y="1837800"/>
            <a:ext cx="78152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263b8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3b86"/>
                </a:solidFill>
                <a:latin typeface="Calibri"/>
              </a:rPr>
              <a:t>History of TS at university level</a:t>
            </a:r>
            <a:endParaRPr b="0" lang="en-US" sz="2100" spc="-1" strike="noStrike">
              <a:solidFill>
                <a:srgbClr val="263b86"/>
              </a:solidFill>
              <a:latin typeface="Calibri"/>
            </a:endParaRPr>
          </a:p>
          <a:p>
            <a:pPr lvl="1" marL="722160" indent="-419040">
              <a:lnSpc>
                <a:spcPct val="90000"/>
              </a:lnSpc>
              <a:spcBef>
                <a:spcPts val="524"/>
              </a:spcBef>
              <a:buClr>
                <a:srgbClr val="263b8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3b86"/>
                </a:solidFill>
                <a:latin typeface="Calibri"/>
              </a:rPr>
              <a:t>TS is not quick-fix &amp; instant, but need endurance, resilience, and prolonged learning</a:t>
            </a:r>
            <a:endParaRPr b="0" lang="en-US" sz="2100" spc="-1" strike="noStrike">
              <a:solidFill>
                <a:srgbClr val="263b8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263b8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3b86"/>
                </a:solidFill>
                <a:latin typeface="Calibri"/>
              </a:rPr>
              <a:t>Improvement of TSUI</a:t>
            </a:r>
            <a:endParaRPr b="0" lang="en-US" sz="2100" spc="-1" strike="noStrike">
              <a:solidFill>
                <a:srgbClr val="263b86"/>
              </a:solidFill>
              <a:latin typeface="Calibri"/>
            </a:endParaRPr>
          </a:p>
          <a:p>
            <a:pPr lvl="1" marL="722160" indent="-419040">
              <a:lnSpc>
                <a:spcPct val="90000"/>
              </a:lnSpc>
              <a:spcBef>
                <a:spcPts val="524"/>
              </a:spcBef>
              <a:buClr>
                <a:srgbClr val="263b8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3b86"/>
                </a:solidFill>
                <a:latin typeface="Calibri"/>
              </a:rPr>
              <a:t>TS can always be improved (design &amp; method, target population, content)</a:t>
            </a:r>
            <a:endParaRPr b="0" lang="en-US" sz="2100" spc="-1" strike="noStrike">
              <a:solidFill>
                <a:srgbClr val="263b8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263b8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3b86"/>
                </a:solidFill>
                <a:latin typeface="Calibri"/>
              </a:rPr>
              <a:t>Management of TSUI</a:t>
            </a:r>
            <a:endParaRPr b="0" lang="en-US" sz="2100" spc="-1" strike="noStrike">
              <a:solidFill>
                <a:srgbClr val="263b86"/>
              </a:solidFill>
              <a:latin typeface="Calibri"/>
            </a:endParaRPr>
          </a:p>
          <a:p>
            <a:pPr lvl="1" marL="722160" indent="-419040">
              <a:lnSpc>
                <a:spcPct val="90000"/>
              </a:lnSpc>
              <a:spcBef>
                <a:spcPts val="524"/>
              </a:spcBef>
              <a:buClr>
                <a:srgbClr val="263b8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3b86"/>
                </a:solidFill>
                <a:latin typeface="Calibri"/>
              </a:rPr>
              <a:t>Needs strong management support</a:t>
            </a:r>
            <a:endParaRPr b="0" lang="en-US" sz="2100" spc="-1" strike="noStrike">
              <a:solidFill>
                <a:srgbClr val="263b86"/>
              </a:solidFill>
              <a:latin typeface="Calibri"/>
            </a:endParaRPr>
          </a:p>
          <a:p>
            <a:pPr lvl="1" marL="722160" indent="-419040">
              <a:lnSpc>
                <a:spcPct val="90000"/>
              </a:lnSpc>
              <a:spcBef>
                <a:spcPts val="524"/>
              </a:spcBef>
              <a:buClr>
                <a:srgbClr val="263b8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3b86"/>
                </a:solidFill>
                <a:latin typeface="Calibri"/>
              </a:rPr>
              <a:t>Needs to be managed in a unit (in UI: CDC)</a:t>
            </a:r>
            <a:endParaRPr b="0" lang="en-US" sz="2100" spc="-1" strike="noStrike">
              <a:solidFill>
                <a:srgbClr val="263b8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263b8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3b86"/>
                </a:solidFill>
                <a:latin typeface="Calibri"/>
              </a:rPr>
              <a:t>Organization Structure</a:t>
            </a:r>
            <a:endParaRPr b="0" lang="en-US" sz="2100" spc="-1" strike="noStrike">
              <a:solidFill>
                <a:srgbClr val="263b86"/>
              </a:solidFill>
              <a:latin typeface="Calibri"/>
            </a:endParaRPr>
          </a:p>
          <a:p>
            <a:pPr lvl="1" marL="722160" indent="-419040">
              <a:lnSpc>
                <a:spcPct val="90000"/>
              </a:lnSpc>
              <a:spcBef>
                <a:spcPts val="524"/>
              </a:spcBef>
              <a:buClr>
                <a:srgbClr val="263b8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3b86"/>
                </a:solidFill>
                <a:latin typeface="Calibri"/>
              </a:rPr>
              <a:t>Small but effective </a:t>
            </a:r>
            <a:endParaRPr b="0" lang="en-US" sz="2100" spc="-1" strike="noStrike">
              <a:solidFill>
                <a:srgbClr val="263b8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263b8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3b86"/>
                </a:solidFill>
                <a:latin typeface="Calibri"/>
              </a:rPr>
              <a:t>Financial Aspect</a:t>
            </a:r>
            <a:endParaRPr b="0" lang="en-US" sz="2100" spc="-1" strike="noStrike">
              <a:solidFill>
                <a:srgbClr val="263b86"/>
              </a:solidFill>
              <a:latin typeface="Calibri"/>
            </a:endParaRPr>
          </a:p>
          <a:p>
            <a:pPr lvl="1" marL="722160" indent="-419040">
              <a:lnSpc>
                <a:spcPct val="90000"/>
              </a:lnSpc>
              <a:spcBef>
                <a:spcPts val="524"/>
              </a:spcBef>
              <a:buClr>
                <a:srgbClr val="263b8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3b86"/>
                </a:solidFill>
                <a:latin typeface="Calibri"/>
              </a:rPr>
              <a:t>Financial security combined by appropriate strategy (yearly budget, re-allocation budget)</a:t>
            </a:r>
            <a:endParaRPr b="0" lang="en-US" sz="21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5FE-21C8-4AF2-91E2-F55107A301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In summary…</a:t>
            </a: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71560" y="1856880"/>
            <a:ext cx="7408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5000"/>
              </a:lnSpc>
              <a:spcBef>
                <a:spcPts val="601"/>
              </a:spcBef>
              <a:buClr>
                <a:srgbClr val="263b8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Coordination with other Directorates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722160" indent="-419040">
              <a:lnSpc>
                <a:spcPct val="95000"/>
              </a:lnSpc>
              <a:spcBef>
                <a:spcPts val="601"/>
              </a:spcBef>
              <a:buClr>
                <a:srgbClr val="263b8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hould be done early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722160" indent="-419040">
              <a:lnSpc>
                <a:spcPct val="95000"/>
              </a:lnSpc>
              <a:spcBef>
                <a:spcPts val="601"/>
              </a:spcBef>
              <a:buClr>
                <a:srgbClr val="263b8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Use university hierarchy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marL="457200" indent="-457200">
              <a:lnSpc>
                <a:spcPct val="95000"/>
              </a:lnSpc>
              <a:spcBef>
                <a:spcPts val="601"/>
              </a:spcBef>
              <a:buClr>
                <a:srgbClr val="263b8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Result Dissemination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722160" indent="-419040">
              <a:lnSpc>
                <a:spcPct val="95000"/>
              </a:lnSpc>
              <a:spcBef>
                <a:spcPts val="601"/>
              </a:spcBef>
              <a:buClr>
                <a:srgbClr val="263b8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Essential activity and to be scheduled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722160" indent="-419040">
              <a:lnSpc>
                <a:spcPct val="95000"/>
              </a:lnSpc>
              <a:spcBef>
                <a:spcPts val="601"/>
              </a:spcBef>
              <a:buClr>
                <a:srgbClr val="263b8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Upper  management, faculty, student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marL="457200" indent="-457200">
              <a:lnSpc>
                <a:spcPct val="95000"/>
              </a:lnSpc>
              <a:spcBef>
                <a:spcPts val="601"/>
              </a:spcBef>
              <a:buClr>
                <a:srgbClr val="263b8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ocialization to Alumni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722160" indent="-419040">
              <a:lnSpc>
                <a:spcPct val="95000"/>
              </a:lnSpc>
              <a:spcBef>
                <a:spcPts val="601"/>
              </a:spcBef>
              <a:buClr>
                <a:srgbClr val="263b8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Pre-reminder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marL="457200" indent="-457200">
              <a:lnSpc>
                <a:spcPct val="95000"/>
              </a:lnSpc>
              <a:spcBef>
                <a:spcPts val="601"/>
              </a:spcBef>
              <a:buClr>
                <a:srgbClr val="263b8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Advantage for Other Units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722160" indent="-419040">
              <a:lnSpc>
                <a:spcPct val="95000"/>
              </a:lnSpc>
              <a:spcBef>
                <a:spcPts val="601"/>
              </a:spcBef>
              <a:buClr>
                <a:srgbClr val="263b8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Continuous support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722160" indent="-419040">
              <a:lnSpc>
                <a:spcPct val="95000"/>
              </a:lnSpc>
              <a:spcBef>
                <a:spcPts val="601"/>
              </a:spcBef>
              <a:buClr>
                <a:srgbClr val="263b8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Maintaining trust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E97-AE2E-4EAF-B927-FF18AF205F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155680" y="2367000"/>
            <a:ext cx="51627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ank You Very Muc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or your kind atten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13A-F6B3-4194-83A4-9A2A4A7B9E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History of TSUI </a:t>
            </a:r>
            <a:br>
              <a:rPr sz="4400"/>
            </a:b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at University Level</a:t>
            </a:r>
            <a:endParaRPr b="0" lang="en-US" sz="4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66440" y="2038320"/>
            <a:ext cx="82724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3b86"/>
                </a:solidFill>
                <a:latin typeface="Calibri"/>
              </a:rPr>
              <a:t>UI has implemented university TS in 2008,</a:t>
            </a: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3b86"/>
                </a:solidFill>
                <a:latin typeface="Calibri"/>
              </a:rPr>
              <a:t>In 2010, the method and instrument were upgraded.</a:t>
            </a: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3b86"/>
                </a:solidFill>
                <a:latin typeface="Calibri"/>
              </a:rPr>
              <a:t>Characteristics of UI TS since 2010 include:</a:t>
            </a: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Censal (not sampling), 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elf-administered online data collection (no paper and interview), 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Standardized instrument (questionnaire), and 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Calibri"/>
              </a:rPr>
              <a:t>Regular (implemented yearly)</a:t>
            </a:r>
            <a:endParaRPr b="0" lang="en-US" sz="2400" spc="-1" strike="noStrike">
              <a:solidFill>
                <a:srgbClr val="263b86"/>
              </a:solidFill>
              <a:latin typeface="Calibri"/>
            </a:endParaRPr>
          </a:p>
          <a:p>
            <a:pPr marL="272880" indent="-272880">
              <a:spcBef>
                <a:spcPts val="624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63b86"/>
                </a:solidFill>
                <a:latin typeface="Calibri"/>
              </a:rPr>
              <a:t>Gradual expansion of target population</a:t>
            </a:r>
            <a:endParaRPr b="0" lang="en-US" sz="25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3E4-06C9-4E56-9A75-54DBC1AA66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AE45-BE39-41BA-BF8C-1EFC1EDEFA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2324160" y="2610000"/>
            <a:ext cx="1333440" cy="1309680"/>
          </a:xfrm>
          <a:prstGeom prst="ellipse">
            <a:avLst/>
          </a:prstGeom>
          <a:solidFill>
            <a:srgbClr val="efe1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4495680" y="2514600"/>
            <a:ext cx="1544760" cy="1521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6858000" y="2247840"/>
            <a:ext cx="1716120" cy="182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Line 9"/>
          <p:cNvSpPr/>
          <p:nvPr/>
        </p:nvSpPr>
        <p:spPr>
          <a:xfrm>
            <a:off x="3733920" y="3238560"/>
            <a:ext cx="714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Line 10"/>
          <p:cNvSpPr/>
          <p:nvPr/>
        </p:nvSpPr>
        <p:spPr>
          <a:xfrm>
            <a:off x="6095880" y="31813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Oval 11"/>
          <p:cNvSpPr/>
          <p:nvPr/>
        </p:nvSpPr>
        <p:spPr>
          <a:xfrm>
            <a:off x="457200" y="2762280"/>
            <a:ext cx="99072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Line 12"/>
          <p:cNvSpPr/>
          <p:nvPr/>
        </p:nvSpPr>
        <p:spPr>
          <a:xfrm>
            <a:off x="1495440" y="3238560"/>
            <a:ext cx="790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298440" y="4346640"/>
            <a:ext cx="1633680" cy="161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SUI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on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1 regu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=93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2208240" y="4354560"/>
            <a:ext cx="1755720" cy="161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SUI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ns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1 regu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=527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4222800" y="4379760"/>
            <a:ext cx="2173320" cy="1923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SUI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ns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1 regu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1 exten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=556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6656400" y="4367160"/>
            <a:ext cx="2222640" cy="2228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SUI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ns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1 regu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1 exten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/Specia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=847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"/>
          <p:cNvSpPr/>
          <p:nvPr/>
        </p:nvSpPr>
        <p:spPr>
          <a:xfrm>
            <a:off x="684360" y="39060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Improvement of TSU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865-93A4-4A45-BB88-20D7EF0C68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04840" y="55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3b86"/>
                </a:solidFill>
                <a:latin typeface="Cambria"/>
              </a:rPr>
              <a:t>Response Statistics of TSUI </a:t>
            </a:r>
            <a:br>
              <a:rPr sz="4000"/>
            </a:br>
            <a:r>
              <a:rPr b="0" lang="en-US" sz="4000" spc="-1" strike="noStrike">
                <a:solidFill>
                  <a:srgbClr val="263b86"/>
                </a:solidFill>
                <a:latin typeface="Cambria"/>
              </a:rPr>
              <a:t>2011-2012</a:t>
            </a:r>
            <a:r>
              <a:rPr b="0" lang="id-ID" sz="4000" spc="-1" strike="noStrike">
                <a:solidFill>
                  <a:srgbClr val="263b86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8437680" y="304920"/>
            <a:ext cx="53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557D-4036-4A3B-8233-302CECEEA4F2}" type="slidenum">
              <a:rPr b="1" lang="en-GB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85840" y="2106720"/>
          <a:ext cx="8613720" cy="4016160"/>
        </p:xfrm>
        <a:graphic>
          <a:graphicData uri="http://schemas.openxmlformats.org/drawingml/2006/table">
            <a:tbl>
              <a:tblPr/>
              <a:tblGrid>
                <a:gridCol w="2571840"/>
                <a:gridCol w="2114280"/>
                <a:gridCol w="971640"/>
                <a:gridCol w="2079720"/>
                <a:gridCol w="876240"/>
              </a:tblGrid>
              <a:tr h="49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TS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Number o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target popu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52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bc01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55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bc01e"/>
                    </a:solidFill>
                  </a:tcPr>
                </a:tc>
              </a:tr>
              <a:tr h="3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Undeliv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6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7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Sub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46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4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Responde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2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bc01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2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bc01e"/>
                    </a:solidFill>
                  </a:tcPr>
                </a:tc>
              </a:tr>
              <a:tr h="67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Gross response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25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/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527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*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4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2308/5564*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2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7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Net response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25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/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460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*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5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2308/4841*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8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B90-3B26-4247-A5EA-0528CB8171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Management of TSUI </a:t>
            </a:r>
            <a:r>
              <a:rPr b="0" lang="en-US" sz="2400" spc="-1" strike="noStrike">
                <a:solidFill>
                  <a:srgbClr val="263b86"/>
                </a:solidFill>
                <a:latin typeface="Cambria"/>
              </a:rPr>
              <a:t>(1)</a:t>
            </a:r>
            <a:endParaRPr b="0" lang="en-US" sz="2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6280" y="2037960"/>
            <a:ext cx="781524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5000"/>
              </a:lnSpc>
              <a:spcBef>
                <a:spcPts val="649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3b86"/>
                </a:solidFill>
                <a:latin typeface="Calibri"/>
              </a:rPr>
              <a:t>Career Development Center (CDC) is the implementer of TSUI since 2008. </a:t>
            </a: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  <a:p>
            <a:pPr marL="259200" indent="-259200">
              <a:lnSpc>
                <a:spcPct val="95000"/>
              </a:lnSpc>
              <a:spcBef>
                <a:spcPts val="649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3b86"/>
                </a:solidFill>
                <a:latin typeface="Calibri"/>
              </a:rPr>
              <a:t>The decision was made because:</a:t>
            </a: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  <a:p>
            <a:pPr lvl="1" marL="547200" indent="-259560">
              <a:lnSpc>
                <a:spcPct val="95000"/>
              </a:lnSpc>
              <a:spcBef>
                <a:spcPts val="649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3b86"/>
                </a:solidFill>
                <a:latin typeface="Calibri"/>
              </a:rPr>
              <a:t>Relevant with the main target group of CDC-UI which is new alumni</a:t>
            </a: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  <a:p>
            <a:pPr lvl="1" marL="547200" indent="-259560">
              <a:lnSpc>
                <a:spcPct val="95000"/>
              </a:lnSpc>
              <a:spcBef>
                <a:spcPts val="649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3b86"/>
                </a:solidFill>
                <a:latin typeface="Calibri"/>
              </a:rPr>
              <a:t>The experience of CDC-UI’s personnel in conducting TS at the faculty level</a:t>
            </a: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  <a:p>
            <a:pPr lvl="1" marL="547200" indent="-259560">
              <a:lnSpc>
                <a:spcPct val="95000"/>
              </a:lnSpc>
              <a:spcBef>
                <a:spcPts val="649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3b86"/>
                </a:solidFill>
                <a:latin typeface="Calibri"/>
              </a:rPr>
              <a:t>Limited people in UI had knowledge and experience in conducting TS </a:t>
            </a: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  <a:p>
            <a:pPr lvl="1" marL="547200" indent="-259560">
              <a:lnSpc>
                <a:spcPct val="95000"/>
              </a:lnSpc>
              <a:spcBef>
                <a:spcPts val="649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3b86"/>
                </a:solidFill>
                <a:latin typeface="Calibri"/>
              </a:rPr>
              <a:t>Trust from upper management</a:t>
            </a: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E5C-7FA0-4745-B8BC-BCAB7C2A39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71200" y="2037960"/>
            <a:ext cx="781524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3b86"/>
                </a:solidFill>
                <a:latin typeface="Calibri"/>
              </a:rPr>
              <a:t>CDC-UI is employing different types of employee including </a:t>
            </a: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649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3b86"/>
                </a:solidFill>
                <a:latin typeface="Calibri"/>
              </a:rPr>
              <a:t>Researchers (lead and co-lead, paid mainly by the government), </a:t>
            </a: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649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3b86"/>
                </a:solidFill>
                <a:latin typeface="Calibri"/>
              </a:rPr>
              <a:t>Project/research based staff (data and IT coordinator, paid mainly by the university)</a:t>
            </a: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  <a:p>
            <a:pPr lvl="1" marL="576360" indent="-273240">
              <a:spcBef>
                <a:spcPts val="649"/>
              </a:spcBef>
              <a:buClr>
                <a:srgbClr val="80808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3b86"/>
                </a:solidFill>
                <a:latin typeface="Calibri"/>
              </a:rPr>
              <a:t>Part-time worker (assistant researchers, mostly fresh graduate for reminder’s job, paid monthly during the project).  </a:t>
            </a:r>
            <a:endParaRPr b="0" lang="en-US" sz="2600" spc="-1" strike="noStrike">
              <a:solidFill>
                <a:srgbClr val="263b8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</a:rPr>
              <a:t>Management of TSUI </a:t>
            </a:r>
            <a:r>
              <a:rPr b="0" lang="en-US" sz="2400" spc="-1" strike="noStrike">
                <a:solidFill>
                  <a:srgbClr val="263b86"/>
                </a:solidFill>
                <a:latin typeface="Cambria"/>
              </a:rPr>
              <a:t>(2)</a:t>
            </a:r>
            <a:endParaRPr b="0" lang="en-US" sz="2400" spc="-1" strike="noStrike">
              <a:solidFill>
                <a:srgbClr val="263b86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F054-D2EB-4858-9F62-E23AC33739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4759-740E-4122-A46A-662C3513B31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EAFB-092C-4A74-9E00-8266D95C833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57"/>
          <p:cNvSpPr/>
          <p:nvPr/>
        </p:nvSpPr>
        <p:spPr>
          <a:xfrm>
            <a:off x="2639880" y="1476360"/>
            <a:ext cx="2379960" cy="368280"/>
          </a:xfrm>
          <a:prstGeom prst="rect">
            <a:avLst/>
          </a:prstGeom>
          <a:solidFill>
            <a:srgbClr val="fbc0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 Box 58"/>
          <p:cNvSpPr/>
          <p:nvPr/>
        </p:nvSpPr>
        <p:spPr>
          <a:xfrm>
            <a:off x="2657520" y="2290680"/>
            <a:ext cx="2362320" cy="368280"/>
          </a:xfrm>
          <a:prstGeom prst="rect">
            <a:avLst/>
          </a:prstGeom>
          <a:solidFill>
            <a:srgbClr val="fbc0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Lucida Sans"/>
                <a:ea typeface="Arial"/>
              </a:rPr>
              <a:t>Co-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59"/>
          <p:cNvSpPr/>
          <p:nvPr/>
        </p:nvSpPr>
        <p:spPr>
          <a:xfrm>
            <a:off x="874800" y="3048120"/>
            <a:ext cx="23619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Data Coordin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60"/>
          <p:cNvSpPr/>
          <p:nvPr/>
        </p:nvSpPr>
        <p:spPr>
          <a:xfrm>
            <a:off x="874800" y="4849920"/>
            <a:ext cx="1446120" cy="6973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sist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search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61"/>
          <p:cNvSpPr/>
          <p:nvPr/>
        </p:nvSpPr>
        <p:spPr>
          <a:xfrm>
            <a:off x="3078000" y="4343400"/>
            <a:ext cx="1447920" cy="6973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sist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search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id-ID" sz="1600" spc="-1" strike="noStrike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62"/>
          <p:cNvSpPr/>
          <p:nvPr/>
        </p:nvSpPr>
        <p:spPr>
          <a:xfrm>
            <a:off x="5346720" y="4762440"/>
            <a:ext cx="1447920" cy="6973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sist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search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id-ID" sz="1600" spc="-1" strike="noStrike">
                <a:solidFill>
                  <a:srgbClr val="000000"/>
                </a:solidFill>
                <a:latin typeface="Lucida Sans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 Box 63"/>
          <p:cNvSpPr/>
          <p:nvPr/>
        </p:nvSpPr>
        <p:spPr>
          <a:xfrm>
            <a:off x="7369200" y="4316400"/>
            <a:ext cx="1447920" cy="6973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sist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search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id-ID" sz="1600" spc="-1" strike="noStrike">
                <a:solidFill>
                  <a:srgbClr val="000000"/>
                </a:solidFill>
                <a:latin typeface="Lucida Sans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Line 64"/>
          <p:cNvSpPr/>
          <p:nvPr/>
        </p:nvSpPr>
        <p:spPr>
          <a:xfrm>
            <a:off x="1600200" y="3733920"/>
            <a:ext cx="649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Line 65"/>
          <p:cNvSpPr/>
          <p:nvPr/>
        </p:nvSpPr>
        <p:spPr>
          <a:xfrm>
            <a:off x="1600200" y="3733920"/>
            <a:ext cx="0" cy="11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Line 66"/>
          <p:cNvSpPr/>
          <p:nvPr/>
        </p:nvSpPr>
        <p:spPr>
          <a:xfrm>
            <a:off x="379728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67"/>
          <p:cNvSpPr/>
          <p:nvPr/>
        </p:nvSpPr>
        <p:spPr>
          <a:xfrm>
            <a:off x="6073920" y="3733920"/>
            <a:ext cx="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68"/>
          <p:cNvSpPr/>
          <p:nvPr/>
        </p:nvSpPr>
        <p:spPr>
          <a:xfrm>
            <a:off x="809640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Line 69"/>
          <p:cNvSpPr/>
          <p:nvPr/>
        </p:nvSpPr>
        <p:spPr>
          <a:xfrm>
            <a:off x="26668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70"/>
          <p:cNvSpPr/>
          <p:nvPr/>
        </p:nvSpPr>
        <p:spPr>
          <a:xfrm>
            <a:off x="3824280" y="1817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Line 71"/>
          <p:cNvSpPr/>
          <p:nvPr/>
        </p:nvSpPr>
        <p:spPr>
          <a:xfrm>
            <a:off x="3807000" y="2666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Line 72"/>
          <p:cNvSpPr/>
          <p:nvPr/>
        </p:nvSpPr>
        <p:spPr>
          <a:xfrm>
            <a:off x="3236760" y="3200400"/>
            <a:ext cx="95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 Box 73"/>
          <p:cNvSpPr/>
          <p:nvPr/>
        </p:nvSpPr>
        <p:spPr>
          <a:xfrm>
            <a:off x="7315200" y="3052800"/>
            <a:ext cx="1371600" cy="368280"/>
          </a:xfrm>
          <a:prstGeom prst="rect">
            <a:avLst/>
          </a:prstGeom>
          <a:solidFill>
            <a:srgbClr val="d0b9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 Box 75"/>
          <p:cNvSpPr/>
          <p:nvPr/>
        </p:nvSpPr>
        <p:spPr>
          <a:xfrm>
            <a:off x="4724280" y="3048120"/>
            <a:ext cx="23623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IT Coordin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76"/>
          <p:cNvSpPr/>
          <p:nvPr/>
        </p:nvSpPr>
        <p:spPr>
          <a:xfrm>
            <a:off x="419112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Line 77"/>
          <p:cNvSpPr/>
          <p:nvPr/>
        </p:nvSpPr>
        <p:spPr>
          <a:xfrm>
            <a:off x="5019840" y="2514600"/>
            <a:ext cx="282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Line 78"/>
          <p:cNvSpPr/>
          <p:nvPr/>
        </p:nvSpPr>
        <p:spPr>
          <a:xfrm>
            <a:off x="784872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27"/>
          <p:cNvSpPr/>
          <p:nvPr/>
        </p:nvSpPr>
        <p:spPr>
          <a:xfrm>
            <a:off x="2257200" y="380880"/>
            <a:ext cx="541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Cambria"/>
                <a:ea typeface="Arial"/>
              </a:rPr>
              <a:t>Organization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00200" y="1695600"/>
            <a:ext cx="10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1677960"/>
            <a:ext cx="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131-5B10-45EC-AB0E-16B59E4170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4920" y="4633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Cambria"/>
              </a:rPr>
              <a:t>Data Collection and </a:t>
            </a:r>
            <a:r>
              <a:rPr b="0" i="1" lang="en-US" sz="3200" spc="-1" strike="noStrike">
                <a:solidFill>
                  <a:srgbClr val="263b86"/>
                </a:solidFill>
                <a:latin typeface="Cambria"/>
              </a:rPr>
              <a:t>Reminder</a:t>
            </a:r>
            <a:endParaRPr b="0" lang="en-US" sz="3200" spc="-1" strike="noStrike">
              <a:solidFill>
                <a:srgbClr val="263b86"/>
              </a:solidFill>
              <a:latin typeface="Cambria"/>
            </a:endParaRPr>
          </a:p>
        </p:txBody>
      </p:sp>
      <p:pic>
        <p:nvPicPr>
          <p:cNvPr id="390" name="Picture 6" descr="foto tracer C"/>
          <p:cNvPicPr/>
          <p:nvPr/>
        </p:nvPicPr>
        <p:blipFill>
          <a:blip r:embed="rId2"/>
          <a:stretch/>
        </p:blipFill>
        <p:spPr>
          <a:xfrm>
            <a:off x="4091040" y="1522440"/>
            <a:ext cx="4781520" cy="37544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foto tracer A"/>
          <p:cNvPicPr/>
          <p:nvPr/>
        </p:nvPicPr>
        <p:blipFill>
          <a:blip r:embed="rId3"/>
          <a:stretch/>
        </p:blipFill>
        <p:spPr>
          <a:xfrm>
            <a:off x="358920" y="1347840"/>
            <a:ext cx="3492360" cy="2619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foto tracer B"/>
          <p:cNvPicPr/>
          <p:nvPr/>
        </p:nvPicPr>
        <p:blipFill>
          <a:blip r:embed="rId4"/>
          <a:stretch/>
        </p:blipFill>
        <p:spPr>
          <a:xfrm>
            <a:off x="358920" y="4059360"/>
            <a:ext cx="3600360" cy="258912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9"/>
          <p:cNvSpPr/>
          <p:nvPr/>
        </p:nvSpPr>
        <p:spPr>
          <a:xfrm>
            <a:off x="4255560" y="5538960"/>
            <a:ext cx="3163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ctivities of Data Collecto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39A-0625-43B5-8266-F3F27F1CC2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07:42:22Z</dcterms:created>
  <dc:creator>Ahmad Syafiq</dc:creator>
  <dc:description/>
  <dc:language>en-US</dc:language>
  <cp:lastModifiedBy>fika</cp:lastModifiedBy>
  <dcterms:modified xsi:type="dcterms:W3CDTF">2012-10-23T01:53:19Z</dcterms:modified>
  <cp:revision>351</cp:revision>
  <dc:subject/>
  <dc:title>Tracer Study Concepts and Principles</dc:title>
</cp:coreProperties>
</file>