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4E09-952E-4E9A-8C4F-C232E01B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8CBC-901A-4AD5-BEF9-3941E54D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92DA-63FA-4ED9-8E0E-E0825E5B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3B43-6B0F-47B0-9FA8-50F0664E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C85E-A06D-44D8-98B6-E964FB4E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A4B3-75A8-40EA-A046-AF0670B2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BD23-D046-459A-BD06-AD42EDCA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55ED-58BD-4218-BC69-05C23A53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69A3-6748-4BEC-978B-E74CE8D6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54E7-FF98-4FF9-8934-69B5F2D7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1FF8-A9F0-453F-BAE4-043D594C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0EE6-4184-4167-BB97-64F41D07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EB61-FB63-4B39-ABD1-3992753E556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27432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ternational​ Conference on Experience with Link and Match in Higher Education: Results of Tracer Study - Namibi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ate: 24 October 2012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Bali, Indonesia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Presenters: Ms. Nangula Iipumbu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                      </a:t>
            </a: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Mrs. Anneley Willems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National Council for Higher Education, Namibia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048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5e47"/>
                </a:solidFill>
                <a:latin typeface="Cambria"/>
              </a:rPr>
              <a:t>LESSONS LEARNT</a:t>
            </a:r>
            <a:br>
              <a:rPr sz="4100"/>
            </a:b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Keep the questionnaire sh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void questions that are of no use to the analys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void ambiguity of terms, i.e. course of study; titles of qualifications; areas of specializ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void open questions that are hard to categorize i.e. job titl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5e47"/>
                </a:solidFill>
                <a:latin typeface="Cambria"/>
              </a:rPr>
              <a:t>WAY FORWARD</a:t>
            </a:r>
            <a:br>
              <a:rPr sz="4100"/>
            </a:b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CHE to commission a narrower tracer study to find unemployed graduat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675e47"/>
                </a:solidFill>
                <a:latin typeface="Cambria"/>
              </a:rPr>
              <a:t>THANK YOU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5e47"/>
                </a:solidFill>
                <a:latin typeface="Cambria"/>
              </a:rPr>
              <a:t>PURPOSE/OBJECTIVE</a:t>
            </a: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S</a:t>
            </a:r>
            <a:br>
              <a:rPr sz="4100"/>
            </a:b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urrent employment and economic status of graduat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levance and quality of graduates’ education in their work contex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5e47"/>
                </a:solidFill>
                <a:latin typeface="Cambria"/>
              </a:rPr>
              <a:t>TARGET POPULATION </a:t>
            </a:r>
            <a:br>
              <a:rPr sz="4100"/>
            </a:b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raduates from public higher education institutions, who completed their studies in the years 1999 – 2008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5e47"/>
                </a:solidFill>
                <a:latin typeface="Cambria"/>
              </a:rPr>
              <a:t>RESEARCH DESIGN</a:t>
            </a:r>
            <a:br>
              <a:rPr sz="4100"/>
            </a:b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Qualitativ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Quantitativ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5e47"/>
                </a:solidFill>
                <a:latin typeface="Cambria"/>
              </a:rPr>
              <a:t>METHODOLOGY</a:t>
            </a:r>
            <a:br>
              <a:rPr sz="4100"/>
            </a:b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Questionnair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terview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5e47"/>
                </a:solidFill>
                <a:latin typeface="Cambria"/>
              </a:rPr>
              <a:t>OUTCOMES</a:t>
            </a:r>
            <a:br>
              <a:rPr sz="4100"/>
            </a:b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ow response rat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.e. Questionnaires sent out – 862 (email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                                     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51 (mail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turned – 283 only (259 Questionnaires were usabl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UNAM 139; PoN 108; Both 12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75e47"/>
                </a:solidFill>
                <a:latin typeface="Cambria"/>
              </a:rPr>
              <a:t>MAIN CHALLENG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imited understanding of tracer studies amongst graduat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isunderstanding of the study purp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5e47"/>
                </a:solidFill>
                <a:latin typeface="Cambria"/>
              </a:rPr>
              <a:t>EMPLOYERS’ VIEWS OF GRADUATES</a:t>
            </a:r>
            <a:br>
              <a:rPr sz="4100"/>
            </a:b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6761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mmitted graduat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raduates not well prepared for the labour mark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oor in English proficienc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illingness to study furth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adequate relationship between employers and HE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sufficient research collaboration between employers and HE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5e47"/>
                </a:solidFill>
                <a:latin typeface="Cambria"/>
              </a:rPr>
              <a:t>RECOMMENDATIONS FROM THE STUDY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Is should facilitate internships for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Is should improve the quality of teaching methods, assessment systems, interaction, library stock &amp; services and the quality of equipment and infrastruct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9:38:42Z</dcterms:created>
  <dc:creator>user</dc:creator>
  <dc:description/>
  <dc:language>en-US</dc:language>
  <cp:lastModifiedBy>anneley</cp:lastModifiedBy>
  <dcterms:modified xsi:type="dcterms:W3CDTF">2012-10-10T12:56:25Z</dcterms:modified>
  <cp:revision>11</cp:revision>
  <dc:subject/>
  <dc:title>Results of Tracer Study</dc:title>
</cp:coreProperties>
</file>