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37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8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 type="sldNum" idx="39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0C9FFF8-394D-44BD-A333-80B7206C179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87AE108-44CC-40BA-8C65-A1DB622E672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99659CE-26C9-4DCF-A574-F64EC3F38C2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8B305F8-ED9D-45CE-A940-70393FD24E5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5F57151-768B-4FCA-8D02-D5C9AF7159C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D07C5FA-C068-4FCF-AC6D-A54A17F461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CC982EC-461D-4D59-929D-69E49C07D30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A39-28FB-4F49-BEFB-DB911FC2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B3E-7150-4867-9C68-D6D83D2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774C3-8802-4D21-8D79-0078CB4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A61D7-DFCB-42F6-A0F9-B454511D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1521-D938-4C80-A49B-453A06F0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24FB9-B936-4C8C-9EF6-F1CFD42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D478-30C6-4CE1-A276-5D81797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34C5F-5125-442A-993B-DF9CD6D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BBDC0-00B7-41E6-8217-F9D40876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A098B-A60B-4A20-9230-D97DB278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11966-04ED-4BDA-B454-7E358FEC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852CC-B0FE-46D3-8631-B41552BA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5C6-390B-4B8F-853B-83EE768C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2C4D-EA76-40BC-9935-769B39F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F6C4F-BF3D-4435-BA1D-7E9E97B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1CBA1-7FDC-46BD-9D14-B29B979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F8C4D-8C73-464E-86F3-029A76C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71CAC-C921-48FD-9D9F-504911C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4E32-4F05-4434-BB6F-2FDC79E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65F10-9FB5-4789-BD5C-8F87855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69D9-406B-48F5-A20C-810ED98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4444D-0890-4A18-B301-71FC080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8595E-F1C9-4A95-BE54-75191D8F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AE3-5B05-451C-8235-7C5A4AF5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72402-5397-47AF-9E9F-CDCBDD76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BE69-ABEF-4F90-83B2-C19C64B7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F0803-3ECE-4FAD-AAC5-9FE696B2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19AAB-20D8-482F-A2BC-8C30323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0F78-40CB-45A0-9C7A-86AE5B44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4A4C-975B-43E4-B064-BF6DE9A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36616-EDA1-4DB7-9748-C6D8221E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A305-E3D4-4777-B34E-F8786CC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6C4EF-36E2-47D8-A9E4-843A759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260D2-B983-4BC5-8891-E53993E0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A319-AC76-4B73-A7F1-42255491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9CD0-E5ED-4AAF-AD7C-1B4918C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45BEA-3F9C-4B38-BA9F-B771799A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E933B-2B3C-4164-8587-76C41AB5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76DA4-BD49-48BA-8F6D-C2E2CC28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5AB98-C67F-4B3F-BD22-AA03E03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34F2F-0A0B-405A-B418-CCF08347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EE134-0FA0-4D99-BF72-D5B5549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2EC0D-95F1-45C9-AC44-322A8F20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735DE-63BD-4805-84DF-FDF3A026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00B06-B1C9-4A46-8CD2-F84CB93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B318-714C-4326-BB7E-D076DEE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E27D0-F4E1-4181-B362-F5F8F662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6F458-5571-4640-8E6D-B1BA4F1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5AE97-CAA7-4E6C-9671-49E0BB75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B7ED7-F104-418C-8BDA-9E22F72E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553C8-9A77-4E50-9AD0-FFE44611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285-7222-4298-82E9-95A56D0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BF4D-F84F-4C4C-8A35-949B1E8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2C6-C975-40B8-879A-39D3AAE8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0FC-D220-4FFD-BE8A-04DE2E53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0F2F-DC7A-4D69-825E-C093C08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353-409E-4FD6-B6B3-038A435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2E70-D74E-4B65-BF04-0EF999E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419E-C523-48D0-839E-57CDB9B2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EB7-9E76-4E5D-A56E-2351C0C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55E-5A6B-448F-8D48-862AF1C9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8431-69A0-43EC-8D4A-AAEDA7E3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0D76-D24A-43A3-9BCB-91CD13C4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A3DF-4746-4F29-A489-B427264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FFD6-3FCF-4EA6-BF75-92B0C045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B0E8-DCCF-47EF-9F11-C302317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7113-95EA-4A06-B521-6431C6E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BEA-F69D-40F6-B80D-1F96421E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0978-4385-401C-B31A-CD840EAB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263B-74DF-4504-BB3E-35189C2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8078-3A15-45F9-8B0F-016EDCC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CD6A-90EB-4E7E-AB99-85F4529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B338-DE37-49D8-A386-A828F59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0C13-1FC6-49C8-B636-7A7CE7A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2C31-E75C-4016-86D5-F0747334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8165-7C58-4C33-A1F9-0676B960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AD40-29B0-41AD-A093-182C288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D466-74BF-4870-9952-B2674FC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A8E-9553-4F4B-AFB7-E0197635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37FB-0AED-4FEB-A55F-AFDDBB2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EFAA-98DB-4987-A3F5-7E9B49B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30F9-F7FE-448C-A345-7ADB3C3A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18DC-8B4B-4E7C-80BA-86D46C7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4B33-F458-41A0-B5A7-8207C14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2FC8-E5E5-49A8-80A6-220FA01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365B-8230-4716-BA01-4F7E34B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27F0-05C8-4ECF-9F5E-20231B22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EC95-DF38-46A1-9DD5-15B80DA5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2883-4ED3-4BBF-AE2E-0631B39C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AD5-F3C3-4A83-9048-E948ED2B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A8F53-FB0C-4417-A55C-736F297F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1301-1DB1-4623-B60D-55C185CC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7039-4A94-41D3-9B56-3296106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EE88-94A7-48AA-9526-38EE2C7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68F7-E052-41E6-ABE3-6D8BFDB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739E-1481-4D3E-BD92-77A558F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DAAF-472E-4BEA-9CEA-C8FB6B9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2713-F79D-40C2-AEEE-FC8A883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A24D-5F3C-44D0-BF09-4811F6F0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4B1D-0AD7-4E9A-824A-C4543503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14A-2C09-42B2-AF09-E1C9894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352A-8AD5-4BC4-B6E3-F2B2A4E9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DBE1-7DA2-4BE5-8169-992DAFB1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BB6C-C042-4688-910B-A00683EA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150F-FA00-4354-AD96-8E4CEEE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6E1E-F2D3-4FB4-9543-449D61C7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8C18A-CB91-4B99-A9F5-209CE3D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D5EF-8ACB-444D-9BB1-FFB6209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5635-6084-40AB-84F8-62F3B3D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7500-DC91-4B21-8CE7-34E64AE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983D-1EF5-421E-A998-C2FD81B1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4E3-5643-4DD5-BE07-A7E8E83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8804-25BC-4B0E-974E-11712B3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5BB2-DD4E-4DC5-9EF7-CF3539DE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A7A7-6294-4849-956B-0913BA64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9524-A05F-41D7-993E-C59F966F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A80F-70B6-40CE-A9DC-C7DA8EA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8289-F063-424A-A7EC-836F54E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75D50-45BC-4B62-A3F8-3B043E4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796D-7ECE-42A4-BA1D-6731AE3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8C25-BB9E-4990-82BD-B0E97326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3848-F44B-45BE-BB71-98009EF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A96-8261-43BA-8362-4CC7BE6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75167-3FD6-44F1-AF45-937F75ED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5130C-6743-45D2-8B1D-B8E22E0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2D324-6763-4CAD-BEDD-C94547D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D213-6C55-4931-9E36-CFB37AF5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2B41-3CA0-48B1-A422-FDF51470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455E-EEB3-49BA-89CF-A248204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F8F6A-6DDC-4854-8DA5-EEAF0E38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C417-4A53-4F16-89BE-FE66019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3ADA-5B38-42B4-B3F3-39CA1EF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93D1-FAF3-4258-B94F-AD66E28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40F-8937-4E3A-B03C-E8E76B3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31FD6-A001-47CF-9865-7C7800A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42F0D-34EE-49C3-B5A4-47F725C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6FC2F-8F93-4601-888D-FD47AED9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6989-D7C5-4201-8092-7351341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0634-8EF2-4E2A-AF4A-E62CA07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F6570-9E52-4865-BD0C-96DD7BD3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7906-F4D6-415E-99F7-100B3960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086C-E4F5-40CC-AB8E-4DE81A0A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E25C-E381-4824-9893-90171260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6874-6A9D-478B-AABD-BF4224B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4842-9C48-428C-A590-608A6ACB9EB7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E3FB-9A09-4377-A79B-C15606B856A4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F0BC-478C-4CD2-B58E-156171D76355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640-37B1-41C0-97D1-21E9C5F870BD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611280" y="1413000"/>
            <a:ext cx="7924680" cy="914400"/>
          </a:xfrm>
          <a:custGeom>
            <a:avLst/>
            <a:gdLst>
              <a:gd name="textAreaLeft" fmla="*/ 0 w 7924680"/>
              <a:gd name="textAreaRight" fmla="*/ 7925040 w 792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redulogo80pix"/>
          <p:cNvPicPr/>
          <p:nvPr/>
        </p:nvPicPr>
        <p:blipFill>
          <a:blip r:embed="rId3"/>
          <a:stretch/>
        </p:blipFill>
        <p:spPr>
          <a:xfrm>
            <a:off x="468360" y="189000"/>
            <a:ext cx="1008000" cy="99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ogo%2520ub%2520Noir"/>
          <p:cNvPicPr/>
          <p:nvPr/>
        </p:nvPicPr>
        <p:blipFill>
          <a:blip r:embed="rId4"/>
          <a:stretch/>
        </p:blipFill>
        <p:spPr>
          <a:xfrm>
            <a:off x="1619280" y="189000"/>
            <a:ext cx="1512720" cy="96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A4C-264C-4090-90FB-1C29BB9ECC46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mbac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D80-D46E-4248-9F83-850640C039C6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AC85-8654-44CA-AFCF-520588F9A703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AE54-BCE9-46FE-86D1-D21FD77E1781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93E-D324-47B5-A628-C8A51EACDE61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2EE-F9D2-4792-A22C-773F4E71CEC8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F2B-CACA-4D6E-8AA3-161919AE5D96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assel conference  -June 4-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EA0B-3CD9-4DDA-82DF-96611A2DC6A2}" type="slidenum">
              <a:rPr b="0" lang="fr-FR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racer Studies in France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494172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95280" y="4221000"/>
            <a:ext cx="831708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Christine GUEGN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Iredu/CNRS, Céreq, University of Burgundy, Franc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C:\Documents and Settings\cg536987\Mes documents\professionnel\Christine\Logos\LOGO IREDU1.jpg"/>
          <p:cNvPicPr/>
          <p:nvPr/>
        </p:nvPicPr>
        <p:blipFill>
          <a:blip r:embed="rId1"/>
          <a:stretch/>
        </p:blipFill>
        <p:spPr>
          <a:xfrm>
            <a:off x="1187280" y="62136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3" descr="uBlogo"/>
          <p:cNvPicPr/>
          <p:nvPr/>
        </p:nvPicPr>
        <p:blipFill>
          <a:blip r:embed="rId2"/>
          <a:stretch/>
        </p:blipFill>
        <p:spPr>
          <a:xfrm>
            <a:off x="5724360" y="6203880"/>
            <a:ext cx="1008360" cy="654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C:\Documents and Settings\cg536987\Mes documents\professionnel\Christine\Logos\logocereq.tif"/>
          <p:cNvPicPr/>
          <p:nvPr/>
        </p:nvPicPr>
        <p:blipFill>
          <a:blip r:embed="rId3"/>
          <a:stretch/>
        </p:blipFill>
        <p:spPr>
          <a:xfrm>
            <a:off x="7164360" y="6210360"/>
            <a:ext cx="1305000" cy="64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Afficher l'image en taille réelle"/>
          <p:cNvPicPr/>
          <p:nvPr/>
        </p:nvPicPr>
        <p:blipFill>
          <a:blip r:embed="rId4"/>
          <a:stretch/>
        </p:blipFill>
        <p:spPr>
          <a:xfrm>
            <a:off x="2411280" y="6234120"/>
            <a:ext cx="648000" cy="623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C:\Documents and Settings\cg536987\Bureau\P1318065D1348052G_px_495_[1].jpg"/>
          <p:cNvPicPr/>
          <p:nvPr/>
        </p:nvPicPr>
        <p:blipFill>
          <a:blip r:embed="rId5"/>
          <a:stretch/>
        </p:blipFill>
        <p:spPr>
          <a:xfrm>
            <a:off x="1835280" y="1459080"/>
            <a:ext cx="5194080" cy="319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Garamond"/>
              </a:rPr>
              <a:t>1/ The University monitoring Centre</a:t>
            </a:r>
            <a:br>
              <a:rPr sz="3200"/>
            </a:b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(Observatoire de la Vie Etudiante)</a:t>
            </a: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OVEs were founded during the nine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ain goals: to provide reliable information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s’ professional outc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social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Curric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about 82 OVEs (out of 83 universities in Fr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tional association of the French OVEs created in 2006: Resos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esosup.fr/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variety of methodological approaches with some common features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8360" y="126792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OVEs use mail surveys (however, some OVEs use telephone or post surve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s interviewed two or three years after grad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and scholar information is matched with university administrative data (Apog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indica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the first job and on the current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ary, employment contract, job/tasks description,  economic sector, type of activity, firm size, means of job acces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unemployment duration, number of jobs,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few information on job/education mismatches &amp;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Garamond"/>
              </a:rPr>
              <a:t>2/ Cereq Surveys System</a:t>
            </a:r>
            <a:br>
              <a:rPr sz="3200"/>
            </a:br>
            <a:r>
              <a:rPr b="1" lang="fr-FR" sz="2500" spc="-1" strike="noStrike">
                <a:solidFill>
                  <a:srgbClr val="003399"/>
                </a:solidFill>
                <a:latin typeface="Garamond"/>
              </a:rPr>
              <a:t>Centre for Research on EducationTraining &amp; Employment</a:t>
            </a:r>
            <a:endParaRPr b="0" lang="en-US" sz="25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360" y="155700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‘Generation’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all the education levels (from young people with no qualification to Phd students): the same year, they leave their initial training and enter in the labour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eneration survey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carried out since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and university leavers in 1992, 1998, 2001, 2004 and 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cohort each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ed by phone three years after graduation or school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sample (between 25,000 and 75,000 individuals representative of 750,000 school and HE leav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tional and regional representa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Garamond"/>
              </a:rPr>
              <a:t>2/ Cereq Surveys System</a:t>
            </a:r>
            <a:br>
              <a:rPr sz="3200"/>
            </a:br>
            <a:r>
              <a:rPr b="1" lang="fr-FR" sz="2500" spc="-1" strike="noStrike">
                <a:solidFill>
                  <a:srgbClr val="003399"/>
                </a:solidFill>
                <a:latin typeface="Garamond"/>
              </a:rPr>
              <a:t>Centre for Research on EducationTraining &amp; Employment</a:t>
            </a:r>
            <a:endParaRPr b="0" lang="en-US" sz="25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8360" y="155700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‘Generation’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th questionned about the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ion and Professional car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and social ori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nions… three years after they lef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l data: to study the long term effects (follow-up survey during ten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tional and longitudinal picture to study school-to-work-tran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few information on job/education mismatches &amp;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heers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200" spc="-1" strike="noStrike">
                <a:solidFill>
                  <a:srgbClr val="000000"/>
                </a:solidFill>
                <a:latin typeface="Times New Roman"/>
              </a:rPr>
              <a:t>Careers After Higher Education: An European Research Surv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: 11 European countries and Jap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35,000 graduates from 1995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terviewed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200" spc="-1" strike="noStrike">
                <a:solidFill>
                  <a:srgbClr val="000000"/>
                </a:solidFill>
                <a:latin typeface="Times New Roman"/>
              </a:rPr>
              <a:t>Research into Employment and Professional Flexibilit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: 15 European countries and Jap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40,000 graduates from 2000 interviewed in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the higher education studies, first job and current job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… Information on job/education mismatches &amp; skills acquired by graduates and required on the labour market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"/>
          <p:cNvSpPr/>
          <p:nvPr/>
        </p:nvSpPr>
        <p:spPr>
          <a:xfrm rot="19952400">
            <a:off x="755280" y="1557000"/>
            <a:ext cx="320760" cy="652320"/>
          </a:xfrm>
          <a:custGeom>
            <a:avLst/>
            <a:gdLst>
              <a:gd name="textAreaLeft" fmla="*/ 42840 w 320760"/>
              <a:gd name="textAreaRight" fmla="*/ 277920 w 320760"/>
              <a:gd name="textAreaTop" fmla="*/ 114120 h 652320"/>
              <a:gd name="textAreaBottom" fmla="*/ 473040 h 65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187280" y="1557360"/>
            <a:ext cx="64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2 Surveys for Higher Education Gradu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Garamond"/>
              </a:rPr>
              <a:t>3/ International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457200" y="277920"/>
            <a:ext cx="82184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300" spc="-1" strike="noStrike">
                <a:solidFill>
                  <a:srgbClr val="003399"/>
                </a:solidFill>
                <a:latin typeface="Garamond"/>
              </a:rPr>
              <a:t>Thanks </a:t>
            </a:r>
            <a:br>
              <a:rPr sz="7300"/>
            </a:br>
            <a:r>
              <a:rPr b="1" lang="en-GB" sz="7300" spc="-1" strike="noStrike">
                <a:solidFill>
                  <a:srgbClr val="003399"/>
                </a:solidFill>
                <a:latin typeface="Garamond"/>
              </a:rPr>
              <a:t>for Your </a:t>
            </a:r>
            <a:br>
              <a:rPr sz="7300"/>
            </a:br>
            <a:r>
              <a:rPr b="1" lang="en-GB" sz="7300" spc="-1" strike="noStrike">
                <a:solidFill>
                  <a:srgbClr val="003399"/>
                </a:solidFill>
                <a:latin typeface="Garamond"/>
              </a:rPr>
              <a:t>Attention</a:t>
            </a:r>
            <a:r>
              <a:rPr b="0" lang="en-GB" sz="73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K:\Génération\imgNavGaucheMesEtudes.jpg"/>
          <p:cNvPicPr/>
          <p:nvPr/>
        </p:nvPicPr>
        <p:blipFill>
          <a:blip r:embed="rId1"/>
          <a:stretch/>
        </p:blipFill>
        <p:spPr>
          <a:xfrm>
            <a:off x="4211640" y="3556080"/>
            <a:ext cx="4464000" cy="26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99"/>
                </a:solidFill>
                <a:latin typeface="Garamond"/>
              </a:rPr>
              <a:t>The Cereq national surveys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AutoShape 2"/>
          <p:cNvSpPr/>
          <p:nvPr/>
        </p:nvSpPr>
        <p:spPr>
          <a:xfrm>
            <a:off x="3419640" y="4076640"/>
            <a:ext cx="533160" cy="1676520"/>
          </a:xfrm>
          <a:prstGeom prst="downArrow">
            <a:avLst>
              <a:gd name="adj1" fmla="val 50000"/>
              <a:gd name="adj2" fmla="val 7861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24000" y="5805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403280" y="580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484360" y="580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348000" y="5805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0" y="1700280"/>
            <a:ext cx="2362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6699"/>
                </a:solidFill>
                <a:latin typeface="Times New Roman"/>
              </a:rPr>
              <a:t>Generation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6699"/>
                </a:solidFill>
                <a:latin typeface="Times New Roman"/>
              </a:rPr>
              <a:t>1</a:t>
            </a:r>
            <a:r>
              <a:rPr b="1" lang="fr-FR" sz="2000" spc="-1" strike="noStrike" baseline="30000">
                <a:solidFill>
                  <a:srgbClr val="666699"/>
                </a:solidFill>
                <a:latin typeface="Times New Roman"/>
              </a:rPr>
              <a:t>st</a:t>
            </a:r>
            <a:r>
              <a:rPr b="1" lang="fr-FR" sz="2000" spc="-1" strike="noStrike">
                <a:solidFill>
                  <a:srgbClr val="666699"/>
                </a:solidFill>
                <a:latin typeface="Times New Roman"/>
              </a:rPr>
              <a:t>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250920" y="2852640"/>
            <a:ext cx="865080" cy="2952720"/>
          </a:xfrm>
          <a:prstGeom prst="downArrow">
            <a:avLst>
              <a:gd name="adj1" fmla="val 50000"/>
              <a:gd name="adj2" fmla="val 6957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900000" y="3141720"/>
            <a:ext cx="19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Generatio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2</a:t>
            </a:r>
            <a:r>
              <a:rPr b="1" lang="fr-FR" sz="1800" spc="-1" strike="noStrike" baseline="30000">
                <a:solidFill>
                  <a:srgbClr val="666699"/>
                </a:solidFill>
                <a:latin typeface="Times New Roman"/>
              </a:rPr>
              <a:t>nd</a:t>
            </a: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 interro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843280" y="314172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Generatio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3</a:t>
            </a:r>
            <a:r>
              <a:rPr b="1" lang="fr-FR" sz="1800" spc="-1" strike="noStrike" baseline="30000">
                <a:solidFill>
                  <a:srgbClr val="666699"/>
                </a:solidFill>
                <a:latin typeface="Times New Roman"/>
              </a:rPr>
              <a:t>rd</a:t>
            </a: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 interro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1476360" y="4076640"/>
            <a:ext cx="685800" cy="1676520"/>
          </a:xfrm>
          <a:prstGeom prst="downArrow">
            <a:avLst>
              <a:gd name="adj1" fmla="val 50000"/>
              <a:gd name="adj2" fmla="val 6111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5796000" y="422100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908000" y="1700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99"/>
                </a:solidFill>
                <a:latin typeface="Times New Roman"/>
              </a:rPr>
              <a:t>Generatio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2627280" y="2924280"/>
            <a:ext cx="457200" cy="2952720"/>
          </a:xfrm>
          <a:prstGeom prst="downArrow">
            <a:avLst>
              <a:gd name="adj1" fmla="val 50000"/>
              <a:gd name="adj2" fmla="val 16668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250920" y="5877000"/>
            <a:ext cx="848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572000" y="5805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1"/>
          <p:cNvSpPr/>
          <p:nvPr/>
        </p:nvSpPr>
        <p:spPr>
          <a:xfrm>
            <a:off x="4500720" y="2708280"/>
            <a:ext cx="1066680" cy="3124080"/>
          </a:xfrm>
          <a:prstGeom prst="downArrow">
            <a:avLst>
              <a:gd name="adj1" fmla="val 50000"/>
              <a:gd name="adj2" fmla="val 73220"/>
            </a:avLst>
          </a:prstGeom>
          <a:solidFill>
            <a:srgbClr val="3d4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4140360" y="1700280"/>
            <a:ext cx="2073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d4ffd"/>
                </a:solidFill>
                <a:latin typeface="Times New Roman"/>
              </a:rPr>
              <a:t>Generatio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d4ffd"/>
                </a:solidFill>
                <a:latin typeface="Times New Roman"/>
              </a:rPr>
              <a:t>1</a:t>
            </a:r>
            <a:r>
              <a:rPr b="1" lang="fr-FR" sz="2000" spc="-1" strike="noStrike" baseline="30000">
                <a:solidFill>
                  <a:srgbClr val="3d4ffd"/>
                </a:solidFill>
                <a:latin typeface="Times New Roman"/>
              </a:rPr>
              <a:t>st</a:t>
            </a:r>
            <a:r>
              <a:rPr b="1" lang="fr-FR" sz="2000" spc="-1" strike="noStrike">
                <a:solidFill>
                  <a:srgbClr val="3d4ffd"/>
                </a:solidFill>
                <a:latin typeface="Times New Roman"/>
              </a:rPr>
              <a:t>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292720" y="314172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Generatio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4</a:t>
            </a:r>
            <a:r>
              <a:rPr b="1" lang="fr-FR" sz="1800" spc="-1" strike="noStrike" baseline="30000">
                <a:solidFill>
                  <a:srgbClr val="666699"/>
                </a:solidFill>
                <a:latin typeface="Times New Roman"/>
              </a:rPr>
              <a:t>th</a:t>
            </a:r>
            <a:r>
              <a:rPr b="1" lang="fr-FR" sz="1800" spc="-1" strike="noStrike">
                <a:solidFill>
                  <a:srgbClr val="666699"/>
                </a:solidFill>
                <a:latin typeface="Times New Roman"/>
              </a:rPr>
              <a:t> interro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7068960" y="17002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Times New Roman"/>
              </a:rPr>
              <a:t>Generatio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4"/>
          <p:cNvSpPr/>
          <p:nvPr/>
        </p:nvSpPr>
        <p:spPr>
          <a:xfrm>
            <a:off x="8172360" y="2708280"/>
            <a:ext cx="503280" cy="3097080"/>
          </a:xfrm>
          <a:prstGeom prst="downArrow">
            <a:avLst>
              <a:gd name="adj1" fmla="val 50000"/>
              <a:gd name="adj2" fmla="val 6122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651640" y="58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077320" y="5805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1"/>
          <p:cNvSpPr/>
          <p:nvPr/>
        </p:nvSpPr>
        <p:spPr>
          <a:xfrm>
            <a:off x="7020000" y="3429000"/>
            <a:ext cx="647640" cy="2376360"/>
          </a:xfrm>
          <a:prstGeom prst="downArrow">
            <a:avLst>
              <a:gd name="adj1" fmla="val 50000"/>
              <a:gd name="adj2" fmla="val 73266"/>
            </a:avLst>
          </a:prstGeom>
          <a:solidFill>
            <a:srgbClr val="3d4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0"/>
          <p:cNvSpPr/>
          <p:nvPr/>
        </p:nvSpPr>
        <p:spPr>
          <a:xfrm>
            <a:off x="6372360" y="227664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d4ffd"/>
                </a:solidFill>
                <a:latin typeface="Times New Roman"/>
              </a:rPr>
              <a:t>Generatio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d4ffd"/>
                </a:solidFill>
                <a:latin typeface="Times New Roman"/>
              </a:rPr>
              <a:t>2</a:t>
            </a:r>
            <a:r>
              <a:rPr b="1" lang="fr-FR" sz="1800" spc="-1" strike="noStrike" baseline="30000">
                <a:solidFill>
                  <a:srgbClr val="3d4ffd"/>
                </a:solidFill>
                <a:latin typeface="Times New Roman"/>
              </a:rPr>
              <a:t>nd</a:t>
            </a:r>
            <a:r>
              <a:rPr b="1" lang="fr-FR" sz="1800" spc="-1" strike="noStrike">
                <a:solidFill>
                  <a:srgbClr val="3d4ffd"/>
                </a:solidFill>
                <a:latin typeface="Times New Roman"/>
              </a:rPr>
              <a:t> interro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6875640" y="58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2:33:22Z</dcterms:created>
  <dc:creator>JF GIRET</dc:creator>
  <dc:description/>
  <dc:language>en-US</dc:language>
  <cp:lastModifiedBy>cg536987</cp:lastModifiedBy>
  <dcterms:modified xsi:type="dcterms:W3CDTF">2012-10-17T12:49:03Z</dcterms:modified>
  <cp:revision>298</cp:revision>
  <dc:subject/>
  <dc:title>Graduates survey in France</dc:title>
</cp:coreProperties>
</file>