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FBC-A0F7-472D-9848-31543579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E96-1B34-4DB9-B8F1-DE22DAC4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A6908-F91B-4AD9-B5C6-1A6F387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0B190-C881-4848-A636-91901D81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B66D2-78E7-4060-B008-8DF9B32C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A637D-5315-4E65-AE78-B223E4C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065E-ED41-4B08-ACCF-3B17BD0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DB947-A0C8-41F0-91ED-346B115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F40B1-715C-4D6C-877F-1698950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64A3B-EFCE-481F-B1A8-22006FDF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289AA-3462-42BC-9D1D-5AD2817A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9413E-A87A-48AB-8608-45EBCC6D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8BD-8E96-4C81-931B-A7432DF2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085D1-FC6A-4D3E-BDD9-70A01AF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FE1D0-27D2-4C0F-BFD3-F2FF463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C648E-332F-465D-B49D-23D88F4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80DC3-3761-43F7-8A9F-DAD1A6D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49239-163F-4920-A76E-419672A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25662-39CD-438A-A779-1F0890F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C2F26-8A70-4911-B777-52E2235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D6DEE-774E-4A51-AA8F-57F278B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48506-D9DE-47E2-BED5-AED2182D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5874E-C227-4F2F-9D26-9FF33D2A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495-B5C2-45D6-A5F2-914D482A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9F6E1-6D64-4D7C-8AF7-CD17E697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C7886-10AF-4787-93E1-FB3EEAB3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DECE4-38FD-4EDC-A4DA-9ABC43FD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213C-58C0-4720-B6C1-E20EDC18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518DA-6BF9-4296-AD89-43B75612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102F-D1F7-4AE3-AD74-A3B3EFBE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E0F96-0622-4470-9EB0-139CA2A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06604-7454-4335-A9A2-E190F37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54043-932A-4D54-AB90-70AF5C02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6E64-AA7E-4AC7-95F3-776723E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2177-89AD-498A-9442-0144B9C9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1854E-4C32-461B-B361-CB860B3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45F4C-FCEE-41B5-9606-CBE4205E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8FFA3-C416-43D2-9FAA-1C76DCC5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74871-F3BB-4F4B-83AA-A921E83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07D5F-F545-4D7B-811E-8C063430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8CB56-683C-4F54-9BAD-60F1BE3E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28174-C659-4087-962A-9881EBB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3B01-B70E-47A7-B726-7A3DFE0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B050B-7CE1-4D23-B725-A0E01166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71817-CB83-416D-B202-0F98D89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5D95-CE7A-4DFB-9ECB-22880E9D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0CCA0-94F1-43C8-9E8E-4386F7A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AE57B-36AF-4A2D-A224-076F167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2FCFE-C154-45BE-BE08-85F40203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BA994-8130-4A1B-85E3-9CF5ED6C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3A2FF-6614-44FB-B547-5E9DD2F9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2C19-D342-4E96-A3E3-F5FE8167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08C1-E5D0-42B4-9675-EB45E1EA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263B-4087-4591-AD66-3FD90BC9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F7F-EF29-422C-8760-61776DB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C8ED-8A60-42B0-A8EA-5470DCF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931-F45D-4A67-8077-E24958A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4662-F62E-40A2-9262-418B739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4C2F-2DA5-46E6-B6AC-7F883B7A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5174-9F88-4AC0-816E-6C1EAEB9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3DA4-DDEF-4C1E-AACE-8EB0CC14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9C3-B933-476C-97A4-A0480CEE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EA2C-DF0C-40C6-BAB0-ADCF57A1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FFA9-03DC-49EF-B682-493B951D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958B-19EF-4B24-8014-45E191CD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6D19-93F7-4CAE-9C42-847DF71C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63DC-A447-4BF5-A7DF-82F4EC59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98A-BBC1-4F17-818E-38EE44D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749D-94F9-4451-8C7E-5AB12005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3A4A-271D-4A08-9959-CE5059B7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EDFB-CA7D-485F-8098-C52574B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9426-EC80-4328-8661-81A59A3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E47B-7C60-4F5A-B6DB-620CF14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85BB2-2A15-4037-91BE-574E02A9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78A9-FB22-435A-9BF0-467CD9DF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1412-C764-46ED-A716-26F12119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3203-D31A-4A20-863D-F030B11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46C6-6A6C-4EF3-8AEA-0771635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193-4470-45E7-88D8-DD36739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F9EEB-CA27-4556-9D72-6DF8C11F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6C7C-5B58-414F-8D36-0CC7F412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EA62-8292-4B00-890F-331E1B06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5CAF-9C33-4B87-A1BF-4ED87E0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5A3E-9BEF-4623-9B40-97AE455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1FB3-125B-47C4-8BB9-9ADB3CC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F179-9B8B-4CCE-A090-C6422A05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1E23-51E3-41DB-8617-6EFAA580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042A-3A5A-450C-BFCF-FAEABBBE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4ACB-4B1E-4260-8231-B84124C2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D86-CF11-48B9-A9B7-A468359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0275-48ED-44D4-AD3D-C744F50F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10CE-8833-4789-84B7-8356ECC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0E47-B2EE-44D0-A825-70E59820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3658-655E-4017-9759-6E1F024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7024-2362-48A9-8C99-D3CB87E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D0C9-3A44-4EA4-B3D2-201342C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4976-F601-4087-A2F5-9127D15C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90AF-F151-4DC8-9EE8-6BF792E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022D-CF01-44CA-A069-9BE2651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D4F4-878E-4F30-A731-4C8C062F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2DF-298E-441B-B4F5-8115FBC8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E491-05BB-4C82-8D11-3E9448B7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B518-91DE-45A2-B32A-3DDEAB10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E8FA-E865-41A3-B9CA-9454FDE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CC07-C57A-47BA-8A30-A83CCE7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FE19C-FD2E-4068-9D47-E2636F14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6774-9848-4BED-BE51-0C78AA1D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CF12-D964-4E5E-A318-390A41C5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1764-19A6-4BAB-AAF4-C6DEC0A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4DD9-B739-41A1-B048-4E40699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068A-E969-44B0-8324-528B456F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E3D-1D4C-4577-B960-F571C9E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3435-F586-489B-A7AC-2A6C32B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6EA9-B2A7-4E15-B7CD-BB22E6A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1899-A418-4BAC-ADA2-8BFE20F3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28BC-60E5-4A37-8A8E-83C89558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7CFE-7EF9-4E48-A74A-3A5D566E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7FA8-57A2-4CAA-BE62-7F1CA569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D7DA-2A85-4E67-A516-78E4A2A0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A1ED8-4112-4478-9EED-84A901EC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82A3-82AA-4BA2-A282-A63F7DD4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A6566-32F7-4DC2-B790-AC0FF45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8F3-E65A-4D58-BDFC-D1DC8B5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7960-7687-44AA-BCD8-F15C00B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967F6-C78D-4D15-84A8-7BB1D3D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2084-6595-4672-B4B6-C347EE17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2730E-27C0-4BFB-A381-218F090E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50B32-B9E9-4125-9D3F-5F6FF617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56F15-6049-45E7-A219-A47E369B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CCF5-CEC0-464B-8208-16D9A7B0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3C7A-5D72-4A13-859F-B3AED5D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8FF06-D3EC-4A77-99C1-1A46BE7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199E-9384-4DDB-B0D5-1ACC870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8F4-2DEB-4CEA-B262-9950348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9A5D-C3F5-4154-8B1B-9D73A55F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40F78-C4D7-4D5B-A7BE-BFE22B0B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408D-6F7F-4750-9ABF-25B7209F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3754-CBD2-4F4A-B974-3D1FB4F3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BAEFB-216A-45A7-9A51-51042DFC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59D96-EC93-4D3E-BE10-E7E06D77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4F55C-25AC-4C5A-82D8-B0631784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F2010-56AF-4BC5-B15E-B1DB0183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9D33-64B5-40F4-81E4-2223F6C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D7096-B787-4C56-9593-E2D31746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22C3-7D1D-4024-9698-CBF4219783BB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9DA-934A-4967-A33F-039D9B604906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7605-EE9D-42A2-BC4D-C29BFE232EE1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3DC-96E5-41DD-84A6-23983B2B0F54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1FEA-E1E5-4479-94EE-E666EF08757A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B1BD-99D5-42F1-94EB-E605DDC968FE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90C4-7D7E-40AE-A58F-401161A6D9D3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C854-72FA-4F9F-A309-D33402638021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7B20-2671-4B33-8357-F7380AC1871B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E43-825E-43B0-B205-9F79EDD6E621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EFA-0481-4DB7-B978-282BDB08D627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C59A-9C28-4A2F-8850-CB12998F9E9C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3134-7C78-4CB6-9A94-15339AE68EEE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6F96-CB23-4566-B517-AA65F2BEA7A1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A58F-65D6-429B-94A6-D8E16114E73D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CA56-FB86-45D9-A4EB-B3F65748CD8A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D3B4-5841-42EE-8A8E-715FCA0D3F8E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C9F0-A5FF-4403-A417-66451CD41716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693-A08F-4DB6-9FF4-AACC30ADF0BC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BEDC-0466-4FF4-9DAB-7710E307CDBD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6217-63FC-4BFC-BB8D-F695BD07D530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6DDB-9964-4F88-9FF6-C364DCEC8849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4C83-DF86-4BDF-AEF1-0AC7DC1D1D04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511-7372-4656-BBC7-3CF8BE433053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TRACER STUDY OF NATIONAL ECONOMICS UNIVERSIT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- VIETNA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1143000" y="3505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ran Thi Thai 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Ngo Thi Thanh 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Nguyen Thi Minh Phu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8A9-7B3B-451D-BB5A-1E8242A0635F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20" descr="Logo Vien_7"/>
          <p:cNvPicPr/>
          <p:nvPr/>
        </p:nvPicPr>
        <p:blipFill>
          <a:blip r:embed="rId1"/>
          <a:stretch/>
        </p:blipFill>
        <p:spPr>
          <a:xfrm>
            <a:off x="0" y="121932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000" spc="-1" strike="noStrike">
                <a:solidFill>
                  <a:srgbClr val="ffffff"/>
                </a:solidFill>
                <a:latin typeface="Gill Sans MT"/>
              </a:rPr>
              <a:t>Work Position and job changing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ffffff"/>
                </a:solidFill>
                <a:latin typeface="Gill Sans MT"/>
              </a:rPr>
              <a:t>Work position:  </a:t>
            </a: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82.8% of responses start at the first leve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ffffff"/>
                </a:solidFill>
                <a:latin typeface="Gill Sans MT"/>
              </a:rPr>
              <a:t>Job Changing: </a:t>
            </a: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Most of economics students wish to have stable jobs after graduating.  But in fact: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D7C6-6185-4EAD-8D0C-DF2CE3D86FE7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Chart 5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8064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af-ZA" sz="3000" spc="-1" strike="noStrike">
                <a:solidFill>
                  <a:srgbClr val="ffffff"/>
                </a:solidFill>
                <a:latin typeface="Gill Sans MT"/>
              </a:rPr>
              <a:t>Income of graduates after one year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837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af-ZA" sz="2400" spc="-1" strike="noStrike">
                <a:solidFill>
                  <a:srgbClr val="ffffff"/>
                </a:solidFill>
                <a:latin typeface="Gill Sans MT"/>
              </a:rPr>
              <a:t>In term of income</a:t>
            </a: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, one-year economics graduate’s average income is around  US$250 per month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2DB6-73ED-4BAF-8C0E-6F7F6542EFE3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Chart 5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ill Sans MT"/>
              </a:rPr>
              <a:t>The suitability of the current job to the training program in the university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CC4-3FE2-42B7-8A19-7FF4EC3C53CD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Content Placeholder 5" descr=""/>
          <p:cNvPicPr/>
          <p:nvPr/>
        </p:nvPicPr>
        <p:blipFill>
          <a:blip r:embed="rId1"/>
          <a:stretch/>
        </p:blipFill>
        <p:spPr>
          <a:xfrm>
            <a:off x="682560" y="1219320"/>
            <a:ext cx="8156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Gill Sans MT"/>
              </a:rPr>
              <a:t>Capacity to adapt to the job:</a:t>
            </a:r>
            <a:r>
              <a:rPr b="1" lang="en-US" sz="25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Gill Sans MT"/>
              </a:rPr>
              <a:t>Taken time for being familiar with the work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439-0D3F-4A34-9EC6-36887C7BF05C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Chart 6" descr=""/>
          <p:cNvPicPr/>
          <p:nvPr/>
        </p:nvPicPr>
        <p:blipFill>
          <a:blip r:embed="rId1"/>
          <a:stretch/>
        </p:blipFill>
        <p:spPr>
          <a:xfrm>
            <a:off x="384120" y="1139760"/>
            <a:ext cx="8461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ill Sans MT"/>
              </a:rPr>
              <a:t>The transformation from the training program of the university to work of graduat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860-E18B-44B1-8EB0-BB00307118D5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Chart 7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7924680" cy="4419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8"/>
          <p:cNvSpPr/>
          <p:nvPr/>
        </p:nvSpPr>
        <p:spPr>
          <a:xfrm>
            <a:off x="533520" y="16765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Content Placeholder 2"/>
          <p:cNvSpPr/>
          <p:nvPr/>
        </p:nvSpPr>
        <p:spPr>
          <a:xfrm>
            <a:off x="533520" y="1600200"/>
            <a:ext cx="7924680" cy="8380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e usefulness of knowledge trained in university is respect to their current 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63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Gill Sans MT"/>
              </a:rPr>
              <a:t>Assessment on the training program of the university</a:t>
            </a:r>
            <a:endParaRPr b="0" lang="en-US" sz="2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762120" y="1066680"/>
          <a:ext cx="7924680" cy="4534200"/>
        </p:xfrm>
        <a:graphic>
          <a:graphicData uri="http://schemas.openxmlformats.org/drawingml/2006/table">
            <a:tbl>
              <a:tblPr/>
              <a:tblGrid>
                <a:gridCol w="6858000"/>
                <a:gridCol w="1066680"/>
              </a:tblGrid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f-Z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l assessment on the training 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ining program suits to the job requirem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nowledge learned is outdated comparing to the fact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  <a:tr h="8240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nowledge learned is not associated with the actual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  <a:tr h="8236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ining program is lack of essential vocational knowled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ining program is lack of vocational knowledge and sk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ining program is heavily theoret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8"/>
                    </a:solidFill>
                  </a:tcPr>
                </a:tc>
              </a:tr>
            </a:tbl>
          </a:graphicData>
        </a:graphic>
      </p:graphicFrame>
      <p:sp>
        <p:nvSpPr>
          <p:cNvPr id="631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1F3-9B7B-4898-9724-D32236BC6C04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73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The response of students to the universities training objectives and needs of the employe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The result showed that the response level of graduates to the criterion of training program is m=3.45 (5 levels: very bad is 1-&gt; very good is 5)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mong the 23 criterion given, 10 criterion are not achieved in the average (m &lt;3.45), which is the criterion related to professional skill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weakest criteria is: meet the job requirements (m = 2.99); and ability to work in an international environment (with m = 2.96)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1FDF-9C89-4944-8DAF-AA2FD5E20C2C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ill Sans MT"/>
              </a:rPr>
              <a:t>Summary the main findings of the surve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rate of response is high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There has a high percentage of graduates who get job after six  to twelve months  after graduation;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Although most of graduates get job which is not suitable for their  training major ,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Graduates’ adaptation to the work environment and their ability to meet  the job requirements are quite good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Most graduates have stable job and good incom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91D3-7062-401E-9479-281DD4CBD375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ill Sans MT"/>
              </a:rPr>
              <a:t>Summary the main findings of the survey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305280" indent="-2430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600" spc="-1" strike="noStrike">
                <a:solidFill>
                  <a:srgbClr val="ffffff"/>
                </a:solidFill>
                <a:latin typeface="Gill Sans MT"/>
              </a:rPr>
              <a:t>in order to meet requirements of the job, graduates need to be trained on professional skills, foreign languages​​, information technology 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600" spc="-1" strike="noStrike">
                <a:solidFill>
                  <a:srgbClr val="ffffff"/>
                </a:solidFill>
                <a:latin typeface="Gill Sans MT"/>
              </a:rPr>
              <a:t>Training programs partially met actual requirements of their job and expectations of students.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600" spc="-1" strike="noStrike">
                <a:solidFill>
                  <a:srgbClr val="ffffff"/>
                </a:solidFill>
                <a:latin typeface="Gill Sans MT"/>
              </a:rPr>
              <a:t>Although the ability to meet the knowledge’s requirement of jobs of students is not high (m = 3.45)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600" spc="-1" strike="noStrike">
                <a:solidFill>
                  <a:srgbClr val="ffffff"/>
                </a:solidFill>
                <a:latin typeface="Gill Sans MT"/>
              </a:rPr>
              <a:t>Training programs  of the university still have spent too little time for practice and practical applicatio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E6D-B477-4BBC-9EB4-5FC6CF1B3CA0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CHALLENGES AND PROSPECTIVES OF TRACER STUDY ON GRADUATES IN VIETNA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1DE-54A1-45DF-8B11-266A02A052D3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7000" indent="-857160">
              <a:spcBef>
                <a:spcPts val="700"/>
              </a:spcBef>
              <a:buClr>
                <a:srgbClr val="86ce24"/>
              </a:buClr>
              <a:buSzPct val="85000"/>
              <a:buFont typeface="Gill Sans MT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verview of tracer study in Vietnam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927000" indent="-857160">
              <a:spcBef>
                <a:spcPts val="700"/>
              </a:spcBef>
              <a:buClr>
                <a:srgbClr val="86ce24"/>
              </a:buClr>
              <a:buSzPct val="85000"/>
              <a:buFont typeface="Gill Sans MT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ill Sans MT"/>
              </a:rPr>
              <a:t>Tracer study on economics stud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927000" indent="-857160">
              <a:spcBef>
                <a:spcPts val="700"/>
              </a:spcBef>
              <a:buClr>
                <a:srgbClr val="86ce24"/>
              </a:buClr>
              <a:buSzPct val="85000"/>
              <a:buFont typeface="Gill Sans MT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600" spc="-1" strike="noStrike">
                <a:solidFill>
                  <a:srgbClr val="ffffff"/>
                </a:solidFill>
                <a:latin typeface="Gill Sans MT"/>
              </a:rPr>
              <a:t>Prospectives of tracer study on graduates in Vietnam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9471-99CF-4BD7-89E0-568F31451F93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ill Sans MT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301680" indent="-24012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Inconsistency of study contents of annual/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iodically</a:t>
            </a: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 surveys between universitit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Hard to </a:t>
            </a: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identify the study subjects and sampl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Limitation in awareness of manage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Lack of contact information and data of graduat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lection bias (self-selection of successful vs. less successful graduates into the survey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EDF-9B27-466A-9F43-11E04A4D8495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ill Sans MT"/>
              </a:rPr>
              <a:t>Perspectiv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budget of many universities and college is ready for conducting the tracer stud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ET aware that universities and colleges need to be supported for the well-organized tracer study, solve the difficulties in the organization of the survey, analyze and apply the survey result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ut still there is a long way from decision to practi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B7F7-BD60-4AB9-A7A6-9A49A0364407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Bradley Hand ITC"/>
                <a:ea typeface="Arial"/>
              </a:rPr>
              <a:t>THANKS FOR YOUR  ATTENTION!</a:t>
            </a:r>
            <a:br>
              <a:rPr sz="2900"/>
            </a:br>
            <a:br>
              <a:rPr sz="2900"/>
            </a:br>
            <a:r>
              <a:rPr b="1" i="1" lang="en-US" sz="2500" spc="-1" strike="noStrike">
                <a:solidFill>
                  <a:srgbClr val="ffffff"/>
                </a:solidFill>
                <a:latin typeface="Bradley Hand ITC"/>
                <a:ea typeface="Arial"/>
              </a:rPr>
              <a:t>TERIMA KASIH UNTUK PERHATIAN ANDA!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75B-7FDC-40E3-A456-B4A1C7D0403D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VIEW OF TRACER STUDY IN VIETNA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Slide Number Placeholder 2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E09F-6B84-44F8-93AA-F803590D82D5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ill Sans MT"/>
              </a:rPr>
              <a:t>Current situation on tracer study</a:t>
            </a:r>
            <a:endParaRPr b="0" lang="en-US" sz="3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Tracer study on graduates is quite new in Vietnam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Since 2008, only few universities started to carry out tracer study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Until now, 70% of universities and colleges have made 1-2 surveys on graduat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 2010, more than 200 universities and colleges took part in training workshops on tracer study (one for Northern universities, one for Central and one for Southern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o far, the MOET has started to consider on the tracer study of universities/ and colle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87C7-D8ED-4AF2-ADA6-DFEF400E00CC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TRACER STUDY ON ECONOMICS STUDENTS 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2" name="Slide Number Placeholder 1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CC6A-2DDC-4EF3-A785-990200700330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s: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The study aims to assess students’ employment  after graduation and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get the opinions about the training program that graduat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d at university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vey sc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The study was conducted with all 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gular and full-ti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ents (317 students)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ll faculti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duated in 2010, in BA degre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th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Questionnaire is the major tool for gathering inform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Slide Number Placeholder 1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9AB4-56E7-46A2-A266-A4E4E2A19243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 MT"/>
              </a:rPr>
              <a:t>SURVEY RESULTS AND FINDING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520" y="10666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66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ffffff"/>
                </a:solidFill>
                <a:latin typeface="Gill Sans MT"/>
              </a:rPr>
              <a:t>General inform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There are a total of 225 graduates (71% of the total graduates) who participated in the study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66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70% of them had graduated from Uni. with “Good”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66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75% of them were fema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66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Graduates from 4 faculties: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1995480" indent="-221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31.1% from Finance-Banking faculty;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1995480" indent="-221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23.11% from Business administration;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1995480" indent="-221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33.33% from Economics and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1995480" indent="-221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400" spc="-1" strike="noStrike">
                <a:solidFill>
                  <a:srgbClr val="ffffff"/>
                </a:solidFill>
                <a:latin typeface="Gill Sans MT"/>
              </a:rPr>
              <a:t>12.44% from Politic-Economics Faculty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84A-D723-473F-8F2D-7194E489CFE4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2800" spc="-1" strike="noStrike">
                <a:solidFill>
                  <a:srgbClr val="ffffff"/>
                </a:solidFill>
                <a:latin typeface="Gill Sans MT"/>
              </a:rPr>
              <a:t>Job situation after one year of graduation: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st graduates have had jobs a</a:t>
            </a:r>
            <a:r>
              <a:rPr b="0" lang="af-ZA" sz="2800" spc="-1" strike="noStrike">
                <a:solidFill>
                  <a:srgbClr val="ffffff"/>
                </a:solidFill>
                <a:latin typeface="Gill Sans MT"/>
              </a:rPr>
              <a:t>fter one yea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CAE3-9D8C-4B05-A147-9E800DD9D887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838080" y="1905120"/>
          <a:ext cx="77724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72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39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Working section of the graduates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484-9FFB-490A-9B31-DD47B850097F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Chart 5" descr=""/>
          <p:cNvPicPr/>
          <p:nvPr/>
        </p:nvPicPr>
        <p:blipFill>
          <a:blip r:embed="rId1"/>
          <a:stretch/>
        </p:blipFill>
        <p:spPr>
          <a:xfrm>
            <a:off x="536400" y="1066680"/>
            <a:ext cx="806472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1:19:18Z</dcterms:created>
  <dc:creator>Sky123.Org</dc:creator>
  <dc:description/>
  <dc:language>en-US</dc:language>
  <cp:lastModifiedBy>Sky123.Org</cp:lastModifiedBy>
  <cp:lastPrinted>2012-10-15T04:21:35Z</cp:lastPrinted>
  <dcterms:modified xsi:type="dcterms:W3CDTF">2012-10-21T15:34:31Z</dcterms:modified>
  <cp:revision>53</cp:revision>
  <dc:subject/>
  <dc:title>TRACER STUDY ON ECONOMICS STUDENTS IN VIETNAM</dc:title>
</cp:coreProperties>
</file>