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2DF3-2CAC-417F-B4EB-0B0D11F0BC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EEF8-3A27-4A15-81C4-F0B702A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C53D-2D3D-4BDE-881B-DF534EC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36AB-363A-46EF-BE28-5B7608D79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9F651-7655-4150-A405-C01F674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4A0B-5967-451A-8C2E-0DC6B0C5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80412-B338-4777-9763-FAECAB4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150B6-6FA6-443F-95B5-8D892DB6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5161-E278-480E-A883-F97AD5C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87CAE-5D77-46FB-AF62-11EC31C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4A81-65BC-4C8F-A6FC-D80490E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2B78-ADEE-4D18-AFAC-CC522594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FB9F-801E-41E5-8141-C5A9F92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75F27-64D6-43B0-AA6F-0D4FD83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467E5-5F2A-4F2A-A72C-8E2C135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6482A-4449-499D-B941-A9631B41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6992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3840" y="175248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600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6992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3840" y="3981600"/>
            <a:ext cx="2527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84BDD-3236-4651-8715-FBD04A2D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6769-B69B-487C-826A-2F40045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312F-2B62-4BE5-B170-38EFC35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11F9-C50F-48F1-8106-EE66A0CB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2768-9BD8-4B53-AFED-9C6ECBA8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F9FA-BACA-4950-A174-727C726D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7920" y="398160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577D-D954-4BA4-885D-4BE0FBB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7920" y="1752480"/>
            <a:ext cx="3830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3981600"/>
            <a:ext cx="784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F10A-E77E-4251-831C-1AE93AEE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5300640"/>
            <a:ext cx="755640" cy="155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0" y="6308280"/>
            <a:ext cx="19814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245-B5EA-4A51-B254-CEA2E2E2B0BE}" type="slidenum">
              <a:rPr b="0" lang="de-DE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 rot="10800000">
            <a:off x="0" y="476280"/>
            <a:ext cx="782640" cy="5905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Harald Schomburg, University-to-Work in Germany (CHEERS Proje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455760" y="5418000"/>
            <a:ext cx="29664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160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Harald Schomburg, University-to-Work in Germany (CHEERS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D3F6-A89B-4AFC-BD28-859A4EA5F97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omagesa@gmail.com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13.jpeg"/><Relationship Id="rId6" Type="http://schemas.openxmlformats.org/officeDocument/2006/relationships/hyperlink" Target="http://www.mu.ac.ke/" TargetMode="External"/><Relationship Id="rId7" Type="http://schemas.openxmlformats.org/officeDocument/2006/relationships/hyperlink" Target="http://www.mu.ac.ke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8480" y="142920"/>
            <a:ext cx="7715160" cy="4214880"/>
          </a:xfrm>
          <a:prstGeom prst="rect">
            <a:avLst/>
          </a:prstGeom>
          <a:solidFill>
            <a:srgbClr val="000080">
              <a:alpha val="14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Moi University Tracer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(MUTRACE)</a:t>
            </a:r>
            <a:br>
              <a:rPr sz="4400"/>
            </a:br>
            <a:br>
              <a:rPr sz="36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ink Between Graduates Study &amp; Job Experience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oi University, Keny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43080" y="4214880"/>
            <a:ext cx="6315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Omar Egesah &amp; Mary Waho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(Moi University, Kenya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mail: </a:t>
            </a:r>
            <a:r>
              <a:rPr b="0" lang="de-DE" sz="2400" spc="-1" strike="noStrike" u="sng">
                <a:solidFill>
                  <a:srgbClr val="666699"/>
                </a:solidFill>
                <a:uFillTx/>
                <a:latin typeface="Comic Sans MS"/>
                <a:hlinkClick r:id="rId2"/>
              </a:rPr>
              <a:t>omagesa@gmail.com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14200" y="142920"/>
          <a:ext cx="1114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42920"/>
                    <a:ext cx="1114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800" y="272880"/>
            <a:ext cx="1627200" cy="6559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3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47640" y="272520"/>
            <a:ext cx="5581800" cy="637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79% graduates were employed 1 year after gradu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6% work for the private employ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lf employment takes up 6%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duates had worked for 2 employ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29876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mployment stat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6883-713B-45E9-A288-690BC76DB04C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Left-Right Arrow 5"/>
          <p:cNvSpPr/>
          <p:nvPr/>
        </p:nvSpPr>
        <p:spPr>
          <a:xfrm>
            <a:off x="3419640" y="3500280"/>
            <a:ext cx="5032080" cy="106560"/>
          </a:xfrm>
          <a:prstGeom prst="leftRightArrow">
            <a:avLst>
              <a:gd name="adj1" fmla="val 50000"/>
              <a:gd name="adj2" fmla="val 49846"/>
            </a:avLst>
          </a:prstGeom>
          <a:solidFill>
            <a:srgbClr val="adca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24000" y="3284640"/>
            <a:ext cx="2952720" cy="1296720"/>
          </a:xfrm>
          <a:prstGeom prst="rect">
            <a:avLst/>
          </a:prstGeom>
          <a:solidFill>
            <a:srgbClr val="a6a6a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nly 25% graduates were employed in the public secto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995640" y="4581360"/>
            <a:ext cx="4248360" cy="1368720"/>
          </a:xfrm>
          <a:prstGeom prst="rect">
            <a:avLst/>
          </a:prstGeom>
          <a:solidFill>
            <a:srgbClr val="a6a6a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 jobs in 1 year indicates  high turn over because graduates seek more suitable and satisfying job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C6B-9051-4482-8A01-D7C1A7B8AFA0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85716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udy competencies and their utilization at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13920"/>
            <a:ext cx="8713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Comic Sans MS"/>
              </a:rPr>
              <a:t>3 Questions were asked: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At the time of graduation: to what extent did you have the following competencie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To what extent did the University contribute to the competencie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mic Sans MS"/>
              </a:rPr>
              <a:t>To what extent are the following competencies acquired during study utilized in your work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Scale of answers;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 = ‘To a very high extent' to 5 = 'Not at all‘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(Arithmetic mean derived from graduate’s self report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F0AD-556B-4A7A-889D-4A793DEACEB8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835812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University contribution to competencies &amp; their utilization at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Diagram 6" descr=""/>
          <p:cNvPicPr/>
          <p:nvPr/>
        </p:nvPicPr>
        <p:blipFill>
          <a:blip r:embed="rId2"/>
          <a:stretch/>
        </p:blipFill>
        <p:spPr>
          <a:xfrm>
            <a:off x="426960" y="1878120"/>
            <a:ext cx="8180640" cy="50529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324000" y="1268280"/>
            <a:ext cx="1584000" cy="505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85716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rast of competenci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2920" y="2214720"/>
            <a:ext cx="4354560" cy="4643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nowledge of one’s field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ritical thinking skill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search skills, report writing and presentatio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mmunication skill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apability for continuous learning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 attributed to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5080" y="2174760"/>
            <a:ext cx="43560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nowledge of other field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ubsidiary knowledg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mputer &amp; internet skill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E5C-5EB3-43BF-BB34-CC1D770A2088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643280" y="3860640"/>
            <a:ext cx="4500720" cy="2737080"/>
          </a:xfrm>
          <a:prstGeom prst="rect">
            <a:avLst/>
          </a:prstGeom>
          <a:solidFill>
            <a:srgbClr val="85c2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fffff"/>
                </a:solidFill>
                <a:latin typeface="Comic Sans MS"/>
              </a:rPr>
              <a:t>Core competencies are attributed to the University while distant one are not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fff00"/>
                </a:solidFill>
                <a:latin typeface="Comic Sans MS"/>
              </a:rPr>
              <a:t>However, competencies are not sole determinants to this link; structures, study conditions, behavior etc come in </a:t>
            </a:r>
            <a:r>
              <a:rPr b="1" lang="de-DE" sz="1700" spc="-1" strike="noStrike">
                <a:solidFill>
                  <a:srgbClr val="ffff00"/>
                </a:solidFill>
                <a:latin typeface="Comic Sans MS"/>
              </a:rPr>
              <a:t>(Teichler, UNITRACE-III 2012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Left-Right Arrow 9"/>
          <p:cNvSpPr/>
          <p:nvPr/>
        </p:nvSpPr>
        <p:spPr>
          <a:xfrm rot="5400000">
            <a:off x="2080080" y="3875760"/>
            <a:ext cx="5032080" cy="10620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adca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Left-Right Arrow 10"/>
          <p:cNvSpPr/>
          <p:nvPr/>
        </p:nvSpPr>
        <p:spPr>
          <a:xfrm rot="10800000">
            <a:off x="4716360" y="3715920"/>
            <a:ext cx="4167360" cy="14436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dca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tributed to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395280" y="907920"/>
            <a:ext cx="1584360" cy="36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0717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Basis of study program for work perform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3840" y="157176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68% basis for starting wor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77% for further learning on the job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73% for performing current work task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83% for potential and current care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88% for personal develop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BA5-2C44-4EE3-99C6-E107E7237951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395280" y="1197000"/>
            <a:ext cx="1584360" cy="36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116000" y="5418000"/>
            <a:ext cx="6264360" cy="747720"/>
          </a:xfrm>
          <a:prstGeom prst="rect">
            <a:avLst/>
          </a:prstGeom>
          <a:solidFill>
            <a:srgbClr val="82ae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kelihood of mismatch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AB, parent and individual influenc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341000"/>
            <a:ext cx="8424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32000" indent="-432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Job search and job acquisition corroborate in trends, but all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32000" indent="-432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epend on employer recruitment considerations and not graduat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32000" indent="-432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job selection. However, sociobiographic, sociocultural, contextual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32000" indent="-43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d higher education factors come in </a:t>
            </a:r>
            <a:r>
              <a:rPr b="0" lang="de-DE" sz="1800" spc="-1" strike="noStrike">
                <a:solidFill>
                  <a:srgbClr val="ffff00"/>
                </a:solidFill>
                <a:latin typeface="Comic Sans MS"/>
              </a:rPr>
              <a:t>(Teichler, UNITRACE-3 2012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3962520"/>
            <a:ext cx="856944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mportant self reported competencies are attributed to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study experience and the graduates report that thes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re competencies are used at work and are basis for caree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d personal development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Kenya- the well connected syndrome &amp; JAB dilemma. Europe- Pathways and link between curriculum, competencies and work-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eichler 1998, 2000, DeSeCo, OECD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27320" indent="-427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0CD6-0C48-4795-BEEB-3992D2272F44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0" y="3643200"/>
            <a:ext cx="91440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250920" y="1285920"/>
            <a:ext cx="214200" cy="5572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C4E-B4DC-4152-A4C1-314441552BB8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19640" y="-360"/>
            <a:ext cx="2520720" cy="76500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omic Sans MS"/>
              </a:rPr>
              <a:t>MUTRAC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71680" y="5572080"/>
            <a:ext cx="8143560" cy="1000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cknowledgement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oi University, DAAD, HRK, DIES, INCHER-Kassel University, XLIMA-Bali &amp; Emmanuel Langat (Moi Universit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9" descr="C:\Documents and Settings\user\My Documents\Egesah, Pictures\pictures amref\amref10.jpg"/>
          <p:cNvPicPr/>
          <p:nvPr/>
        </p:nvPicPr>
        <p:blipFill>
          <a:blip r:embed="rId2"/>
          <a:stretch/>
        </p:blipFill>
        <p:spPr>
          <a:xfrm>
            <a:off x="755640" y="1413000"/>
            <a:ext cx="2016000" cy="18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5"/>
          <p:cNvGraphicFramePr/>
          <p:nvPr/>
        </p:nvGraphicFramePr>
        <p:xfrm>
          <a:off x="4211640" y="1268280"/>
          <a:ext cx="1114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268280"/>
                    <a:ext cx="1114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12" descr="scan0012"/>
          <p:cNvPicPr/>
          <p:nvPr/>
        </p:nvPicPr>
        <p:blipFill>
          <a:blip r:embed="rId5"/>
          <a:srcRect l="2576" t="4265" r="0" b="4265"/>
          <a:stretch/>
        </p:blipFill>
        <p:spPr>
          <a:xfrm>
            <a:off x="6516720" y="1341360"/>
            <a:ext cx="1727280" cy="1871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2286000" y="2751120"/>
            <a:ext cx="4572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i Univer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y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666699"/>
                </a:solidFill>
                <a:uFillTx/>
                <a:latin typeface="Calibri"/>
                <a:hlinkClick r:id="rId6"/>
              </a:rPr>
              <a:t>www.mu.ac.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6699"/>
                </a:solidFill>
                <a:uFillTx/>
                <a:latin typeface="Calibri"/>
                <a:hlinkClick r:id="rId7"/>
              </a:rPr>
              <a:t>omagesa@gmail.com/maryngare@yahoo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Comic Sans MS"/>
              </a:rPr>
              <a:t>Objectives of EXLIMA </a:t>
            </a:r>
            <a:r>
              <a:rPr b="1" lang="de-DE" sz="3200" spc="-1" strike="noStrike">
                <a:solidFill>
                  <a:srgbClr val="ffffff"/>
                </a:solidFill>
                <a:latin typeface="Comic Sans MS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e objectives of EXLIMA Paper are to;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plain factors for graduate’s transition from study to the labour mark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late study outcomes and competencies to employment and wo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185-5360-415D-A1DC-38E8A67D07C3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216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Comic Sans MS"/>
              </a:rPr>
              <a:t>Paper Purview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Diagram 5" descr=""/>
          <p:cNvPicPr/>
          <p:nvPr/>
        </p:nvPicPr>
        <p:blipFill>
          <a:blip r:embed="rId2"/>
          <a:stretch/>
        </p:blipFill>
        <p:spPr>
          <a:xfrm>
            <a:off x="231840" y="1749600"/>
            <a:ext cx="8753400" cy="47671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B6A-2843-4D41-93A8-6CEAD6F7191D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A99-27DB-47F7-9748-083AD833B307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848720" cy="1216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Research Questions 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Diagram 5" descr=""/>
          <p:cNvPicPr/>
          <p:nvPr/>
        </p:nvPicPr>
        <p:blipFill>
          <a:blip r:embed="rId2"/>
          <a:stretch/>
        </p:blipFill>
        <p:spPr>
          <a:xfrm>
            <a:off x="378000" y="1736640"/>
            <a:ext cx="8600760" cy="473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955-2D2A-4174-8B68-FF6ED616D8A1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848720" cy="668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Methodology   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Diagram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36360" y="890640"/>
            <a:ext cx="9028080" cy="60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F341-6EB1-4377-A138-C2BB5551206E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848720" cy="596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Data Analysis and Reporting 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Rectangle 3"/>
          <p:cNvGrpSpPr/>
          <p:nvPr/>
        </p:nvGrpSpPr>
        <p:grpSpPr>
          <a:xfrm>
            <a:off x="208080" y="920880"/>
            <a:ext cx="8764560" cy="5729040"/>
            <a:chOff x="208080" y="920880"/>
            <a:chExt cx="8764560" cy="5729040"/>
          </a:xfrm>
        </p:grpSpPr>
        <p:pic>
          <p:nvPicPr>
            <p:cNvPr id="105" name="Rectangle 3" descr=""/>
            <p:cNvPicPr/>
            <p:nvPr/>
          </p:nvPicPr>
          <p:blipFill>
            <a:blip r:embed="rId2"/>
            <a:stretch/>
          </p:blipFill>
          <p:spPr>
            <a:xfrm>
              <a:off x="208080" y="920880"/>
              <a:ext cx="8764560" cy="57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14200" y="928800"/>
              <a:ext cx="87505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Comic Sans MS"/>
                </a:rPr>
                <a:t>Simple descriptives (Percentage, mean,  median , mode  used)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Findings presented by univariate description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Interpretation;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907920" indent="-43632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Internal comparison of scores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907920" indent="-43632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External comparisons  in the paper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907920" indent="-43632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Using texts from graduate responses and anecdotes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907920" indent="-43632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Within Kenya context 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907920" indent="-43632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ffff"/>
                  </a:solidFill>
                  <a:latin typeface="Comic Sans MS"/>
                </a:rPr>
                <a:t>6 reports &amp; 2 scientific paper articles written so far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10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ffff"/>
                  </a:solidFill>
                  <a:latin typeface="Comic Sans MS"/>
                </a:rPr>
                <a:t>Dissemination- regionally February 2013 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marL="469800" indent="-469800">
                <a:lnSpc>
                  <a:spcPct val="90000"/>
                </a:lnSpc>
                <a:spcBef>
                  <a:spcPts val="550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E53-D49D-4563-8500-D9CC913F3F62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848720" cy="596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Comic Sans MS"/>
              </a:rPr>
              <a:t>Result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9" name="Rectangle 3"/>
          <p:cNvGrpSpPr/>
          <p:nvPr/>
        </p:nvGrpSpPr>
        <p:grpSpPr>
          <a:xfrm>
            <a:off x="208080" y="920880"/>
            <a:ext cx="8764560" cy="5729040"/>
            <a:chOff x="208080" y="920880"/>
            <a:chExt cx="8764560" cy="5729040"/>
          </a:xfrm>
        </p:grpSpPr>
        <p:pic>
          <p:nvPicPr>
            <p:cNvPr id="110" name="Rectangle 3" descr=""/>
            <p:cNvPicPr/>
            <p:nvPr/>
          </p:nvPicPr>
          <p:blipFill>
            <a:blip r:embed="rId2"/>
            <a:stretch/>
          </p:blipFill>
          <p:spPr>
            <a:xfrm>
              <a:off x="208080" y="920880"/>
              <a:ext cx="8764560" cy="57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4200" y="928800"/>
              <a:ext cx="87505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Comic Sans MS"/>
                </a:rPr>
                <a:t>Transition to labour market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Comic Sans MS"/>
                </a:rPr>
                <a:t>Employer and graduate considerations for job recruitment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Comic Sans MS"/>
                </a:rPr>
                <a:t>Employment status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ffffff"/>
                  </a:solidFill>
                  <a:latin typeface="Comic Sans MS"/>
                </a:rPr>
                <a:t>University contribution to competencies &amp; their utilization at work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ffffff"/>
                  </a:solidFill>
                  <a:latin typeface="Comic Sans MS"/>
                </a:rPr>
                <a:t>Contrast of competencies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76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900" spc="-1" strike="noStrike">
                  <a:solidFill>
                    <a:srgbClr val="ffffff"/>
                  </a:solidFill>
                  <a:latin typeface="Comic Sans MS"/>
                </a:rPr>
                <a:t>Basis of study program for work performance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buClr>
                  <a:srgbClr val="cc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2" name="Rectangle 2"/>
          <p:cNvSpPr/>
          <p:nvPr/>
        </p:nvSpPr>
        <p:spPr>
          <a:xfrm>
            <a:off x="2484360" y="5805360"/>
            <a:ext cx="424836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Transition. Competencies.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8800" y="272880"/>
            <a:ext cx="1411200" cy="6559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1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24000" y="487440"/>
            <a:ext cx="521964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b search starts 5 months before gradu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 search jobs, most graduates (54%) relied on adverts, 32% through parents, relatives and friends and 21% through work placement, internship and attach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duates seldom used contemporary means e.g., internet, career offi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duates contacted at least 10 (mode &amp; median) potential employers to seek employment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385128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ransition to labour marke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05B-272E-4D1D-AB52-AF43C4659A17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24000" y="3141720"/>
            <a:ext cx="3527280" cy="1871640"/>
          </a:xfrm>
          <a:prstGeom prst="rect">
            <a:avLst/>
          </a:prstGeom>
          <a:solidFill>
            <a:srgbClr val="a6a6a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ob search trends corroborate well with the actual job acquisition patter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800" y="272880"/>
            <a:ext cx="1411200" cy="6559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Results 2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434960"/>
            <a:ext cx="371484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mployer considerations in recru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46% study program importa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65% University reputation importa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0"/>
            <a:ext cx="755640" cy="73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90C-EC54-4E22-8323-6C4C2D331289}" type="slidenum">
              <a:rPr b="0" lang="de-DE" sz="1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80000" y="333360"/>
            <a:ext cx="536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Graduate job se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Content Placeholder 8" descr=""/>
          <p:cNvPicPr/>
          <p:nvPr/>
        </p:nvPicPr>
        <p:blipFill>
          <a:blip r:embed="rId2"/>
          <a:stretch/>
        </p:blipFill>
        <p:spPr>
          <a:xfrm>
            <a:off x="3992400" y="974880"/>
            <a:ext cx="4042080" cy="3468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300640"/>
            <a:ext cx="8424720" cy="12970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omic Sans MS"/>
              </a:rPr>
              <a:t>Kenya faces unemployment problem  like many countries in the region do. Jobs are competetive and employers dictate terms. This leaves graduates desperate just to earn a salary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50920" y="4508640"/>
            <a:ext cx="3384360" cy="7207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rom which university are you and what degree do you hold?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292720" y="4508640"/>
            <a:ext cx="3382920" cy="72072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alary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gardless of the nature of the job… I am just lucky to get a job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Left-Right Arrow 9"/>
          <p:cNvSpPr/>
          <p:nvPr/>
        </p:nvSpPr>
        <p:spPr>
          <a:xfrm rot="4320000">
            <a:off x="1947600" y="2831760"/>
            <a:ext cx="5032440" cy="10800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adca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32:07Z</dcterms:created>
  <dc:creator>Harald Schomburg</dc:creator>
  <dc:description/>
  <dc:language>en-US</dc:language>
  <cp:lastModifiedBy>Dr. Omar</cp:lastModifiedBy>
  <dcterms:modified xsi:type="dcterms:W3CDTF">2012-10-21T07:16:32Z</dcterms:modified>
  <cp:revision>302</cp:revision>
  <dc:subject/>
  <dc:title>University-to-Work Transitions in Gremany</dc:title>
</cp:coreProperties>
</file>