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5.png" ContentType="image/png"/>
  <Override PartName="/ppt/media/image30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93D3-47B3-44D0-9007-5B2977287DB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DE7-E50E-48B1-944E-B9FC88BA7C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CF6A-FE54-4074-9FB0-FDEA3140D79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DE17-6A7E-4F87-9B74-5EF0EE6B775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F198-971B-4D90-8386-51603DB2B1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54D6-9F69-4CAA-91DD-44F07E711AD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5F9E-787C-426A-AE07-068F6482C9D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A746-ADBC-4F13-81F3-F8115BEFAC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FCEB-686A-40A8-997A-5DC9A43D58A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B1F1-ABE1-4A82-812E-3E8D29D86C4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in detail at the B situation (AlmLaurea 2010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% enters M % rather high, and this is a cause for ……..that B is useless (this claim is frequent in Ital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wer about 15% of B graduates enters Master and has a job (M is a kind of LLP Programme for a significant number of persons enroll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(working and not attending M) and d (all attending M) went down from 2009 to 2010: 12,6 of graduates in 2009, 14,3, in 2010, neither work or study: we have to worry of a part of the new generation concerning this skeptical fu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B28-0A67-466E-87EF-87AEDF8693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DF5-F266-4288-8B78-40EF960FD7E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F02-B09F-4D26-BE7F-25C6C27D725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E117-2AED-44DF-B417-E62FAA05DE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egnaposto numero diapositiva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8EA0-90F6-4FEA-AF9E-713AB729B95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518-83D3-46DC-8D41-F46856FF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D31-E1D2-4276-B41E-1C55C928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459-B5D2-4DF2-A4A2-6E513D90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77A-C7C6-42CF-A396-C7B8CD2C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B4D-EF86-4158-8333-26196E2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3AD-5445-4FBB-AAF4-7AF05806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2E1-FD5E-4351-80B7-4EF28EB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88C-719F-4AC4-943B-831BDEAE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E0B-5CB4-4813-B4DB-0FE7FC78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3F9-A56C-4B2E-B67A-D9188CD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296-446D-4430-9174-E06697D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2C0-A192-4C00-BEDE-C36488D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7BE-A79A-400D-84AB-6C99E1CE8BE0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B556-B0B0-48B4-B30F-65158613094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2BF0-D37E-4E94-B01C-F46AB314BCF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rcRect l="0" t="0" r="0" b="73924"/>
          <a:stretch/>
        </p:blipFill>
        <p:spPr>
          <a:xfrm>
            <a:off x="2195640" y="260280"/>
            <a:ext cx="4743360" cy="131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rcRect l="1648" t="0" r="2023" b="0"/>
          <a:stretch/>
        </p:blipFill>
        <p:spPr>
          <a:xfrm>
            <a:off x="787320" y="5732640"/>
            <a:ext cx="7561440" cy="793440"/>
          </a:xfrm>
          <a:prstGeom prst="rect">
            <a:avLst/>
          </a:prstGeom>
          <a:ln w="0">
            <a:noFill/>
          </a:ln>
        </p:spPr>
      </p:pic>
      <p:sp>
        <p:nvSpPr>
          <p:cNvPr id="51" name="Rettangolo 2"/>
          <p:cNvSpPr/>
          <p:nvPr/>
        </p:nvSpPr>
        <p:spPr>
          <a:xfrm>
            <a:off x="1138320" y="1341360"/>
            <a:ext cx="6912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mployment of university graduates in Italy and competence matching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iunio Luzzatto, CARED - University of Gen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efania Mangano, CARED - University of Gen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berto Moscati, University of Milan-Bicoc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ria Teresa Pieri, CARED - University of Gen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rcRect l="0" t="0" r="44193" b="0"/>
          <a:stretch/>
        </p:blipFill>
        <p:spPr>
          <a:xfrm>
            <a:off x="1111320" y="3906720"/>
            <a:ext cx="69120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1000" y="-6480"/>
            <a:ext cx="879624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 survey designed for heads of degree programmes. 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tangolo 4"/>
          <p:cNvSpPr/>
          <p:nvPr/>
        </p:nvSpPr>
        <p:spPr>
          <a:xfrm>
            <a:off x="395280" y="40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s were asked to select, from a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list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44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five general competences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their programme mainly aims to provide to their stu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889600" y="6108840"/>
          <a:ext cx="2786040" cy="633240"/>
        </p:xfrm>
        <a:graphic>
          <a:graphicData uri="http://schemas.openxmlformats.org/drawingml/2006/table">
            <a:tbl>
              <a:tblPr/>
              <a:tblGrid>
                <a:gridCol w="539640"/>
                <a:gridCol w="2246400"/>
              </a:tblGrid>
              <a:tr h="633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tion management ski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</a:tbl>
          </a:graphicData>
        </a:graphic>
      </p:graphicFrame>
      <p:pic>
        <p:nvPicPr>
          <p:cNvPr id="142" name="Grafico 9" descr=""/>
          <p:cNvPicPr/>
          <p:nvPr/>
        </p:nvPicPr>
        <p:blipFill>
          <a:blip r:embed="rId1"/>
          <a:stretch/>
        </p:blipFill>
        <p:spPr>
          <a:xfrm>
            <a:off x="93600" y="1001880"/>
            <a:ext cx="8813880" cy="5103720"/>
          </a:xfrm>
          <a:prstGeom prst="rect">
            <a:avLst/>
          </a:prstGeom>
          <a:ln w="0">
            <a:noFill/>
          </a:ln>
        </p:spPr>
      </p:pic>
      <p:sp>
        <p:nvSpPr>
          <p:cNvPr id="143" name="CasellaDiTesto 2"/>
          <p:cNvSpPr/>
          <p:nvPr/>
        </p:nvSpPr>
        <p:spPr>
          <a:xfrm>
            <a:off x="3564000" y="3992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+ two competences different from C.2 and C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asellaDiTesto 10"/>
          <p:cNvSpPr/>
          <p:nvPr/>
        </p:nvSpPr>
        <p:spPr>
          <a:xfrm>
            <a:off x="3348000" y="4667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+ two competences different from C.1 and C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asellaDiTesto 11"/>
          <p:cNvSpPr/>
          <p:nvPr/>
        </p:nvSpPr>
        <p:spPr>
          <a:xfrm>
            <a:off x="4932360" y="5318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+ one  competence different from C.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6108840"/>
          <a:ext cx="2878200" cy="633240"/>
        </p:xfrm>
        <a:graphic>
          <a:graphicData uri="http://schemas.openxmlformats.org/drawingml/2006/table">
            <a:tbl>
              <a:tblPr/>
              <a:tblGrid>
                <a:gridCol w="492120"/>
                <a:gridCol w="2386080"/>
              </a:tblGrid>
              <a:tr h="633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5e8f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pacity for analysis and synthe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5e8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9600" y="6108840"/>
          <a:ext cx="2364120" cy="633240"/>
        </p:xfrm>
        <a:graphic>
          <a:graphicData uri="http://schemas.openxmlformats.org/drawingml/2006/table">
            <a:tbl>
              <a:tblPr/>
              <a:tblGrid>
                <a:gridCol w="546120"/>
                <a:gridCol w="1818000"/>
              </a:tblGrid>
              <a:tr h="633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lem sol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sp>
        <p:nvSpPr>
          <p:cNvPr id="148" name="Segnaposto numero diapositiva 3"/>
          <p:cNvSpPr/>
          <p:nvPr/>
        </p:nvSpPr>
        <p:spPr>
          <a:xfrm>
            <a:off x="687564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33A6-1F8B-44B5-9ACE-05BDAD0CD62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D035-C23E-48C7-A4E8-E3B881DDD1C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ttangolo 7"/>
          <p:cNvSpPr/>
          <p:nvPr/>
        </p:nvSpPr>
        <p:spPr>
          <a:xfrm>
            <a:off x="688680" y="293760"/>
            <a:ext cx="7712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Methodologies mostly relevant for each competence selected –Two in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s  (calculated on the number of respons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ttangolo 8"/>
          <p:cNvSpPr/>
          <p:nvPr/>
        </p:nvSpPr>
        <p:spPr>
          <a:xfrm>
            <a:off x="147600" y="-100080"/>
            <a:ext cx="91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survey designed for heads of degree programmes.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Grafico 4" descr=""/>
          <p:cNvPicPr/>
          <p:nvPr/>
        </p:nvPicPr>
        <p:blipFill>
          <a:blip r:embed="rId1"/>
          <a:stretch/>
        </p:blipFill>
        <p:spPr>
          <a:xfrm>
            <a:off x="-50760" y="930240"/>
            <a:ext cx="924552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9786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0D7D-9942-4F94-A015-BFBE3833797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tangolo 6"/>
          <p:cNvSpPr/>
          <p:nvPr/>
        </p:nvSpPr>
        <p:spPr>
          <a:xfrm>
            <a:off x="147600" y="-100080"/>
            <a:ext cx="911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 survey designed for heads of degree programmes. 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ttangolo 9"/>
          <p:cNvSpPr/>
          <p:nvPr/>
        </p:nvSpPr>
        <p:spPr>
          <a:xfrm>
            <a:off x="366840" y="437364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Co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tangolo 10"/>
          <p:cNvSpPr/>
          <p:nvPr/>
        </p:nvSpPr>
        <p:spPr>
          <a:xfrm rot="16200000">
            <a:off x="-927360" y="3006000"/>
            <a:ext cx="23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Other Learn. Activ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Connettore 2 5"/>
          <p:cNvCxnSpPr/>
          <p:nvPr/>
        </p:nvCxnSpPr>
        <p:spPr>
          <a:xfrm flipV="1">
            <a:off x="536040" y="2491920"/>
            <a:ext cx="1080" cy="18820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158" name="Connettore 2 17"/>
          <p:cNvCxnSpPr/>
          <p:nvPr/>
        </p:nvCxnSpPr>
        <p:spPr>
          <a:xfrm>
            <a:off x="536040" y="4373280"/>
            <a:ext cx="2142360" cy="10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59" name="Connettore 1 19"/>
          <p:cNvSpPr/>
          <p:nvPr/>
        </p:nvSpPr>
        <p:spPr>
          <a:xfrm flipH="1" flipV="1">
            <a:off x="536040" y="3747960"/>
            <a:ext cx="846360" cy="625680"/>
          </a:xfrm>
          <a:prstGeom prst="line">
            <a:avLst/>
          </a:prstGeom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onnettore 1 22"/>
          <p:cNvSpPr/>
          <p:nvPr/>
        </p:nvSpPr>
        <p:spPr>
          <a:xfrm flipH="1" flipV="1">
            <a:off x="536040" y="3357720"/>
            <a:ext cx="1420920" cy="1015920"/>
          </a:xfrm>
          <a:prstGeom prst="line">
            <a:avLst/>
          </a:prstGeom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onnettore 1 28"/>
          <p:cNvSpPr/>
          <p:nvPr/>
        </p:nvSpPr>
        <p:spPr>
          <a:xfrm flipH="1" flipV="1">
            <a:off x="536040" y="2966760"/>
            <a:ext cx="2025720" cy="1406520"/>
          </a:xfrm>
          <a:prstGeom prst="line">
            <a:avLst/>
          </a:prstGeom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ttangolo 35"/>
          <p:cNvSpPr/>
          <p:nvPr/>
        </p:nvSpPr>
        <p:spPr>
          <a:xfrm>
            <a:off x="536400" y="29671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Bo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asellaDiTesto 12"/>
          <p:cNvSpPr/>
          <p:nvPr/>
        </p:nvSpPr>
        <p:spPr>
          <a:xfrm>
            <a:off x="2711520" y="407880"/>
            <a:ext cx="63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Contribution to competences given by Courses(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), by Other Learning Activities (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OLA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), or by Bo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rcRect l="-2204" t="14469" r="0" b="27186"/>
          <a:stretch/>
        </p:blipFill>
        <p:spPr>
          <a:xfrm>
            <a:off x="2484360" y="1071720"/>
            <a:ext cx="6629400" cy="3870000"/>
          </a:xfrm>
          <a:prstGeom prst="rect">
            <a:avLst/>
          </a:prstGeom>
          <a:ln w="0">
            <a:noFill/>
          </a:ln>
        </p:spPr>
      </p:pic>
      <p:sp>
        <p:nvSpPr>
          <p:cNvPr id="165" name="Rombo 63"/>
          <p:cNvSpPr/>
          <p:nvPr/>
        </p:nvSpPr>
        <p:spPr>
          <a:xfrm>
            <a:off x="7647120" y="9515520"/>
            <a:ext cx="95040" cy="103320"/>
          </a:xfrm>
          <a:prstGeom prst="diamond">
            <a:avLst/>
          </a:prstGeom>
          <a:solidFill>
            <a:srgbClr val="f79646"/>
          </a:solidFill>
          <a:ln w="9360">
            <a:solidFill>
              <a:srgbClr val="007ad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mbo 64"/>
          <p:cNvSpPr/>
          <p:nvPr/>
        </p:nvSpPr>
        <p:spPr>
          <a:xfrm>
            <a:off x="4691160" y="9518760"/>
            <a:ext cx="95040" cy="102960"/>
          </a:xfrm>
          <a:prstGeom prst="diamond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4" descr=""/>
          <p:cNvPicPr/>
          <p:nvPr/>
        </p:nvPicPr>
        <p:blipFill>
          <a:blip r:embed="rId2"/>
          <a:stretch/>
        </p:blipFill>
        <p:spPr>
          <a:xfrm>
            <a:off x="2693880" y="4956120"/>
            <a:ext cx="63547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1160"/>
            <a:ext cx="82296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 results of our survey.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8503-342C-409A-8FBE-3DC907E0AB6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98000" y="1483920"/>
            <a:ext cx="8713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alian academic system is still largely founded on discipline-based teaching , i.e. is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still teacher-cente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finition of objectives expressed using the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Dublin Descriptors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present because it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s required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is mostly extraneous to the true organization of the curricul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action with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employer representatives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lways present, but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only in some cas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real impac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 the running of the programme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 rot="1031400">
            <a:off x="6967440" y="965160"/>
            <a:ext cx="190980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 rot="19918200">
            <a:off x="127080" y="272520"/>
            <a:ext cx="1012680" cy="758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29152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 results of our survey.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9240" y="170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wareness of the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need to include generic competences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o the objectives, in addition to specific discipline-based learning outco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least the terminology of these competences is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becoming part of the language of many curricu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very often the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generic competenc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d in the programmes are mainly the ones which are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losely linked to the specific subject areas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0B6E-952D-4A10-898D-2E4BB53631E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 rot="898800">
            <a:off x="7989840" y="274680"/>
            <a:ext cx="846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 rot="20573400">
            <a:off x="193680" y="136080"/>
            <a:ext cx="1757520" cy="9921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92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urther develop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664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vercom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mismatch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th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equired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ompetences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what graduates effectively have,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talian universit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move in a much more systemic way into a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udent-centere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ach, based on learning outcomes and compet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contributing to this objective through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wo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are now sta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451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Calibri"/>
              </a:rPr>
              <a:t>Introduction</a:t>
            </a: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ALMALAUREA survey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a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new ite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posing questions to the graduates about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generic competences acquired during their University pathw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451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451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Calibri"/>
              </a:rPr>
              <a:t>Plann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Curricula focused on student-centered methodologies, generic competenc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interdisciplinarity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to be adopted by some University programmes willing to experiment an innovative appro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451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C33A-6F82-4289-A784-93E86F43DC5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334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B/M System in EH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1196640"/>
            <a:ext cx="449424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504d"/>
                </a:solidFill>
                <a:latin typeface="Calibri"/>
              </a:rPr>
              <a:t>47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Countri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26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more than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90%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students in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B/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571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Usually, programmes for regulated professions miss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1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mong these,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70-89%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B/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t many compared data for differences in B and M rate of employment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numero diapositiva 4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533-22C0-4C17-B598-E0E394E985E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 rot="348600">
            <a:off x="1239840" y="-88560"/>
            <a:ext cx="1030320" cy="1090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rcRect l="12930" t="31900" r="35345" b="10778"/>
          <a:stretch/>
        </p:blipFill>
        <p:spPr>
          <a:xfrm>
            <a:off x="4657680" y="1266840"/>
            <a:ext cx="4380120" cy="3639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rcRect l="75721" t="60886" r="21138" b="19503"/>
          <a:stretch/>
        </p:blipFill>
        <p:spPr>
          <a:xfrm>
            <a:off x="8748720" y="1359000"/>
            <a:ext cx="201600" cy="94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4"/>
          <a:srcRect l="66652" t="59956" r="29096" b="19862"/>
          <a:stretch/>
        </p:blipFill>
        <p:spPr>
          <a:xfrm>
            <a:off x="8459640" y="1309680"/>
            <a:ext cx="277920" cy="98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rcRect l="10239" t="24680" r="5847" b="37662"/>
          <a:stretch/>
        </p:blipFill>
        <p:spPr>
          <a:xfrm>
            <a:off x="4643280" y="4906800"/>
            <a:ext cx="43801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Employment of university graduates: the Italian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327-0B4A-452D-8916-2C0FD9EDD84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olo 1"/>
          <p:cNvSpPr/>
          <p:nvPr/>
        </p:nvSpPr>
        <p:spPr>
          <a:xfrm>
            <a:off x="706320" y="826920"/>
            <a:ext cx="3918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ata collected by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504d"/>
                </a:solidFill>
                <a:latin typeface="Calibri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University consorti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olo 1"/>
          <p:cNvSpPr/>
          <p:nvPr/>
        </p:nvSpPr>
        <p:spPr>
          <a:xfrm>
            <a:off x="-498600" y="3213000"/>
            <a:ext cx="341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54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Univers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olo 1"/>
          <p:cNvSpPr/>
          <p:nvPr/>
        </p:nvSpPr>
        <p:spPr>
          <a:xfrm>
            <a:off x="2025720" y="3368520"/>
            <a:ext cx="3684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9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Universiti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of which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Lombard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 rot="20740200">
            <a:off x="2950920" y="2395440"/>
            <a:ext cx="2038320" cy="95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 rot="608400">
            <a:off x="145800" y="2469960"/>
            <a:ext cx="2273040" cy="871200"/>
          </a:xfrm>
          <a:prstGeom prst="rect">
            <a:avLst/>
          </a:prstGeom>
          <a:ln w="0">
            <a:noFill/>
          </a:ln>
        </p:spPr>
      </p:pic>
      <p:sp>
        <p:nvSpPr>
          <p:cNvPr id="68" name="Freccia a destra con strisce 12"/>
          <p:cNvSpPr/>
          <p:nvPr/>
        </p:nvSpPr>
        <p:spPr>
          <a:xfrm rot="8480400">
            <a:off x="1193040" y="1706040"/>
            <a:ext cx="1104840" cy="540000"/>
          </a:xfrm>
          <a:custGeom>
            <a:avLst/>
            <a:gdLst/>
            <a:ahLst/>
            <a:rect l="l" t="t" r="r" b="b"/>
            <a:pathLst>
              <a:path w="1104673" h="539010">
                <a:moveTo>
                  <a:pt x="0" y="134753"/>
                </a:moveTo>
                <a:lnTo>
                  <a:pt x="16844" y="134753"/>
                </a:lnTo>
                <a:lnTo>
                  <a:pt x="16844" y="404258"/>
                </a:lnTo>
                <a:lnTo>
                  <a:pt x="0" y="404258"/>
                </a:lnTo>
                <a:lnTo>
                  <a:pt x="0" y="134753"/>
                </a:lnTo>
                <a:close/>
                <a:moveTo>
                  <a:pt x="33688" y="134753"/>
                </a:moveTo>
                <a:lnTo>
                  <a:pt x="67376" y="134753"/>
                </a:lnTo>
                <a:lnTo>
                  <a:pt x="67376" y="404258"/>
                </a:lnTo>
                <a:lnTo>
                  <a:pt x="33688" y="404258"/>
                </a:lnTo>
                <a:lnTo>
                  <a:pt x="33688" y="134753"/>
                </a:lnTo>
                <a:close/>
                <a:moveTo>
                  <a:pt x="84220" y="134753"/>
                </a:moveTo>
                <a:lnTo>
                  <a:pt x="835168" y="134753"/>
                </a:lnTo>
                <a:lnTo>
                  <a:pt x="835168" y="0"/>
                </a:lnTo>
                <a:lnTo>
                  <a:pt x="1104673" y="269505"/>
                </a:lnTo>
                <a:lnTo>
                  <a:pt x="835168" y="539010"/>
                </a:lnTo>
                <a:lnTo>
                  <a:pt x="835168" y="404258"/>
                </a:lnTo>
                <a:lnTo>
                  <a:pt x="84220" y="404258"/>
                </a:lnTo>
                <a:lnTo>
                  <a:pt x="84220" y="13475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5234040" y="1160640"/>
            <a:ext cx="3776760" cy="4789440"/>
          </a:xfrm>
          <a:prstGeom prst="rect">
            <a:avLst/>
          </a:prstGeom>
          <a:ln w="0">
            <a:noFill/>
          </a:ln>
        </p:spPr>
      </p:pic>
      <p:sp>
        <p:nvSpPr>
          <p:cNvPr id="70" name="Ovale 13"/>
          <p:cNvSpPr/>
          <p:nvPr/>
        </p:nvSpPr>
        <p:spPr>
          <a:xfrm>
            <a:off x="5767560" y="1589040"/>
            <a:ext cx="820440" cy="79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olo 1"/>
          <p:cNvSpPr/>
          <p:nvPr/>
        </p:nvSpPr>
        <p:spPr>
          <a:xfrm>
            <a:off x="747720" y="5699160"/>
            <a:ext cx="3683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ogether, </a:t>
            </a: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over 80%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f Italian Graduat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ccia a destra con strisce 15"/>
          <p:cNvSpPr/>
          <p:nvPr/>
        </p:nvSpPr>
        <p:spPr>
          <a:xfrm rot="2208000">
            <a:off x="3069720" y="1715760"/>
            <a:ext cx="1103400" cy="538200"/>
          </a:xfrm>
          <a:custGeom>
            <a:avLst/>
            <a:gdLst/>
            <a:ahLst/>
            <a:rect l="l" t="t" r="r" b="b"/>
            <a:pathLst>
              <a:path w="1104673" h="539010">
                <a:moveTo>
                  <a:pt x="0" y="134753"/>
                </a:moveTo>
                <a:lnTo>
                  <a:pt x="16844" y="134753"/>
                </a:lnTo>
                <a:lnTo>
                  <a:pt x="16844" y="404258"/>
                </a:lnTo>
                <a:lnTo>
                  <a:pt x="0" y="404258"/>
                </a:lnTo>
                <a:lnTo>
                  <a:pt x="0" y="134753"/>
                </a:lnTo>
                <a:close/>
                <a:moveTo>
                  <a:pt x="33688" y="134753"/>
                </a:moveTo>
                <a:lnTo>
                  <a:pt x="67376" y="134753"/>
                </a:lnTo>
                <a:lnTo>
                  <a:pt x="67376" y="404258"/>
                </a:lnTo>
                <a:lnTo>
                  <a:pt x="33688" y="404258"/>
                </a:lnTo>
                <a:lnTo>
                  <a:pt x="33688" y="134753"/>
                </a:lnTo>
                <a:close/>
                <a:moveTo>
                  <a:pt x="84220" y="134753"/>
                </a:moveTo>
                <a:lnTo>
                  <a:pt x="835168" y="134753"/>
                </a:lnTo>
                <a:lnTo>
                  <a:pt x="835168" y="0"/>
                </a:lnTo>
                <a:lnTo>
                  <a:pt x="1104673" y="269505"/>
                </a:lnTo>
                <a:lnTo>
                  <a:pt x="835168" y="539010"/>
                </a:lnTo>
                <a:lnTo>
                  <a:pt x="835168" y="404258"/>
                </a:lnTo>
                <a:lnTo>
                  <a:pt x="84220" y="404258"/>
                </a:lnTo>
                <a:lnTo>
                  <a:pt x="84220" y="13475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llout con freccia in giù 8"/>
          <p:cNvSpPr/>
          <p:nvPr/>
        </p:nvSpPr>
        <p:spPr>
          <a:xfrm>
            <a:off x="103320" y="2532240"/>
            <a:ext cx="4973400" cy="2768400"/>
          </a:xfrm>
          <a:prstGeom prst="downArrowCallout">
            <a:avLst>
              <a:gd name="adj1" fmla="val 25003"/>
              <a:gd name="adj2" fmla="val 25009"/>
              <a:gd name="adj3" fmla="val 25000"/>
              <a:gd name="adj4" fmla="val 6497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rafico 14" descr=""/>
          <p:cNvPicPr/>
          <p:nvPr/>
        </p:nvPicPr>
        <p:blipFill>
          <a:blip r:embed="rId1"/>
          <a:stretch/>
        </p:blipFill>
        <p:spPr>
          <a:xfrm>
            <a:off x="822240" y="1231920"/>
            <a:ext cx="7096320" cy="4894200"/>
          </a:xfrm>
          <a:prstGeom prst="rect">
            <a:avLst/>
          </a:prstGeom>
          <a:ln w="0">
            <a:noFill/>
          </a:ln>
        </p:spPr>
      </p:pic>
      <p:grpSp>
        <p:nvGrpSpPr>
          <p:cNvPr id="75" name="Rettangolo 11"/>
          <p:cNvGrpSpPr/>
          <p:nvPr/>
        </p:nvGrpSpPr>
        <p:grpSpPr>
          <a:xfrm>
            <a:off x="5651640" y="1542960"/>
            <a:ext cx="1309680" cy="2455920"/>
            <a:chOff x="5651640" y="1542960"/>
            <a:chExt cx="1309680" cy="2455920"/>
          </a:xfrm>
        </p:grpSpPr>
        <p:pic>
          <p:nvPicPr>
            <p:cNvPr id="76" name="Rettangolo 11" descr=""/>
            <p:cNvPicPr/>
            <p:nvPr/>
          </p:nvPicPr>
          <p:blipFill>
            <a:blip r:embed="rId2"/>
            <a:stretch/>
          </p:blipFill>
          <p:spPr>
            <a:xfrm>
              <a:off x="5651640" y="1542960"/>
              <a:ext cx="1309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012000" y="1557360"/>
              <a:ext cx="93636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0" y="-100440"/>
            <a:ext cx="8497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from Employment surveys in Italy.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6659640" y="6259680"/>
            <a:ext cx="2133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BBA4-8D1B-4760-AAE1-1AFAE3DFE8C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tangolo 4"/>
          <p:cNvSpPr/>
          <p:nvPr/>
        </p:nvSpPr>
        <p:spPr>
          <a:xfrm>
            <a:off x="1258920" y="758880"/>
            <a:ext cx="640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ercentage working,  1 year after grad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2"/>
          <p:cNvSpPr/>
          <p:nvPr/>
        </p:nvSpPr>
        <p:spPr>
          <a:xfrm>
            <a:off x="6148440" y="2433600"/>
            <a:ext cx="7189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0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3203640" y="2712960"/>
            <a:ext cx="1655640" cy="93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4"/>
          <a:stretch/>
        </p:blipFill>
        <p:spPr>
          <a:xfrm>
            <a:off x="3205080" y="2190600"/>
            <a:ext cx="1656000" cy="85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5"/>
          <a:stretch/>
        </p:blipFill>
        <p:spPr>
          <a:xfrm>
            <a:off x="3635280" y="5079960"/>
            <a:ext cx="1657440" cy="93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6"/>
          <a:stretch/>
        </p:blipFill>
        <p:spPr>
          <a:xfrm>
            <a:off x="3635280" y="4508640"/>
            <a:ext cx="1657440" cy="85392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1"/>
          <p:cNvSpPr/>
          <p:nvPr/>
        </p:nvSpPr>
        <p:spPr>
          <a:xfrm>
            <a:off x="2916360" y="3949560"/>
            <a:ext cx="2987640" cy="588960"/>
          </a:xfrm>
          <a:prstGeom prst="rect">
            <a:avLst/>
          </a:prstGeom>
          <a:solidFill>
            <a:srgbClr val="cdd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Weighted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Total:  52.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Data for Employment surveys in Italy.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658800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B86A-B536-46A1-AD7E-CBD92BBA776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 rot="20864400">
            <a:off x="60120" y="625320"/>
            <a:ext cx="2038320" cy="781200"/>
          </a:xfrm>
          <a:prstGeom prst="rect">
            <a:avLst/>
          </a:prstGeom>
          <a:ln w="0">
            <a:noFill/>
          </a:ln>
        </p:spPr>
      </p:pic>
      <p:sp>
        <p:nvSpPr>
          <p:cNvPr id="90" name="Parentesi graffa chiusa 5"/>
          <p:cNvSpPr/>
          <p:nvPr/>
        </p:nvSpPr>
        <p:spPr>
          <a:xfrm>
            <a:off x="6588000" y="3024360"/>
            <a:ext cx="648000" cy="2339640"/>
          </a:xfrm>
          <a:custGeom>
            <a:avLst/>
            <a:gdLst>
              <a:gd name="textAreaLeft" fmla="*/ 0 w 648000"/>
              <a:gd name="textAreaRight" fmla="*/ 234000 w 648000"/>
              <a:gd name="textAreaTop" fmla="*/ 16560 h 2339640"/>
              <a:gd name="textAreaBottom" fmla="*/ 2323080 h 23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"/>
                  <a:pt x="10800" y="499"/>
                </a:cubicBezTo>
                <a:lnTo>
                  <a:pt x="10800" y="10301"/>
                </a:lnTo>
                <a:cubicBezTo>
                  <a:pt x="10800" y="10551"/>
                  <a:pt x="16200" y="10800"/>
                  <a:pt x="21600" y="10800"/>
                </a:cubicBezTo>
                <a:cubicBezTo>
                  <a:pt x="16200" y="10800"/>
                  <a:pt x="10800" y="11050"/>
                  <a:pt x="10800" y="11299"/>
                </a:cubicBezTo>
                <a:lnTo>
                  <a:pt x="10800" y="21101"/>
                </a:lnTo>
                <a:cubicBezTo>
                  <a:pt x="10800" y="2135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arentesi graffa chiusa 7"/>
          <p:cNvSpPr/>
          <p:nvPr/>
        </p:nvSpPr>
        <p:spPr>
          <a:xfrm>
            <a:off x="5219640" y="1916280"/>
            <a:ext cx="504720" cy="182880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8"/>
                  <a:pt x="10800" y="496"/>
                </a:cubicBezTo>
                <a:lnTo>
                  <a:pt x="10800" y="10304"/>
                </a:lnTo>
                <a:cubicBezTo>
                  <a:pt x="10800" y="10552"/>
                  <a:pt x="16200" y="10800"/>
                  <a:pt x="21600" y="10800"/>
                </a:cubicBezTo>
                <a:cubicBezTo>
                  <a:pt x="16200" y="10800"/>
                  <a:pt x="10800" y="11048"/>
                  <a:pt x="10800" y="11296"/>
                </a:cubicBezTo>
                <a:lnTo>
                  <a:pt x="10800" y="21104"/>
                </a:lnTo>
                <a:cubicBezTo>
                  <a:pt x="10800" y="2135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1"/>
          <p:cNvSpPr/>
          <p:nvPr/>
        </p:nvSpPr>
        <p:spPr>
          <a:xfrm>
            <a:off x="5940360" y="2363760"/>
            <a:ext cx="12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a+b = 41.6 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1"/>
          <p:cNvSpPr/>
          <p:nvPr/>
        </p:nvSpPr>
        <p:spPr>
          <a:xfrm>
            <a:off x="4896000" y="5567400"/>
            <a:ext cx="115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it-IT" sz="1400" spc="-1" strike="noStrike">
                <a:solidFill>
                  <a:srgbClr val="0070c0"/>
                </a:solidFill>
                <a:latin typeface="Calibri"/>
              </a:rPr>
              <a:t> 1.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0070c0"/>
                </a:solidFill>
                <a:latin typeface="Calibri"/>
              </a:rPr>
              <a:t>from 2009 to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e 10"/>
          <p:cNvSpPr/>
          <p:nvPr/>
        </p:nvSpPr>
        <p:spPr>
          <a:xfrm flipV="1">
            <a:off x="5111640" y="5486400"/>
            <a:ext cx="621000" cy="378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ccia in su 11"/>
          <p:cNvSpPr/>
          <p:nvPr/>
        </p:nvSpPr>
        <p:spPr>
          <a:xfrm>
            <a:off x="4680000" y="5459400"/>
            <a:ext cx="431640" cy="720720"/>
          </a:xfrm>
          <a:prstGeom prst="upArrow">
            <a:avLst>
              <a:gd name="adj1" fmla="val 50000"/>
              <a:gd name="adj2" fmla="val 50092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asellaDiTesto 2"/>
          <p:cNvSpPr/>
          <p:nvPr/>
        </p:nvSpPr>
        <p:spPr>
          <a:xfrm>
            <a:off x="7380360" y="3860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b0f0"/>
                </a:solidFill>
                <a:latin typeface="Calibri"/>
              </a:rPr>
              <a:t>b+c= 58.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b0f0"/>
                </a:solidFill>
                <a:latin typeface="Calibri"/>
              </a:rPr>
              <a:t>Attends  a M Cours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Grafico 15" descr=""/>
          <p:cNvPicPr/>
          <p:nvPr/>
        </p:nvPicPr>
        <p:blipFill>
          <a:blip r:embed="rId2"/>
          <a:stretch/>
        </p:blipFill>
        <p:spPr>
          <a:xfrm>
            <a:off x="176040" y="695160"/>
            <a:ext cx="8643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uppo 4"/>
          <p:cNvGrpSpPr/>
          <p:nvPr/>
        </p:nvGrpSpPr>
        <p:grpSpPr>
          <a:xfrm>
            <a:off x="4030560" y="1293840"/>
            <a:ext cx="5113440" cy="5484960"/>
            <a:chOff x="4030560" y="1293840"/>
            <a:chExt cx="5113440" cy="5484960"/>
          </a:xfrm>
        </p:grpSpPr>
        <p:pic>
          <p:nvPicPr>
            <p:cNvPr id="99" name="Segnaposto contenuto 7" descr=""/>
            <p:cNvPicPr/>
            <p:nvPr/>
          </p:nvPicPr>
          <p:blipFill>
            <a:blip r:embed="rId1"/>
            <a:stretch/>
          </p:blipFill>
          <p:spPr>
            <a:xfrm>
              <a:off x="4030560" y="1293840"/>
              <a:ext cx="4878360" cy="548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ttangolo 2"/>
            <p:cNvSpPr/>
            <p:nvPr/>
          </p:nvSpPr>
          <p:spPr>
            <a:xfrm>
              <a:off x="6444000" y="1522440"/>
              <a:ext cx="2700000" cy="514080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egnaposto contenuto 7" descr=""/>
          <p:cNvPicPr/>
          <p:nvPr/>
        </p:nvPicPr>
        <p:blipFill>
          <a:blip r:embed="rId2"/>
          <a:stretch/>
        </p:blipFill>
        <p:spPr>
          <a:xfrm>
            <a:off x="3954600" y="1217520"/>
            <a:ext cx="5240160" cy="5699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alibri"/>
              </a:rPr>
              <a:t>Data for Employment surveys in Italy. 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6804000" y="6365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7CE9-6B17-45E2-912F-0B42C3CAFEA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8000" y="2279520"/>
          <a:ext cx="3816360" cy="4173840"/>
        </p:xfrm>
        <a:graphic>
          <a:graphicData uri="http://schemas.openxmlformats.org/drawingml/2006/table">
            <a:tbl>
              <a:tblPr/>
              <a:tblGrid>
                <a:gridCol w="1655640"/>
                <a:gridCol w="1067040"/>
                <a:gridCol w="1093680"/>
              </a:tblGrid>
              <a:tr h="719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otal without Health group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ever enrolled in post-Bachelor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4,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4,8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</a:tr>
              <a:tr h="563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ever enrolled,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2,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5,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237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ever enrolled, not working at grad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20,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3,0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d7ea"/>
                    </a:solidFill>
                  </a:tcPr>
                </a:tc>
              </a:tr>
              <a:tr h="984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ever enrolled, not working at graduation, now work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1,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,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Rettangolo 9"/>
          <p:cNvSpPr/>
          <p:nvPr/>
        </p:nvSpPr>
        <p:spPr>
          <a:xfrm>
            <a:off x="275400" y="838080"/>
            <a:ext cx="84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mployment of different categories of 2010 B Gradu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9"/>
          <a:stretch/>
        </p:blipFill>
        <p:spPr>
          <a:xfrm rot="20864400">
            <a:off x="56880" y="201600"/>
            <a:ext cx="1396800" cy="534960"/>
          </a:xfrm>
          <a:prstGeom prst="rect">
            <a:avLst/>
          </a:prstGeom>
          <a:ln w="0">
            <a:noFill/>
          </a:ln>
        </p:spPr>
      </p:pic>
      <p:sp>
        <p:nvSpPr>
          <p:cNvPr id="107" name="Freccia circolare in giù 14"/>
          <p:cNvSpPr/>
          <p:nvPr/>
        </p:nvSpPr>
        <p:spPr>
          <a:xfrm>
            <a:off x="539640" y="1773360"/>
            <a:ext cx="5400720" cy="2160360"/>
          </a:xfrm>
          <a:custGeom>
            <a:avLst/>
            <a:gdLst>
              <a:gd name="textAreaLeft" fmla="*/ 1196280 w 5400720"/>
              <a:gd name="textAreaRight" fmla="*/ 4129920 w 5400720"/>
              <a:gd name="textAreaTop" fmla="*/ 289440 h 2160360"/>
              <a:gd name="textAreaBottom" fmla="*/ 187092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1" hR="21600" stAng="10800000" swAng="5400000"/>
                <a:lnTo>
                  <a:pt x="11731" y="0"/>
                </a:lnTo>
                <a:arcTo wR="9571" hR="21600" stAng="-5400000" swAng="3959906"/>
                <a:lnTo>
                  <a:pt x="21419" y="17419"/>
                </a:lnTo>
                <a:lnTo>
                  <a:pt x="20222" y="21600"/>
                </a:lnTo>
                <a:lnTo>
                  <a:pt x="18663" y="17419"/>
                </a:lnTo>
                <a:lnTo>
                  <a:pt x="18961" y="17419"/>
                </a:lnTo>
                <a:arcTo wR="9571" hR="21600" stAng="-1440094" swAng="-3787060"/>
                <a:lnTo>
                  <a:pt x="10651" y="138"/>
                </a:lnTo>
                <a:arcTo wR="9571" hR="21600" stAng="-5572846" swAng="-5227154"/>
                <a:close/>
              </a:path>
              <a:path fill="darkenLess" w="21600" h="21600">
                <a:moveTo>
                  <a:pt x="0" y="21600"/>
                </a:moveTo>
                <a:arcTo wR="9571" hR="21600" stAng="10800000" swAng="5400000"/>
                <a:lnTo>
                  <a:pt x="9571" y="0"/>
                </a:lnTo>
                <a:arcTo wR="9571" hR="21600" stAng="-5400000" swAng="172846"/>
                <a:lnTo>
                  <a:pt x="10651" y="138"/>
                </a:lnTo>
                <a:arcTo wR="9571" hR="21600" stAng="-5572846" swAng="-5227154"/>
                <a:close/>
              </a:path>
            </a:pathLst>
          </a:custGeom>
          <a:noFill/>
          <a:ln w="2556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ccia circolare in giù 16"/>
          <p:cNvSpPr/>
          <p:nvPr/>
        </p:nvSpPr>
        <p:spPr>
          <a:xfrm flipH="1" rot="10800000">
            <a:off x="539640" y="4723920"/>
            <a:ext cx="7956720" cy="2003400"/>
          </a:xfrm>
          <a:custGeom>
            <a:avLst/>
            <a:gdLst>
              <a:gd name="textAreaLeft" fmla="*/ 1801440 w 7956720"/>
              <a:gd name="textAreaRight" fmla="*/ 5904720 w 7956720"/>
              <a:gd name="textAreaTop" fmla="*/ 268200 h 2003400"/>
              <a:gd name="textAreaBottom" fmla="*/ 17352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81" hR="21600" stAng="10800000" swAng="5400000"/>
                <a:lnTo>
                  <a:pt x="11139" y="0"/>
                </a:lnTo>
                <a:arcTo wR="9781" hR="21600" stAng="-5400000" swAng="3618501"/>
                <a:lnTo>
                  <a:pt x="21289" y="16200"/>
                </a:lnTo>
                <a:lnTo>
                  <a:pt x="20241" y="21600"/>
                </a:lnTo>
                <a:lnTo>
                  <a:pt x="18571" y="16200"/>
                </a:lnTo>
                <a:lnTo>
                  <a:pt x="19251" y="16200"/>
                </a:lnTo>
                <a:arcTo wR="9781" hR="21600" stAng="-1781499" swAng="-3510209"/>
                <a:lnTo>
                  <a:pt x="10460" y="52"/>
                </a:lnTo>
                <a:arcTo wR="9781" hR="21600" stAng="-5508292" swAng="-5291708"/>
                <a:close/>
              </a:path>
              <a:path fill="darkenLess" w="21600" h="21600">
                <a:moveTo>
                  <a:pt x="0" y="21600"/>
                </a:moveTo>
                <a:arcTo wR="9781" hR="21600" stAng="10800000" swAng="5400000"/>
                <a:lnTo>
                  <a:pt x="9781" y="0"/>
                </a:lnTo>
                <a:arcTo wR="9781" hR="21600" stAng="-5400000" swAng="108292"/>
                <a:lnTo>
                  <a:pt x="10460" y="52"/>
                </a:lnTo>
                <a:arcTo wR="9781" hR="21600" stAng="-5508292" swAng="-5291708"/>
                <a:close/>
              </a:path>
            </a:pathLst>
          </a:custGeom>
          <a:noFill/>
          <a:ln w="25560">
            <a:solidFill>
              <a:srgbClr val="c05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rafico 15" descr=""/>
          <p:cNvPicPr/>
          <p:nvPr/>
        </p:nvPicPr>
        <p:blipFill>
          <a:blip r:embed="rId1"/>
          <a:stretch/>
        </p:blipFill>
        <p:spPr>
          <a:xfrm>
            <a:off x="3786120" y="798480"/>
            <a:ext cx="5108760" cy="5907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87854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survey designed for heads of degree programmes. 1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DD0F-5F77-4A69-9159-31C557C3A9B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ttangolo 8"/>
          <p:cNvSpPr/>
          <p:nvPr/>
        </p:nvSpPr>
        <p:spPr>
          <a:xfrm>
            <a:off x="-36360" y="1006560"/>
            <a:ext cx="399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Questionnaire submitted to the 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Heads</a:t>
            </a:r>
            <a:r>
              <a:rPr b="0" lang="en-US" sz="25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degree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programmes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t 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4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alian univers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ttangolo 11"/>
          <p:cNvSpPr/>
          <p:nvPr/>
        </p:nvSpPr>
        <p:spPr>
          <a:xfrm>
            <a:off x="204840" y="2924280"/>
            <a:ext cx="32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1.834</a:t>
            </a: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 s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ccia a destra con strisce 14"/>
          <p:cNvSpPr/>
          <p:nvPr/>
        </p:nvSpPr>
        <p:spPr>
          <a:xfrm rot="5400000">
            <a:off x="1514160" y="3457440"/>
            <a:ext cx="622440" cy="412560"/>
          </a:xfrm>
          <a:custGeom>
            <a:avLst/>
            <a:gdLst/>
            <a:ahLst/>
            <a:rect l="l" t="t" r="r" b="b"/>
            <a:pathLst>
              <a:path w="622819" h="412365">
                <a:moveTo>
                  <a:pt x="0" y="103091"/>
                </a:moveTo>
                <a:lnTo>
                  <a:pt x="12886" y="103091"/>
                </a:lnTo>
                <a:lnTo>
                  <a:pt x="12886" y="309274"/>
                </a:lnTo>
                <a:lnTo>
                  <a:pt x="0" y="309274"/>
                </a:lnTo>
                <a:lnTo>
                  <a:pt x="0" y="103091"/>
                </a:lnTo>
                <a:close/>
                <a:moveTo>
                  <a:pt x="25773" y="103091"/>
                </a:moveTo>
                <a:lnTo>
                  <a:pt x="51546" y="103091"/>
                </a:lnTo>
                <a:lnTo>
                  <a:pt x="51546" y="309274"/>
                </a:lnTo>
                <a:lnTo>
                  <a:pt x="25773" y="309274"/>
                </a:lnTo>
                <a:lnTo>
                  <a:pt x="25773" y="103091"/>
                </a:lnTo>
                <a:close/>
                <a:moveTo>
                  <a:pt x="64432" y="103091"/>
                </a:moveTo>
                <a:lnTo>
                  <a:pt x="416637" y="103091"/>
                </a:lnTo>
                <a:lnTo>
                  <a:pt x="416637" y="0"/>
                </a:lnTo>
                <a:lnTo>
                  <a:pt x="622819" y="206183"/>
                </a:lnTo>
                <a:lnTo>
                  <a:pt x="416637" y="412365"/>
                </a:lnTo>
                <a:lnTo>
                  <a:pt x="416637" y="309274"/>
                </a:lnTo>
                <a:lnTo>
                  <a:pt x="64432" y="309274"/>
                </a:lnTo>
                <a:lnTo>
                  <a:pt x="64432" y="103091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tangolo 13"/>
          <p:cNvSpPr/>
          <p:nvPr/>
        </p:nvSpPr>
        <p:spPr>
          <a:xfrm>
            <a:off x="1129320" y="506880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e</a:t>
            </a: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26.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tangolo 5"/>
          <p:cNvSpPr/>
          <p:nvPr/>
        </p:nvSpPr>
        <p:spPr>
          <a:xfrm>
            <a:off x="1087560" y="39402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488</a:t>
            </a: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ccia a destra con strisce 18"/>
          <p:cNvSpPr/>
          <p:nvPr/>
        </p:nvSpPr>
        <p:spPr>
          <a:xfrm rot="5400000">
            <a:off x="1495080" y="4529160"/>
            <a:ext cx="622440" cy="412920"/>
          </a:xfrm>
          <a:custGeom>
            <a:avLst/>
            <a:gdLst/>
            <a:ahLst/>
            <a:rect l="l" t="t" r="r" b="b"/>
            <a:pathLst>
              <a:path w="622819" h="412365">
                <a:moveTo>
                  <a:pt x="0" y="103091"/>
                </a:moveTo>
                <a:lnTo>
                  <a:pt x="12886" y="103091"/>
                </a:lnTo>
                <a:lnTo>
                  <a:pt x="12886" y="309274"/>
                </a:lnTo>
                <a:lnTo>
                  <a:pt x="0" y="309274"/>
                </a:lnTo>
                <a:lnTo>
                  <a:pt x="0" y="103091"/>
                </a:lnTo>
                <a:close/>
                <a:moveTo>
                  <a:pt x="25773" y="103091"/>
                </a:moveTo>
                <a:lnTo>
                  <a:pt x="51546" y="103091"/>
                </a:lnTo>
                <a:lnTo>
                  <a:pt x="51546" y="309274"/>
                </a:lnTo>
                <a:lnTo>
                  <a:pt x="25773" y="309274"/>
                </a:lnTo>
                <a:lnTo>
                  <a:pt x="25773" y="103091"/>
                </a:lnTo>
                <a:close/>
                <a:moveTo>
                  <a:pt x="64432" y="103091"/>
                </a:moveTo>
                <a:lnTo>
                  <a:pt x="416637" y="103091"/>
                </a:lnTo>
                <a:lnTo>
                  <a:pt x="416637" y="0"/>
                </a:lnTo>
                <a:lnTo>
                  <a:pt x="622819" y="206183"/>
                </a:lnTo>
                <a:lnTo>
                  <a:pt x="416637" y="412365"/>
                </a:lnTo>
                <a:lnTo>
                  <a:pt x="416637" y="309274"/>
                </a:lnTo>
                <a:lnTo>
                  <a:pt x="64432" y="309274"/>
                </a:lnTo>
                <a:lnTo>
                  <a:pt x="64432" y="103091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436720" y="4468680"/>
            <a:ext cx="3567240" cy="17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w programmes show that they have examined in detail the specific contribution of each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C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OLA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overall objectives of the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AA20-D68F-49B1-8816-166847D5825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survey designed for heads of degree programmes. 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ttangolo 8"/>
          <p:cNvSpPr/>
          <p:nvPr/>
        </p:nvSpPr>
        <p:spPr>
          <a:xfrm>
            <a:off x="219240" y="907920"/>
            <a:ext cx="87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alian law mandates that the objectives  of each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ourse C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ach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ther Learning Activity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LA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laboratories, internships, drafting of a graduation paper, etc.) should be described using th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ublin Descrip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tangolo 10"/>
          <p:cNvSpPr/>
          <p:nvPr/>
        </p:nvSpPr>
        <p:spPr>
          <a:xfrm>
            <a:off x="0" y="2671920"/>
            <a:ext cx="89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question asked if the design of the programme indicates how each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ach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ther Learning  Activtiy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es to each obj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tangolo 11"/>
          <p:cNvSpPr/>
          <p:nvPr/>
        </p:nvSpPr>
        <p:spPr>
          <a:xfrm>
            <a:off x="108000" y="4581360"/>
            <a:ext cx="386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clear use of the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Dublin Descrip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tangolo 12"/>
          <p:cNvSpPr/>
          <p:nvPr/>
        </p:nvSpPr>
        <p:spPr>
          <a:xfrm>
            <a:off x="3768120" y="353844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ccia a destra con strisce 13"/>
          <p:cNvSpPr/>
          <p:nvPr/>
        </p:nvSpPr>
        <p:spPr>
          <a:xfrm rot="2610600">
            <a:off x="4738320" y="3970440"/>
            <a:ext cx="858960" cy="691920"/>
          </a:xfrm>
          <a:custGeom>
            <a:avLst/>
            <a:gdLst/>
            <a:ahLst/>
            <a:rect l="l" t="t" r="r" b="b"/>
            <a:pathLst>
              <a:path w="858344" h="691710">
                <a:moveTo>
                  <a:pt x="0" y="172928"/>
                </a:moveTo>
                <a:lnTo>
                  <a:pt x="21616" y="172928"/>
                </a:lnTo>
                <a:lnTo>
                  <a:pt x="21616" y="518783"/>
                </a:lnTo>
                <a:lnTo>
                  <a:pt x="0" y="518783"/>
                </a:lnTo>
                <a:lnTo>
                  <a:pt x="0" y="172928"/>
                </a:lnTo>
                <a:close/>
                <a:moveTo>
                  <a:pt x="43232" y="172928"/>
                </a:moveTo>
                <a:lnTo>
                  <a:pt x="86464" y="172928"/>
                </a:lnTo>
                <a:lnTo>
                  <a:pt x="86464" y="518783"/>
                </a:lnTo>
                <a:lnTo>
                  <a:pt x="43232" y="518783"/>
                </a:lnTo>
                <a:lnTo>
                  <a:pt x="43232" y="172928"/>
                </a:lnTo>
                <a:close/>
                <a:moveTo>
                  <a:pt x="108080" y="172928"/>
                </a:moveTo>
                <a:lnTo>
                  <a:pt x="512489" y="172928"/>
                </a:lnTo>
                <a:lnTo>
                  <a:pt x="512489" y="0"/>
                </a:lnTo>
                <a:lnTo>
                  <a:pt x="858344" y="345855"/>
                </a:lnTo>
                <a:lnTo>
                  <a:pt x="512489" y="691710"/>
                </a:lnTo>
                <a:lnTo>
                  <a:pt x="512489" y="518783"/>
                </a:lnTo>
                <a:lnTo>
                  <a:pt x="108080" y="518783"/>
                </a:lnTo>
                <a:lnTo>
                  <a:pt x="108080" y="172928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359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ccia a destra con strisce 14"/>
          <p:cNvSpPr/>
          <p:nvPr/>
        </p:nvSpPr>
        <p:spPr>
          <a:xfrm rot="7923600">
            <a:off x="3331800" y="3970440"/>
            <a:ext cx="858960" cy="690480"/>
          </a:xfrm>
          <a:custGeom>
            <a:avLst/>
            <a:gdLst/>
            <a:ahLst/>
            <a:rect l="l" t="t" r="r" b="b"/>
            <a:pathLst>
              <a:path w="858344" h="691710">
                <a:moveTo>
                  <a:pt x="0" y="172928"/>
                </a:moveTo>
                <a:lnTo>
                  <a:pt x="21616" y="172928"/>
                </a:lnTo>
                <a:lnTo>
                  <a:pt x="21616" y="518783"/>
                </a:lnTo>
                <a:lnTo>
                  <a:pt x="0" y="518783"/>
                </a:lnTo>
                <a:lnTo>
                  <a:pt x="0" y="172928"/>
                </a:lnTo>
                <a:close/>
                <a:moveTo>
                  <a:pt x="43232" y="172928"/>
                </a:moveTo>
                <a:lnTo>
                  <a:pt x="86464" y="172928"/>
                </a:lnTo>
                <a:lnTo>
                  <a:pt x="86464" y="518783"/>
                </a:lnTo>
                <a:lnTo>
                  <a:pt x="43232" y="518783"/>
                </a:lnTo>
                <a:lnTo>
                  <a:pt x="43232" y="172928"/>
                </a:lnTo>
                <a:close/>
                <a:moveTo>
                  <a:pt x="108080" y="172928"/>
                </a:moveTo>
                <a:lnTo>
                  <a:pt x="512489" y="172928"/>
                </a:lnTo>
                <a:lnTo>
                  <a:pt x="512489" y="0"/>
                </a:lnTo>
                <a:lnTo>
                  <a:pt x="858344" y="345855"/>
                </a:lnTo>
                <a:lnTo>
                  <a:pt x="512489" y="691710"/>
                </a:lnTo>
                <a:lnTo>
                  <a:pt x="512489" y="518783"/>
                </a:lnTo>
                <a:lnTo>
                  <a:pt x="108080" y="518783"/>
                </a:lnTo>
                <a:lnTo>
                  <a:pt x="108080" y="172928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8274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 rot="1046400">
            <a:off x="3093840" y="5197320"/>
            <a:ext cx="190476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 rot="20710800">
            <a:off x="1293840" y="5327280"/>
            <a:ext cx="1782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924440" y="1061640"/>
            <a:ext cx="401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 further interaction with external representatives to discuss the progress and outcomes of the degre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4D8-202A-449A-9962-517AED95FB2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tangolo 4"/>
          <p:cNvSpPr/>
          <p:nvPr/>
        </p:nvSpPr>
        <p:spPr>
          <a:xfrm>
            <a:off x="5076720" y="435780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some cases: useful feedback, specifically for internships and programme monito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ttangolo 5"/>
          <p:cNvSpPr/>
          <p:nvPr/>
        </p:nvSpPr>
        <p:spPr>
          <a:xfrm>
            <a:off x="249120" y="429264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good practice: programme committees (staff members and representatives from stakeholders) that guarantee an ongoing dialogue between the academic and the outsid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survey designed for heads of degree programmes.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tolo 1"/>
          <p:cNvSpPr/>
          <p:nvPr/>
        </p:nvSpPr>
        <p:spPr>
          <a:xfrm>
            <a:off x="249120" y="1062000"/>
            <a:ext cx="425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suggestions coming from employer representatives for the planning and implementation of programm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tangolo 8"/>
          <p:cNvSpPr/>
          <p:nvPr/>
        </p:nvSpPr>
        <p:spPr>
          <a:xfrm>
            <a:off x="900000" y="2924280"/>
            <a:ext cx="265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me 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ttangolo 9"/>
          <p:cNvSpPr/>
          <p:nvPr/>
        </p:nvSpPr>
        <p:spPr>
          <a:xfrm>
            <a:off x="4900680" y="2884320"/>
            <a:ext cx="363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sponses, but often gene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 rot="21198000">
            <a:off x="3554280" y="2901600"/>
            <a:ext cx="1403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2:56:43Z</dcterms:created>
  <dc:creator>cared</dc:creator>
  <dc:description/>
  <dc:language>en-US</dc:language>
  <cp:lastModifiedBy>stefania</cp:lastModifiedBy>
  <cp:lastPrinted>2012-10-18T18:25:55Z</cp:lastPrinted>
  <dcterms:modified xsi:type="dcterms:W3CDTF">2012-10-20T06:01:31Z</dcterms:modified>
  <cp:revision>169</cp:revision>
  <dc:subject/>
  <dc:title>2nd DEHEMS International Conference  “Employability of Graduates &amp; Higher Education Management Systems”  University of Ljubljana 27 - 28 September 2012</dc:title>
</cp:coreProperties>
</file>