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4857840" y="2593800"/>
            <a:ext cx="4286160" cy="4264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7da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WordArt 7"/>
          <p:cNvSpPr txBox="1"/>
          <p:nvPr/>
        </p:nvSpPr>
        <p:spPr>
          <a:xfrm>
            <a:off x="4572000" y="6477120"/>
            <a:ext cx="4419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SUI in EXLIMA Conference, Bali 2012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857840" y="2593800"/>
            <a:ext cx="4286160" cy="4264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7da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4572000" y="6477120"/>
            <a:ext cx="4419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SUI in EXLIMA Conference, Bali 2012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9"/>
          <p:cNvSpPr/>
          <p:nvPr/>
        </p:nvSpPr>
        <p:spPr>
          <a:xfrm>
            <a:off x="1523880" y="685800"/>
            <a:ext cx="6248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ulty of Computer Scienc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versitas Indonesia (CSU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07316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228600" y="40384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of Work Transition Aspec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 – Female Graduat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ulty of Computer Science Universitas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971800" cy="2201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6573" r="0" b="0"/>
          <a:stretch/>
        </p:blipFill>
        <p:spPr>
          <a:xfrm>
            <a:off x="0" y="1676520"/>
            <a:ext cx="3429000" cy="220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18965" r="0" b="31035"/>
          <a:stretch/>
        </p:blipFill>
        <p:spPr>
          <a:xfrm>
            <a:off x="3352680" y="1676520"/>
            <a:ext cx="2932200" cy="22096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1676520" y="5791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na Chahyati (CSUI) &amp; Ahmad Syafiq (CDC-U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Result: Working Tim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7632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1981080"/>
          <a:ext cx="7696440" cy="35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981080"/>
                    <a:ext cx="7696440" cy="35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1138320"/>
            <a:ext cx="9144000" cy="1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1447920" y="7621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1447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spite differences in some aspects, female graduates were able to compete well with male graduates in thei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76320" y="64310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26016" r="0" b="13864"/>
          <a:stretch/>
        </p:blipFill>
        <p:spPr>
          <a:xfrm>
            <a:off x="838080" y="2895480"/>
            <a:ext cx="7696440" cy="3094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138320"/>
            <a:ext cx="9144000" cy="1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1447920" y="7621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bout CS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ird youngest faculty in Universitas Indone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ablished in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udy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228600">
              <a:lnSpc>
                <a:spcPct val="100000"/>
              </a:lnSpc>
              <a:buClr>
                <a:srgbClr val="66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Calibri"/>
                <a:ea typeface="Arial"/>
              </a:rPr>
              <a:t>Undergradu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Computer Science (1986) &amp; Information System (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228600">
              <a:lnSpc>
                <a:spcPct val="100000"/>
              </a:lnSpc>
              <a:buClr>
                <a:srgbClr val="66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Calibri"/>
                <a:ea typeface="Arial"/>
              </a:rPr>
              <a:t>Mas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Computer Science (1988) &amp; Information Technology (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228600">
              <a:lnSpc>
                <a:spcPct val="100000"/>
              </a:lnSpc>
              <a:buClr>
                <a:srgbClr val="66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Calibri"/>
                <a:ea typeface="Arial"/>
              </a:rPr>
              <a:t>Doct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puter Science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udent Body:  </a:t>
            </a:r>
            <a:r>
              <a:rPr b="1" lang="en-US" sz="2400" spc="-1" strike="noStrike">
                <a:solidFill>
                  <a:srgbClr val="cc0066"/>
                </a:solidFill>
                <a:latin typeface="Calibri"/>
                <a:ea typeface="Arial"/>
              </a:rPr>
              <a:t>16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umber of undergradu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lumni:  </a:t>
            </a:r>
            <a:r>
              <a:rPr b="1" lang="en-US" sz="2400" spc="-1" strike="noStrike">
                <a:solidFill>
                  <a:srgbClr val="cc0066"/>
                </a:solidFill>
                <a:latin typeface="Calibri"/>
                <a:ea typeface="Arial"/>
              </a:rPr>
              <a:t>15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228600">
              <a:lnSpc>
                <a:spcPct val="100000"/>
              </a:lnSpc>
              <a:buClr>
                <a:srgbClr val="cc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33751"/>
          <a:stretch/>
        </p:blipFill>
        <p:spPr>
          <a:xfrm>
            <a:off x="4419720" y="4038480"/>
            <a:ext cx="4572000" cy="20196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76320" y="6431040"/>
            <a:ext cx="38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alibri"/>
              </a:rPr>
              <a:t>Male – Female Ratio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533520" y="4724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aff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3505320"/>
          <a:ext cx="4419720" cy="267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505320"/>
                    <a:ext cx="441972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124080" y="1371600"/>
          <a:ext cx="5886720" cy="2676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1371600"/>
                    <a:ext cx="58867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9"/>
          <p:cNvSpPr/>
          <p:nvPr/>
        </p:nvSpPr>
        <p:spPr>
          <a:xfrm>
            <a:off x="0" y="304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aff:  25%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4800600" y="40384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S undergraduate students:  21.55% - 32.79% 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6507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Tracer Study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7632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80880" y="175248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ducted in </a:t>
            </a:r>
            <a:r>
              <a:rPr b="1" lang="en-US" sz="2400" spc="-1" strike="noStrike">
                <a:solidFill>
                  <a:srgbClr val="cc0066"/>
                </a:solidFill>
                <a:latin typeface="Calibri"/>
                <a:ea typeface="Arial"/>
              </a:rPr>
              <a:t>201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by th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ensal, self-administered online data collec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andardized instru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opulatio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228600">
              <a:lnSpc>
                <a:spcPct val="100000"/>
              </a:lnSpc>
              <a:buClr>
                <a:srgbClr val="cc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alibri"/>
                <a:ea typeface="Arial"/>
              </a:rPr>
              <a:t>2009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radu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228600">
              <a:lnSpc>
                <a:spcPct val="100000"/>
              </a:lnSpc>
              <a:buClr>
                <a:srgbClr val="cc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alibri"/>
                <a:ea typeface="Arial"/>
              </a:rPr>
              <a:t>9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otal gradu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228600">
              <a:lnSpc>
                <a:spcPct val="100000"/>
              </a:lnSpc>
              <a:buClr>
                <a:srgbClr val="cc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alibri"/>
                <a:ea typeface="Arial"/>
              </a:rPr>
              <a:t>58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sponse (59.79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62520" y="2971800"/>
          <a:ext cx="5486400" cy="32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971800"/>
                    <a:ext cx="54864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Result: Waiting Tim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7632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3505320"/>
          <a:ext cx="5838840" cy="267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505320"/>
                    <a:ext cx="583884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105520" y="1523880"/>
          <a:ext cx="3676680" cy="228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1523880"/>
                    <a:ext cx="36766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Result: Incom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"/>
          <p:cNvSpPr/>
          <p:nvPr/>
        </p:nvSpPr>
        <p:spPr>
          <a:xfrm>
            <a:off x="7632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81080"/>
          <a:ext cx="7743960" cy="3521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81080"/>
                    <a:ext cx="77439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Result: Job – IT Relatednes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7632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523880"/>
          <a:ext cx="5257800" cy="295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52578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276720" y="4343400"/>
          <a:ext cx="5610240" cy="2009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4343400"/>
                    <a:ext cx="56102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alibri"/>
              </a:rPr>
              <a:t>Result: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Calibri"/>
              </a:rPr>
              <a:t>Willingness to Work in Rural Areas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7632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219320" y="20574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le:  </a:t>
            </a:r>
            <a:r>
              <a:rPr b="1" lang="en-US" sz="2400" spc="-1" strike="noStrike">
                <a:solidFill>
                  <a:srgbClr val="cc0066"/>
                </a:solidFill>
                <a:latin typeface="Calibri"/>
                <a:ea typeface="Arial"/>
              </a:rPr>
              <a:t>65%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emale:</a:t>
            </a:r>
            <a:r>
              <a:rPr b="1" lang="en-US" sz="2400" spc="-1" strike="noStrike">
                <a:solidFill>
                  <a:srgbClr val="cc0066"/>
                </a:solidFill>
                <a:latin typeface="Calibri"/>
                <a:ea typeface="Arial"/>
              </a:rPr>
              <a:t> 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2514600"/>
          <a:ext cx="7439040" cy="370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514600"/>
                    <a:ext cx="7439040" cy="37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</a:rPr>
              <a:t>Result: Loyalty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7632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7160" indent="-227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1828800"/>
          <a:ext cx="7924680" cy="360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9246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02:59:17Z</dcterms:created>
  <dc:creator>indra</dc:creator>
  <dc:description/>
  <dc:language>en-US</dc:language>
  <cp:lastModifiedBy>itf</cp:lastModifiedBy>
  <dcterms:modified xsi:type="dcterms:W3CDTF">2012-10-22T02:43:07Z</dcterms:modified>
  <cp:revision>395</cp:revision>
  <dc:subject/>
  <dc:title>Membuat Animasi dengan PowerPoint</dc:title>
</cp:coreProperties>
</file>