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2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4DB48-5A6E-4D16-9F7E-DE8D230BC9A1}" type="slidenum">
              <a:rPr b="0" lang="id-ID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A493B-BCC0-4826-A41A-0E8B51D5D4D9}" type="slidenum">
              <a:rPr b="0" lang="id-ID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5569F-8C11-4EA8-BA90-494D1C600AAF}" type="slidenum">
              <a:rPr b="0" lang="id-ID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EC9A7-9D62-4AA2-A6A1-E35FE898C01A}" type="slidenum">
              <a:rPr b="0" lang="id-ID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99CC8-DACF-4CDF-81CD-0266F49E38FC}" type="slidenum">
              <a:rPr b="0" lang="id-ID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702A0-D0D1-48AB-BF98-DC781CBE8034}" type="slidenum">
              <a:rPr b="0" lang="id-ID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6A3E-D17B-46D0-BAB9-6C678664B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F450-5DE3-4551-88C7-7A29634A8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90B5-B411-4195-826D-8E651F14B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39A8-B100-4753-A533-7C6664897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6DD0-85BC-4999-BBDC-6C25775A9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088A-4C6D-43EE-84A4-6880776A9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0538-3AF9-44AC-B727-6A4BCD4D6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19AA-615E-4045-88DD-7AE49AD15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61C2-1FF2-4032-BC9A-CF890A3B0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E2AE-BCD6-4451-B060-11DEDCD5D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2E58-8E79-42E4-9BA7-C7A4BD6F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195D-7139-4C83-B0A9-8BE4F67E4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D8A57-FF98-4300-A45B-C0E29D0F8A4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53688-DB52-4F1B-A797-E072F5B90B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7720" y="999720"/>
            <a:ext cx="8153640" cy="562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000" spc="-1" strike="noStrike">
                <a:solidFill>
                  <a:srgbClr val="1f497d"/>
                </a:solidFill>
                <a:latin typeface="Rockwell"/>
              </a:rPr>
              <a:t>Tracer Study at the University of  Riau: </a:t>
            </a:r>
            <a:br>
              <a:rPr sz="3000"/>
            </a:br>
            <a:r>
              <a:rPr b="1" lang="id-ID" sz="3000" spc="-1" strike="noStrike">
                <a:solidFill>
                  <a:srgbClr val="1f497d"/>
                </a:solidFill>
                <a:latin typeface="Rockwell"/>
              </a:rPr>
              <a:t>First Comprehensive Attempt to Collect the Data from the Alumni</a:t>
            </a:r>
            <a:br>
              <a:rPr sz="3000"/>
            </a:br>
            <a:br>
              <a:rPr sz="1800"/>
            </a:br>
            <a:br>
              <a:rPr sz="1800"/>
            </a:br>
            <a:r>
              <a:rPr b="0" lang="en-US" sz="2200" spc="-1" strike="noStrike">
                <a:solidFill>
                  <a:srgbClr val="0070c0"/>
                </a:solidFill>
                <a:latin typeface="Albertus"/>
              </a:rPr>
              <a:t>Joko Samiaji</a:t>
            </a:r>
            <a:br>
              <a:rPr sz="2200"/>
            </a:br>
            <a:r>
              <a:rPr b="0" lang="en-US" sz="2200" spc="-1" strike="noStrike">
                <a:solidFill>
                  <a:srgbClr val="ff0000"/>
                </a:solidFill>
                <a:latin typeface="Albertus"/>
              </a:rPr>
              <a:t>jsamiaji@unri.ac.id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70c0"/>
                </a:solidFill>
                <a:latin typeface="Albertus"/>
              </a:rPr>
              <a:t>Arisman Adnan</a:t>
            </a:r>
            <a:br>
              <a:rPr sz="2200"/>
            </a:br>
            <a:r>
              <a:rPr b="0" lang="en-US" sz="2200" spc="-1" strike="noStrike">
                <a:solidFill>
                  <a:srgbClr val="ff0000"/>
                </a:solidFill>
                <a:latin typeface="Albertus"/>
              </a:rPr>
              <a:t>arisman_adnan@unri.ac.id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Rockwell"/>
              </a:rPr>
              <a:t>University  of Riau Accreditation Unit</a:t>
            </a:r>
            <a:br>
              <a:rPr sz="2200"/>
            </a:b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Rockwell"/>
              </a:rPr>
              <a:t>EXLIMA International Conference</a:t>
            </a:r>
            <a:br>
              <a:rPr sz="2200"/>
            </a:br>
            <a:r>
              <a:rPr b="1" lang="id-ID" sz="2200" spc="-1" strike="noStrike">
                <a:solidFill>
                  <a:srgbClr val="000000"/>
                </a:solidFill>
                <a:latin typeface="Rockwell"/>
              </a:rPr>
              <a:t>Bali, </a:t>
            </a:r>
            <a:r>
              <a:rPr b="1" lang="en-US" sz="2200" spc="-1" strike="noStrike">
                <a:solidFill>
                  <a:srgbClr val="000000"/>
                </a:solidFill>
                <a:latin typeface="Rockwell"/>
              </a:rPr>
              <a:t>22</a:t>
            </a:r>
            <a:r>
              <a:rPr b="1" lang="id-ID" sz="2200" spc="-1" strike="noStrike">
                <a:solidFill>
                  <a:srgbClr val="000000"/>
                </a:solidFill>
                <a:latin typeface="Rockwell"/>
              </a:rPr>
              <a:t>-2</a:t>
            </a:r>
            <a:r>
              <a:rPr b="1" lang="en-US" sz="2200" spc="-1" strike="noStrike">
                <a:solidFill>
                  <a:srgbClr val="000000"/>
                </a:solidFill>
                <a:latin typeface="Rockwell"/>
              </a:rPr>
              <a:t>5</a:t>
            </a:r>
            <a:r>
              <a:rPr b="1" lang="id-ID" sz="2200" spc="-1" strike="noStrike">
                <a:solidFill>
                  <a:srgbClr val="000000"/>
                </a:solidFill>
                <a:latin typeface="Rockwell"/>
              </a:rPr>
              <a:t> Oct </a:t>
            </a:r>
            <a:r>
              <a:rPr b="1" lang="en-US" sz="2200" spc="-1" strike="noStrike">
                <a:solidFill>
                  <a:srgbClr val="000000"/>
                </a:solidFill>
                <a:latin typeface="Rockwell"/>
              </a:rPr>
              <a:t>201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5181480" y="533520"/>
            <a:ext cx="36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http://tracerstudy.unri.ac.id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6"/>
          <p:cNvGrpSpPr/>
          <p:nvPr/>
        </p:nvGrpSpPr>
        <p:grpSpPr>
          <a:xfrm>
            <a:off x="-1800" y="0"/>
            <a:ext cx="1143720" cy="6951600"/>
            <a:chOff x="-1800" y="0"/>
            <a:chExt cx="1143720" cy="6951600"/>
          </a:xfrm>
        </p:grpSpPr>
        <p:grpSp>
          <p:nvGrpSpPr>
            <p:cNvPr id="51" name="Group 7"/>
            <p:cNvGrpSpPr/>
            <p:nvPr/>
          </p:nvGrpSpPr>
          <p:grpSpPr>
            <a:xfrm>
              <a:off x="-1800" y="0"/>
              <a:ext cx="1143720" cy="6951600"/>
              <a:chOff x="-1800" y="0"/>
              <a:chExt cx="1143720" cy="6951600"/>
            </a:xfrm>
          </p:grpSpPr>
          <p:sp>
            <p:nvSpPr>
              <p:cNvPr id="52" name="Rectangle 8"/>
              <p:cNvSpPr/>
              <p:nvPr/>
            </p:nvSpPr>
            <p:spPr>
              <a:xfrm rot="5400000">
                <a:off x="-2891160" y="2903760"/>
                <a:ext cx="6922800" cy="11437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6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Monotype Corsiva"/>
                  </a:rPr>
                  <a:t>          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Monotype Corsiva"/>
                  </a:rPr>
                  <a:t>  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3" name="Picture 9" descr="Unri-wrn"/>
              <p:cNvPicPr/>
              <p:nvPr/>
            </p:nvPicPr>
            <p:blipFill>
              <a:blip r:embed="rId1"/>
              <a:stretch/>
            </p:blipFill>
            <p:spPr>
              <a:xfrm>
                <a:off x="360" y="0"/>
                <a:ext cx="1129680" cy="1143000"/>
              </a:xfrm>
              <a:prstGeom prst="rect">
                <a:avLst/>
              </a:prstGeom>
              <a:ln w="9360">
                <a:solidFill>
                  <a:srgbClr val="ffff66"/>
                </a:solidFill>
                <a:miter/>
              </a:ln>
            </p:spPr>
          </p:pic>
          <p:pic>
            <p:nvPicPr>
              <p:cNvPr id="54" name="Picture 10" descr="DSC01909"/>
              <p:cNvPicPr/>
              <p:nvPr/>
            </p:nvPicPr>
            <p:blipFill>
              <a:blip r:embed="rId2"/>
              <a:stretch/>
            </p:blipFill>
            <p:spPr>
              <a:xfrm>
                <a:off x="360" y="5638680"/>
                <a:ext cx="1141560" cy="1312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5" name="Text Box 11"/>
            <p:cNvSpPr/>
            <p:nvPr/>
          </p:nvSpPr>
          <p:spPr>
            <a:xfrm>
              <a:off x="400320" y="1143000"/>
              <a:ext cx="297000" cy="47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UN I VERS 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 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ADB6B-BD21-479C-8359-E2659BC092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85920" y="2071800"/>
            <a:ext cx="7858080" cy="30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1600"/>
            </a:br>
            <a:r>
              <a:rPr b="0" lang="id-ID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300" spc="-1" strike="noStrike">
                <a:solidFill>
                  <a:srgbClr val="000000"/>
                </a:solidFill>
                <a:latin typeface="Calibri"/>
              </a:rPr>
              <a:t>         </a:t>
            </a:r>
            <a:br>
              <a:rPr sz="2300"/>
            </a:br>
            <a:br>
              <a:rPr sz="1600"/>
            </a:br>
            <a:br>
              <a:rPr sz="2300"/>
            </a:br>
            <a:br>
              <a:rPr sz="3200"/>
            </a:br>
            <a:br>
              <a:rPr sz="3200"/>
            </a:b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oup 6"/>
          <p:cNvGrpSpPr/>
          <p:nvPr/>
        </p:nvGrpSpPr>
        <p:grpSpPr>
          <a:xfrm>
            <a:off x="-360" y="0"/>
            <a:ext cx="1220400" cy="6951600"/>
            <a:chOff x="-360" y="0"/>
            <a:chExt cx="1220400" cy="6951600"/>
          </a:xfrm>
        </p:grpSpPr>
        <p:grpSp>
          <p:nvGrpSpPr>
            <p:cNvPr id="134" name="Group 7"/>
            <p:cNvGrpSpPr/>
            <p:nvPr/>
          </p:nvGrpSpPr>
          <p:grpSpPr>
            <a:xfrm>
              <a:off x="-360" y="0"/>
              <a:ext cx="1220400" cy="6951600"/>
              <a:chOff x="-360" y="0"/>
              <a:chExt cx="1220400" cy="6951600"/>
            </a:xfrm>
          </p:grpSpPr>
          <p:sp>
            <p:nvSpPr>
              <p:cNvPr id="135" name="Rectangle 8"/>
              <p:cNvSpPr/>
              <p:nvPr/>
            </p:nvSpPr>
            <p:spPr>
              <a:xfrm rot="5400000">
                <a:off x="-2851560" y="2865600"/>
                <a:ext cx="6922800" cy="122004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6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Monotype Corsiva"/>
                  </a:rPr>
                  <a:t>          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Monotype Corsiva"/>
                  </a:rPr>
                  <a:t>  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6" name="Picture 9" descr="Unri-wrn"/>
              <p:cNvPicPr/>
              <p:nvPr/>
            </p:nvPicPr>
            <p:blipFill>
              <a:blip r:embed="rId1"/>
              <a:stretch/>
            </p:blipFill>
            <p:spPr>
              <a:xfrm>
                <a:off x="2160" y="0"/>
                <a:ext cx="1204920" cy="1143000"/>
              </a:xfrm>
              <a:prstGeom prst="rect">
                <a:avLst/>
              </a:prstGeom>
              <a:ln w="9360">
                <a:solidFill>
                  <a:srgbClr val="ffff66"/>
                </a:solidFill>
                <a:miter/>
              </a:ln>
            </p:spPr>
          </p:pic>
          <p:pic>
            <p:nvPicPr>
              <p:cNvPr id="137" name="Picture 10" descr="DSC01909"/>
              <p:cNvPicPr/>
              <p:nvPr/>
            </p:nvPicPr>
            <p:blipFill>
              <a:blip r:embed="rId2"/>
              <a:stretch/>
            </p:blipFill>
            <p:spPr>
              <a:xfrm>
                <a:off x="2160" y="5638680"/>
                <a:ext cx="1217880" cy="1312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8" name="Text Box 11"/>
            <p:cNvSpPr/>
            <p:nvPr/>
          </p:nvSpPr>
          <p:spPr>
            <a:xfrm>
              <a:off x="428400" y="1143000"/>
              <a:ext cx="316800" cy="47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UN I VERS 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 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Slide Number Placehold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FE262-306A-4EAC-90EA-BB8B4CE702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3"/>
          <p:cNvSpPr/>
          <p:nvPr/>
        </p:nvSpPr>
        <p:spPr>
          <a:xfrm>
            <a:off x="1428840" y="500040"/>
            <a:ext cx="721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200" spc="-1" strike="noStrike">
                <a:solidFill>
                  <a:srgbClr val="000000"/>
                </a:solidFill>
                <a:latin typeface="Arial"/>
              </a:rPr>
              <a:t>Characteristics o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umni</a:t>
            </a:r>
            <a:r>
              <a:rPr b="1" lang="id-ID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id-ID" sz="3200" spc="-1" strike="noStrike">
                <a:solidFill>
                  <a:srgbClr val="000000"/>
                </a:solidFill>
                <a:latin typeface="Arial"/>
              </a:rPr>
              <a:t>rovince of ori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Chart 14" descr=""/>
          <p:cNvPicPr/>
          <p:nvPr/>
        </p:nvPicPr>
        <p:blipFill>
          <a:blip r:embed="rId3"/>
          <a:stretch/>
        </p:blipFill>
        <p:spPr>
          <a:xfrm>
            <a:off x="1494000" y="1779480"/>
            <a:ext cx="7016760" cy="37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57200" y="1428480"/>
            <a:ext cx="7786800" cy="47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One of the key performance indicato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 for university accreditatio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ration in getting first job.</a:t>
            </a:r>
            <a:br>
              <a:rPr sz="2400"/>
            </a:br>
            <a:br>
              <a:rPr sz="2400"/>
            </a:b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The length of time to get a job wa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 months, or lower than time needed at national level which is 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10 months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umni from the UNRI’s Faculty of Education 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were the fastes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oup of alumni in getting the first job. (UI = Health Sciences, Computer Science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1357200" y="428760"/>
            <a:ext cx="750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Length the time to get the first jo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6"/>
          <p:cNvGrpSpPr/>
          <p:nvPr/>
        </p:nvGrpSpPr>
        <p:grpSpPr>
          <a:xfrm>
            <a:off x="-1800" y="0"/>
            <a:ext cx="1220400" cy="6951600"/>
            <a:chOff x="-1800" y="0"/>
            <a:chExt cx="1220400" cy="6951600"/>
          </a:xfrm>
        </p:grpSpPr>
        <p:grpSp>
          <p:nvGrpSpPr>
            <p:cNvPr id="145" name="Group 7"/>
            <p:cNvGrpSpPr/>
            <p:nvPr/>
          </p:nvGrpSpPr>
          <p:grpSpPr>
            <a:xfrm>
              <a:off x="-1800" y="0"/>
              <a:ext cx="1220400" cy="6951600"/>
              <a:chOff x="-1800" y="0"/>
              <a:chExt cx="1220400" cy="6951600"/>
            </a:xfrm>
          </p:grpSpPr>
          <p:sp>
            <p:nvSpPr>
              <p:cNvPr id="146" name="Rectangle 8"/>
              <p:cNvSpPr/>
              <p:nvPr/>
            </p:nvSpPr>
            <p:spPr>
              <a:xfrm rot="5400000">
                <a:off x="-2853000" y="2865600"/>
                <a:ext cx="6922800" cy="122004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6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Monotype Corsiva"/>
                  </a:rPr>
                  <a:t>          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Monotype Corsiva"/>
                  </a:rPr>
                  <a:t>  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7" name="Picture 9" descr="Unri-wrn"/>
              <p:cNvPicPr/>
              <p:nvPr/>
            </p:nvPicPr>
            <p:blipFill>
              <a:blip r:embed="rId1"/>
              <a:stretch/>
            </p:blipFill>
            <p:spPr>
              <a:xfrm>
                <a:off x="720" y="0"/>
                <a:ext cx="1204920" cy="1143000"/>
              </a:xfrm>
              <a:prstGeom prst="rect">
                <a:avLst/>
              </a:prstGeom>
              <a:ln w="9360">
                <a:solidFill>
                  <a:srgbClr val="ffff66"/>
                </a:solidFill>
                <a:miter/>
              </a:ln>
            </p:spPr>
          </p:pic>
          <p:pic>
            <p:nvPicPr>
              <p:cNvPr id="148" name="Picture 10" descr="DSC01909"/>
              <p:cNvPicPr/>
              <p:nvPr/>
            </p:nvPicPr>
            <p:blipFill>
              <a:blip r:embed="rId2"/>
              <a:stretch/>
            </p:blipFill>
            <p:spPr>
              <a:xfrm>
                <a:off x="720" y="5638680"/>
                <a:ext cx="1217880" cy="1312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9" name="Text Box 11"/>
            <p:cNvSpPr/>
            <p:nvPr/>
          </p:nvSpPr>
          <p:spPr>
            <a:xfrm>
              <a:off x="426960" y="1143000"/>
              <a:ext cx="316800" cy="47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UN I VERS 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 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7F9AB-9581-4790-BD94-057C825508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57200" y="1643040"/>
            <a:ext cx="7715520" cy="428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4786200" y="142920"/>
            <a:ext cx="399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Job seeking sources </a:t>
            </a:r>
            <a:r>
              <a:rPr b="1" lang="id-ID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Chart 9" descr=""/>
          <p:cNvPicPr/>
          <p:nvPr/>
        </p:nvPicPr>
        <p:blipFill>
          <a:blip r:embed="rId1"/>
          <a:stretch/>
        </p:blipFill>
        <p:spPr>
          <a:xfrm>
            <a:off x="-6480" y="706320"/>
            <a:ext cx="8942400" cy="5870520"/>
          </a:xfrm>
          <a:prstGeom prst="rect">
            <a:avLst/>
          </a:prstGeom>
          <a:ln w="0">
            <a:noFill/>
          </a:ln>
        </p:spPr>
      </p:pic>
      <p:sp>
        <p:nvSpPr>
          <p:cNvPr id="154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FAF8C-4D1F-43F9-8EE6-451709DACF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1285920"/>
            <a:ext cx="7429320" cy="521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600"/>
            </a:br>
            <a:br>
              <a:rPr sz="3200"/>
            </a:br>
            <a:br>
              <a:rPr sz="32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13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1357200" y="214200"/>
            <a:ext cx="735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40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eason for taking the first jo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6"/>
          <p:cNvGrpSpPr/>
          <p:nvPr/>
        </p:nvGrpSpPr>
        <p:grpSpPr>
          <a:xfrm>
            <a:off x="-1800" y="0"/>
            <a:ext cx="1220400" cy="6951600"/>
            <a:chOff x="-1800" y="0"/>
            <a:chExt cx="1220400" cy="6951600"/>
          </a:xfrm>
        </p:grpSpPr>
        <p:grpSp>
          <p:nvGrpSpPr>
            <p:cNvPr id="158" name="Group 7"/>
            <p:cNvGrpSpPr/>
            <p:nvPr/>
          </p:nvGrpSpPr>
          <p:grpSpPr>
            <a:xfrm>
              <a:off x="-1800" y="0"/>
              <a:ext cx="1220400" cy="6951600"/>
              <a:chOff x="-1800" y="0"/>
              <a:chExt cx="1220400" cy="6951600"/>
            </a:xfrm>
          </p:grpSpPr>
          <p:sp>
            <p:nvSpPr>
              <p:cNvPr id="159" name="Rectangle 8"/>
              <p:cNvSpPr/>
              <p:nvPr/>
            </p:nvSpPr>
            <p:spPr>
              <a:xfrm rot="5400000">
                <a:off x="-2853000" y="2865600"/>
                <a:ext cx="6922800" cy="122004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6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Monotype Corsiva"/>
                  </a:rPr>
                  <a:t>          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Monotype Corsiva"/>
                  </a:rPr>
                  <a:t>  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0" name="Picture 9" descr="Unri-wrn"/>
              <p:cNvPicPr/>
              <p:nvPr/>
            </p:nvPicPr>
            <p:blipFill>
              <a:blip r:embed="rId1"/>
              <a:stretch/>
            </p:blipFill>
            <p:spPr>
              <a:xfrm>
                <a:off x="720" y="0"/>
                <a:ext cx="1204920" cy="1143000"/>
              </a:xfrm>
              <a:prstGeom prst="rect">
                <a:avLst/>
              </a:prstGeom>
              <a:ln w="9360">
                <a:solidFill>
                  <a:srgbClr val="ffff66"/>
                </a:solidFill>
                <a:miter/>
              </a:ln>
            </p:spPr>
          </p:pic>
          <p:pic>
            <p:nvPicPr>
              <p:cNvPr id="161" name="Picture 10" descr="DSC01909"/>
              <p:cNvPicPr/>
              <p:nvPr/>
            </p:nvPicPr>
            <p:blipFill>
              <a:blip r:embed="rId2"/>
              <a:stretch/>
            </p:blipFill>
            <p:spPr>
              <a:xfrm>
                <a:off x="720" y="5638680"/>
                <a:ext cx="1217880" cy="1312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2" name="Text Box 11"/>
            <p:cNvSpPr/>
            <p:nvPr/>
          </p:nvSpPr>
          <p:spPr>
            <a:xfrm>
              <a:off x="426960" y="1143000"/>
              <a:ext cx="316800" cy="47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UN I VERS 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 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Slide Number Placeholder 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52B92-0983-43F9-8D16-9CF992D5BD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Chart 12" descr=""/>
          <p:cNvPicPr/>
          <p:nvPr/>
        </p:nvPicPr>
        <p:blipFill>
          <a:blip r:embed="rId3"/>
          <a:stretch/>
        </p:blipFill>
        <p:spPr>
          <a:xfrm>
            <a:off x="1279440" y="993600"/>
            <a:ext cx="7656480" cy="3456000"/>
          </a:xfrm>
          <a:prstGeom prst="rect">
            <a:avLst/>
          </a:prstGeom>
          <a:ln w="0">
            <a:noFill/>
          </a:ln>
        </p:spPr>
      </p:pic>
      <p:sp>
        <p:nvSpPr>
          <p:cNvPr id="165" name="TextBox 13"/>
          <p:cNvSpPr/>
          <p:nvPr/>
        </p:nvSpPr>
        <p:spPr>
          <a:xfrm>
            <a:off x="1285920" y="4572000"/>
            <a:ext cx="7715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alary was regarded as important aspect, yet the alumni took the challenge of the offered job as the most pivotal consider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ance from home might have connected with the alumni origi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28480" y="1500120"/>
            <a:ext cx="7715160" cy="485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1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3600"/>
            </a:br>
            <a:br>
              <a:rPr sz="3600"/>
            </a:b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id-ID" sz="3100" spc="-1" strike="noStrike">
                <a:solidFill>
                  <a:srgbClr val="000000"/>
                </a:solidFill>
                <a:latin typeface="Calibri"/>
              </a:rPr>
              <a:t>0% of 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alumni </a:t>
            </a:r>
            <a:r>
              <a:rPr b="0" lang="id-ID" sz="3100" spc="-1" strike="noStrike">
                <a:solidFill>
                  <a:srgbClr val="000000"/>
                </a:solidFill>
                <a:latin typeface="Calibri"/>
              </a:rPr>
              <a:t>worked after 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2 years from </a:t>
            </a:r>
            <a:r>
              <a:rPr b="0" lang="id-ID" sz="3100" spc="-1" strike="noStrike">
                <a:solidFill>
                  <a:srgbClr val="000000"/>
                </a:solidFill>
                <a:latin typeface="Calibri"/>
              </a:rPr>
              <a:t>graduat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ion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1214280" y="428760"/>
            <a:ext cx="749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4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mploybility</a:t>
            </a:r>
            <a:r>
              <a:rPr b="1" lang="id-ID" sz="4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6"/>
          <p:cNvGrpSpPr/>
          <p:nvPr/>
        </p:nvGrpSpPr>
        <p:grpSpPr>
          <a:xfrm>
            <a:off x="-1800" y="0"/>
            <a:ext cx="1220400" cy="6951600"/>
            <a:chOff x="-1800" y="0"/>
            <a:chExt cx="1220400" cy="6951600"/>
          </a:xfrm>
        </p:grpSpPr>
        <p:grpSp>
          <p:nvGrpSpPr>
            <p:cNvPr id="169" name="Group 7"/>
            <p:cNvGrpSpPr/>
            <p:nvPr/>
          </p:nvGrpSpPr>
          <p:grpSpPr>
            <a:xfrm>
              <a:off x="-1800" y="0"/>
              <a:ext cx="1220400" cy="6951600"/>
              <a:chOff x="-1800" y="0"/>
              <a:chExt cx="1220400" cy="6951600"/>
            </a:xfrm>
          </p:grpSpPr>
          <p:sp>
            <p:nvSpPr>
              <p:cNvPr id="170" name="Rectangle 8"/>
              <p:cNvSpPr/>
              <p:nvPr/>
            </p:nvSpPr>
            <p:spPr>
              <a:xfrm rot="5400000">
                <a:off x="-2853000" y="2865600"/>
                <a:ext cx="6922800" cy="122004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6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Monotype Corsiva"/>
                  </a:rPr>
                  <a:t>          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Monotype Corsiva"/>
                  </a:rPr>
                  <a:t>  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1" name="Picture 9" descr="Unri-wrn"/>
              <p:cNvPicPr/>
              <p:nvPr/>
            </p:nvPicPr>
            <p:blipFill>
              <a:blip r:embed="rId1"/>
              <a:stretch/>
            </p:blipFill>
            <p:spPr>
              <a:xfrm>
                <a:off x="720" y="0"/>
                <a:ext cx="1204920" cy="1143000"/>
              </a:xfrm>
              <a:prstGeom prst="rect">
                <a:avLst/>
              </a:prstGeom>
              <a:ln w="9360">
                <a:solidFill>
                  <a:srgbClr val="ffff66"/>
                </a:solidFill>
                <a:miter/>
              </a:ln>
            </p:spPr>
          </p:pic>
          <p:pic>
            <p:nvPicPr>
              <p:cNvPr id="172" name="Picture 10" descr="DSC01909"/>
              <p:cNvPicPr/>
              <p:nvPr/>
            </p:nvPicPr>
            <p:blipFill>
              <a:blip r:embed="rId2"/>
              <a:stretch/>
            </p:blipFill>
            <p:spPr>
              <a:xfrm>
                <a:off x="720" y="5638680"/>
                <a:ext cx="1217880" cy="1312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3" name="Text Box 11"/>
            <p:cNvSpPr/>
            <p:nvPr/>
          </p:nvSpPr>
          <p:spPr>
            <a:xfrm>
              <a:off x="426960" y="1143000"/>
              <a:ext cx="316800" cy="47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UN I VERS 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 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4" name="Chart 9" descr=""/>
          <p:cNvPicPr/>
          <p:nvPr/>
        </p:nvPicPr>
        <p:blipFill>
          <a:blip r:embed="rId3"/>
          <a:stretch/>
        </p:blipFill>
        <p:spPr>
          <a:xfrm>
            <a:off x="2494080" y="1566720"/>
            <a:ext cx="4583160" cy="2938680"/>
          </a:xfrm>
          <a:prstGeom prst="rect">
            <a:avLst/>
          </a:prstGeom>
          <a:ln w="0">
            <a:noFill/>
          </a:ln>
        </p:spPr>
      </p:pic>
      <p:sp>
        <p:nvSpPr>
          <p:cNvPr id="175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8745B-8D96-46F0-96F6-F5D9D9181E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28480" y="928440"/>
            <a:ext cx="771516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1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44% of graduate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re government employees, and 35 %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re working on private secto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1428840" y="214200"/>
            <a:ext cx="721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ectors of employment</a:t>
            </a:r>
            <a:r>
              <a:rPr b="1" lang="id-ID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6"/>
          <p:cNvGrpSpPr/>
          <p:nvPr/>
        </p:nvGrpSpPr>
        <p:grpSpPr>
          <a:xfrm>
            <a:off x="-1800" y="0"/>
            <a:ext cx="1220400" cy="6951600"/>
            <a:chOff x="-1800" y="0"/>
            <a:chExt cx="1220400" cy="6951600"/>
          </a:xfrm>
        </p:grpSpPr>
        <p:grpSp>
          <p:nvGrpSpPr>
            <p:cNvPr id="179" name="Group 7"/>
            <p:cNvGrpSpPr/>
            <p:nvPr/>
          </p:nvGrpSpPr>
          <p:grpSpPr>
            <a:xfrm>
              <a:off x="-1800" y="0"/>
              <a:ext cx="1220400" cy="6951600"/>
              <a:chOff x="-1800" y="0"/>
              <a:chExt cx="1220400" cy="6951600"/>
            </a:xfrm>
          </p:grpSpPr>
          <p:sp>
            <p:nvSpPr>
              <p:cNvPr id="180" name="Rectangle 8"/>
              <p:cNvSpPr/>
              <p:nvPr/>
            </p:nvSpPr>
            <p:spPr>
              <a:xfrm rot="5400000">
                <a:off x="-2853000" y="2865600"/>
                <a:ext cx="6922800" cy="122004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6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Monotype Corsiva"/>
                  </a:rPr>
                  <a:t>          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Monotype Corsiva"/>
                  </a:rPr>
                  <a:t>  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81" name="Picture 9" descr="Unri-wrn"/>
              <p:cNvPicPr/>
              <p:nvPr/>
            </p:nvPicPr>
            <p:blipFill>
              <a:blip r:embed="rId1"/>
              <a:stretch/>
            </p:blipFill>
            <p:spPr>
              <a:xfrm>
                <a:off x="720" y="0"/>
                <a:ext cx="1204920" cy="1143000"/>
              </a:xfrm>
              <a:prstGeom prst="rect">
                <a:avLst/>
              </a:prstGeom>
              <a:ln w="9360">
                <a:solidFill>
                  <a:srgbClr val="ffff66"/>
                </a:solidFill>
                <a:miter/>
              </a:ln>
            </p:spPr>
          </p:pic>
          <p:pic>
            <p:nvPicPr>
              <p:cNvPr id="182" name="Picture 10" descr="DSC01909"/>
              <p:cNvPicPr/>
              <p:nvPr/>
            </p:nvPicPr>
            <p:blipFill>
              <a:blip r:embed="rId2"/>
              <a:stretch/>
            </p:blipFill>
            <p:spPr>
              <a:xfrm>
                <a:off x="720" y="5638680"/>
                <a:ext cx="1217880" cy="1312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3" name="Text Box 11"/>
            <p:cNvSpPr/>
            <p:nvPr/>
          </p:nvSpPr>
          <p:spPr>
            <a:xfrm>
              <a:off x="426960" y="1143000"/>
              <a:ext cx="316800" cy="47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UN I VERS 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 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Slide Number Placeholder 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CA7A6-4019-4424-ABD2-01957D8C4A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Chart 12" descr=""/>
          <p:cNvPicPr/>
          <p:nvPr/>
        </p:nvPicPr>
        <p:blipFill>
          <a:blip r:embed="rId3"/>
          <a:stretch/>
        </p:blipFill>
        <p:spPr>
          <a:xfrm>
            <a:off x="1420920" y="1133640"/>
            <a:ext cx="751500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28480" y="1500120"/>
            <a:ext cx="7358040" cy="485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id-ID" sz="25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he averag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thly 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income of respond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 wa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s IDR 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00,000.00 or ca.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 USD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30. The latest data in 2012 ranged from IDR 1,500,000.00 – 4,000,000.00</a:t>
            </a:r>
            <a:br>
              <a:rPr sz="2800"/>
            </a:br>
            <a:br>
              <a:rPr sz="2800"/>
            </a:b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U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’s alumni 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average salary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s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 IDR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.5 millio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thly 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or ca. USD 36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1214280" y="428760"/>
            <a:ext cx="749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Salary of alumni</a:t>
            </a:r>
            <a:r>
              <a:rPr b="1" lang="id-ID" sz="4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6"/>
          <p:cNvGrpSpPr/>
          <p:nvPr/>
        </p:nvGrpSpPr>
        <p:grpSpPr>
          <a:xfrm>
            <a:off x="-1800" y="0"/>
            <a:ext cx="1220400" cy="6951600"/>
            <a:chOff x="-1800" y="0"/>
            <a:chExt cx="1220400" cy="6951600"/>
          </a:xfrm>
        </p:grpSpPr>
        <p:grpSp>
          <p:nvGrpSpPr>
            <p:cNvPr id="189" name="Group 7"/>
            <p:cNvGrpSpPr/>
            <p:nvPr/>
          </p:nvGrpSpPr>
          <p:grpSpPr>
            <a:xfrm>
              <a:off x="-1800" y="0"/>
              <a:ext cx="1220400" cy="6951600"/>
              <a:chOff x="-1800" y="0"/>
              <a:chExt cx="1220400" cy="6951600"/>
            </a:xfrm>
          </p:grpSpPr>
          <p:sp>
            <p:nvSpPr>
              <p:cNvPr id="190" name="Rectangle 8"/>
              <p:cNvSpPr/>
              <p:nvPr/>
            </p:nvSpPr>
            <p:spPr>
              <a:xfrm rot="5400000">
                <a:off x="-2853000" y="2865600"/>
                <a:ext cx="6922800" cy="122004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6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Monotype Corsiva"/>
                  </a:rPr>
                  <a:t>          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Monotype Corsiva"/>
                  </a:rPr>
                  <a:t>  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1" name="Picture 9" descr="Unri-wrn"/>
              <p:cNvPicPr/>
              <p:nvPr/>
            </p:nvPicPr>
            <p:blipFill>
              <a:blip r:embed="rId1"/>
              <a:stretch/>
            </p:blipFill>
            <p:spPr>
              <a:xfrm>
                <a:off x="720" y="0"/>
                <a:ext cx="1204920" cy="1143000"/>
              </a:xfrm>
              <a:prstGeom prst="rect">
                <a:avLst/>
              </a:prstGeom>
              <a:ln w="9360">
                <a:solidFill>
                  <a:srgbClr val="ffff66"/>
                </a:solidFill>
                <a:miter/>
              </a:ln>
            </p:spPr>
          </p:pic>
          <p:pic>
            <p:nvPicPr>
              <p:cNvPr id="192" name="Picture 10" descr="DSC01909"/>
              <p:cNvPicPr/>
              <p:nvPr/>
            </p:nvPicPr>
            <p:blipFill>
              <a:blip r:embed="rId2"/>
              <a:stretch/>
            </p:blipFill>
            <p:spPr>
              <a:xfrm>
                <a:off x="720" y="5638680"/>
                <a:ext cx="1217880" cy="1312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3" name="Text Box 11"/>
            <p:cNvSpPr/>
            <p:nvPr/>
          </p:nvSpPr>
          <p:spPr>
            <a:xfrm>
              <a:off x="426960" y="1143000"/>
              <a:ext cx="316800" cy="47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UN I VERS 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 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A7D24-9D0A-45D0-8FCF-6C0E4BFED5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mpetences and UNRI</a:t>
            </a:r>
            <a:r>
              <a:rPr b="0" lang="id-ID" sz="3600" spc="-1" strike="noStrike">
                <a:solidFill>
                  <a:srgbClr val="000000"/>
                </a:solidFill>
                <a:latin typeface="Calibri"/>
              </a:rPr>
              <a:t> contribu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B0CD9-7CDC-4B4E-9187-A191AFBF86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Content Placeholder 4" descr=""/>
          <p:cNvPicPr/>
          <p:nvPr/>
        </p:nvPicPr>
        <p:blipFill>
          <a:blip r:embed="rId1"/>
          <a:stretch/>
        </p:blipFill>
        <p:spPr>
          <a:xfrm>
            <a:off x="-6480" y="1420920"/>
            <a:ext cx="9156960" cy="51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mpetences and UNRI</a:t>
            </a:r>
            <a:r>
              <a:rPr b="0" lang="id-ID" sz="3600" spc="-1" strike="noStrike">
                <a:solidFill>
                  <a:srgbClr val="000000"/>
                </a:solidFill>
                <a:latin typeface="Calibri"/>
              </a:rPr>
              <a:t> contribu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52846-7348-4CFE-AF5E-996B6881F0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Content Placeholder 7" descr=""/>
          <p:cNvPicPr/>
          <p:nvPr/>
        </p:nvPicPr>
        <p:blipFill>
          <a:blip r:embed="rId1"/>
          <a:stretch/>
        </p:blipFill>
        <p:spPr>
          <a:xfrm>
            <a:off x="-6480" y="1279440"/>
            <a:ext cx="894240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mpetences and UNRI </a:t>
            </a:r>
            <a:r>
              <a:rPr b="0" lang="id-ID" sz="3600" spc="-1" strike="noStrike">
                <a:solidFill>
                  <a:srgbClr val="000000"/>
                </a:solidFill>
                <a:latin typeface="Calibri"/>
              </a:rPr>
              <a:t>contribu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96CF8-D79B-49A1-BA2A-3F300D04CE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Content Placeholder 6" descr=""/>
          <p:cNvPicPr/>
          <p:nvPr/>
        </p:nvPicPr>
        <p:blipFill>
          <a:blip r:embed="rId1"/>
          <a:stretch/>
        </p:blipFill>
        <p:spPr>
          <a:xfrm>
            <a:off x="281160" y="993600"/>
            <a:ext cx="8729640" cy="513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43040" y="2143080"/>
            <a:ext cx="7215120" cy="41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troduction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ackgrou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Question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ethods</a:t>
            </a:r>
            <a:br>
              <a:rPr sz="4000"/>
            </a:br>
            <a:r>
              <a:rPr b="0" lang="id-ID" sz="40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sults and Discussio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1357200" y="1027080"/>
            <a:ext cx="7497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4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utlin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6"/>
          <p:cNvGrpSpPr/>
          <p:nvPr/>
        </p:nvGrpSpPr>
        <p:grpSpPr>
          <a:xfrm>
            <a:off x="-1800" y="0"/>
            <a:ext cx="1220400" cy="6951600"/>
            <a:chOff x="-1800" y="0"/>
            <a:chExt cx="1220400" cy="6951600"/>
          </a:xfrm>
        </p:grpSpPr>
        <p:grpSp>
          <p:nvGrpSpPr>
            <p:cNvPr id="60" name="Group 7"/>
            <p:cNvGrpSpPr/>
            <p:nvPr/>
          </p:nvGrpSpPr>
          <p:grpSpPr>
            <a:xfrm>
              <a:off x="-1800" y="0"/>
              <a:ext cx="1220400" cy="6951600"/>
              <a:chOff x="-1800" y="0"/>
              <a:chExt cx="1220400" cy="6951600"/>
            </a:xfrm>
          </p:grpSpPr>
          <p:sp>
            <p:nvSpPr>
              <p:cNvPr id="61" name="Rectangle 8"/>
              <p:cNvSpPr/>
              <p:nvPr/>
            </p:nvSpPr>
            <p:spPr>
              <a:xfrm rot="5400000">
                <a:off x="-2853000" y="2865600"/>
                <a:ext cx="6922800" cy="122004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6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Monotype Corsiva"/>
                  </a:rPr>
                  <a:t>          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Monotype Corsiva"/>
                  </a:rPr>
                  <a:t>  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2" name="Picture 9" descr="Unri-wrn"/>
              <p:cNvPicPr/>
              <p:nvPr/>
            </p:nvPicPr>
            <p:blipFill>
              <a:blip r:embed="rId1"/>
              <a:stretch/>
            </p:blipFill>
            <p:spPr>
              <a:xfrm>
                <a:off x="720" y="0"/>
                <a:ext cx="1204920" cy="1143000"/>
              </a:xfrm>
              <a:prstGeom prst="rect">
                <a:avLst/>
              </a:prstGeom>
              <a:ln w="9360">
                <a:solidFill>
                  <a:srgbClr val="ffff66"/>
                </a:solidFill>
                <a:miter/>
              </a:ln>
            </p:spPr>
          </p:pic>
          <p:pic>
            <p:nvPicPr>
              <p:cNvPr id="63" name="Picture 10" descr="DSC01909"/>
              <p:cNvPicPr/>
              <p:nvPr/>
            </p:nvPicPr>
            <p:blipFill>
              <a:blip r:embed="rId2"/>
              <a:stretch/>
            </p:blipFill>
            <p:spPr>
              <a:xfrm>
                <a:off x="720" y="5638680"/>
                <a:ext cx="1217880" cy="1312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4" name="Text Box 11"/>
            <p:cNvSpPr/>
            <p:nvPr/>
          </p:nvSpPr>
          <p:spPr>
            <a:xfrm>
              <a:off x="426960" y="1143000"/>
              <a:ext cx="316800" cy="47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UN I VERS 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 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2C159-DFB6-4720-9CC4-F42F2B5476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tudy Program Usefulnes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EE846-3E9D-4135-A2DB-36C0D719D9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Content Placeholder 7" descr=""/>
          <p:cNvPicPr/>
          <p:nvPr/>
        </p:nvPicPr>
        <p:blipFill>
          <a:blip r:embed="rId1"/>
          <a:stretch/>
        </p:blipFill>
        <p:spPr>
          <a:xfrm>
            <a:off x="401760" y="1109520"/>
            <a:ext cx="8291520" cy="50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28480" y="1285920"/>
            <a:ext cx="7715160" cy="521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(1) The n</a:t>
            </a:r>
            <a:r>
              <a:rPr b="0" lang="id-ID" sz="2500" spc="-1" strike="noStrike">
                <a:solidFill>
                  <a:srgbClr val="000000"/>
                </a:solidFill>
                <a:latin typeface="Calibri"/>
              </a:rPr>
              <a:t>et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esponse rate of the feedback was</a:t>
            </a:r>
            <a:r>
              <a:rPr b="0" lang="id-ID" sz="2500" spc="-1" strike="noStrike">
                <a:solidFill>
                  <a:srgbClr val="000000"/>
                </a:solidFill>
                <a:latin typeface="Calibri"/>
              </a:rPr>
              <a:t> 3.4 %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and gross response rate was </a:t>
            </a:r>
            <a:r>
              <a:rPr b="0" lang="id-ID" sz="2500" spc="-1" strike="noStrike">
                <a:solidFill>
                  <a:srgbClr val="000000"/>
                </a:solidFill>
                <a:latin typeface="Calibri"/>
              </a:rPr>
              <a:t>19.1 %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and the respondents were mainly coming from Riau Province.</a:t>
            </a:r>
            <a:br>
              <a:rPr sz="2500"/>
            </a:b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(2) T</a:t>
            </a:r>
            <a:r>
              <a:rPr b="0" lang="id-ID" sz="2500" spc="-1" strike="noStrike">
                <a:solidFill>
                  <a:srgbClr val="000000"/>
                </a:solidFill>
                <a:latin typeface="Calibri"/>
              </a:rPr>
              <a:t>he length of study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was</a:t>
            </a:r>
            <a:r>
              <a:rPr b="0" lang="id-ID" sz="2500" spc="-1" strike="noStrike">
                <a:solidFill>
                  <a:srgbClr val="000000"/>
                </a:solidFill>
                <a:latin typeface="Calibri"/>
              </a:rPr>
              <a:t> 5 years and 5 months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while t</a:t>
            </a:r>
            <a:r>
              <a:rPr b="0" lang="id-ID" sz="2500" spc="-1" strike="noStrike">
                <a:solidFill>
                  <a:srgbClr val="000000"/>
                </a:solidFill>
                <a:latin typeface="Calibri"/>
              </a:rPr>
              <a:t>he average time of seeking a job was 5 months. </a:t>
            </a:r>
            <a:br>
              <a:rPr sz="2500"/>
            </a:b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(3) </a:t>
            </a:r>
            <a:r>
              <a:rPr b="0" lang="id-ID" sz="2500" spc="-1" strike="noStrike">
                <a:solidFill>
                  <a:srgbClr val="000000"/>
                </a:solidFill>
                <a:latin typeface="Calibri"/>
              </a:rPr>
              <a:t>Half of the respondents work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d for the government</a:t>
            </a:r>
            <a:r>
              <a:rPr b="0" lang="id-ID" sz="2500" spc="-1" strike="noStrike">
                <a:solidFill>
                  <a:srgbClr val="000000"/>
                </a:solidFill>
                <a:latin typeface="Calibri"/>
              </a:rPr>
              <a:t> sector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with the f</a:t>
            </a:r>
            <a:r>
              <a:rPr b="0" lang="id-ID" sz="2500" spc="-1" strike="noStrike">
                <a:solidFill>
                  <a:srgbClr val="000000"/>
                </a:solidFill>
                <a:latin typeface="Calibri"/>
              </a:rPr>
              <a:t>irst income of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alumni was</a:t>
            </a:r>
            <a:r>
              <a:rPr b="0" lang="id-ID" sz="2500" spc="-1" strike="noStrike">
                <a:solidFill>
                  <a:srgbClr val="000000"/>
                </a:solidFill>
                <a:latin typeface="Calibri"/>
              </a:rPr>
              <a:t> about IDR 2.1 millions.</a:t>
            </a:r>
            <a:br>
              <a:rPr sz="2500"/>
            </a:b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(4) Alumni recommended improvement in teaching, but the study program materials were matching with their job.</a:t>
            </a:r>
            <a:r>
              <a:rPr b="0" lang="id-ID" sz="25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8" name="Group 6"/>
          <p:cNvGrpSpPr/>
          <p:nvPr/>
        </p:nvGrpSpPr>
        <p:grpSpPr>
          <a:xfrm>
            <a:off x="-1800" y="0"/>
            <a:ext cx="1220400" cy="6951600"/>
            <a:chOff x="-1800" y="0"/>
            <a:chExt cx="1220400" cy="6951600"/>
          </a:xfrm>
        </p:grpSpPr>
        <p:grpSp>
          <p:nvGrpSpPr>
            <p:cNvPr id="209" name="Group 7"/>
            <p:cNvGrpSpPr/>
            <p:nvPr/>
          </p:nvGrpSpPr>
          <p:grpSpPr>
            <a:xfrm>
              <a:off x="-1800" y="0"/>
              <a:ext cx="1220400" cy="6951600"/>
              <a:chOff x="-1800" y="0"/>
              <a:chExt cx="1220400" cy="6951600"/>
            </a:xfrm>
          </p:grpSpPr>
          <p:sp>
            <p:nvSpPr>
              <p:cNvPr id="210" name="Rectangle 8"/>
              <p:cNvSpPr/>
              <p:nvPr/>
            </p:nvSpPr>
            <p:spPr>
              <a:xfrm rot="5400000">
                <a:off x="-2853000" y="2865600"/>
                <a:ext cx="6922800" cy="122004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6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Monotype Corsiva"/>
                  </a:rPr>
                  <a:t>          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Monotype Corsiva"/>
                  </a:rPr>
                  <a:t>  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1" name="Picture 9" descr="Unri-wrn"/>
              <p:cNvPicPr/>
              <p:nvPr/>
            </p:nvPicPr>
            <p:blipFill>
              <a:blip r:embed="rId1"/>
              <a:stretch/>
            </p:blipFill>
            <p:spPr>
              <a:xfrm>
                <a:off x="720" y="0"/>
                <a:ext cx="1204920" cy="1143000"/>
              </a:xfrm>
              <a:prstGeom prst="rect">
                <a:avLst/>
              </a:prstGeom>
              <a:ln w="9360">
                <a:solidFill>
                  <a:srgbClr val="ffff66"/>
                </a:solidFill>
                <a:miter/>
              </a:ln>
            </p:spPr>
          </p:pic>
          <p:pic>
            <p:nvPicPr>
              <p:cNvPr id="212" name="Picture 10" descr="DSC01909"/>
              <p:cNvPicPr/>
              <p:nvPr/>
            </p:nvPicPr>
            <p:blipFill>
              <a:blip r:embed="rId2"/>
              <a:stretch/>
            </p:blipFill>
            <p:spPr>
              <a:xfrm>
                <a:off x="720" y="5638680"/>
                <a:ext cx="1217880" cy="1312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3" name="Text Box 11"/>
            <p:cNvSpPr/>
            <p:nvPr/>
          </p:nvSpPr>
          <p:spPr>
            <a:xfrm>
              <a:off x="426960" y="1143000"/>
              <a:ext cx="316800" cy="47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UN I VERS 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 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C10E3-25C2-4BAA-A698-6B469C4521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1214280" y="428760"/>
            <a:ext cx="749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4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onclus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28480" y="1285920"/>
            <a:ext cx="7715160" cy="521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t</a:t>
            </a:r>
            <a:r>
              <a:rPr b="1" lang="id-ID" sz="4000" spc="-1" strike="noStrike">
                <a:solidFill>
                  <a:srgbClr val="002060"/>
                </a:solidFill>
                <a:latin typeface="Calibri"/>
              </a:rPr>
              <a:t>hank you very much</a:t>
            </a:r>
            <a:br>
              <a:rPr sz="4000"/>
            </a:b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terima kasih banyak</a:t>
            </a:r>
            <a:br>
              <a:rPr sz="4000"/>
            </a:b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vielen dank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7" name="Group 6"/>
          <p:cNvGrpSpPr/>
          <p:nvPr/>
        </p:nvGrpSpPr>
        <p:grpSpPr>
          <a:xfrm>
            <a:off x="-1800" y="0"/>
            <a:ext cx="1220400" cy="6951600"/>
            <a:chOff x="-1800" y="0"/>
            <a:chExt cx="1220400" cy="6951600"/>
          </a:xfrm>
        </p:grpSpPr>
        <p:grpSp>
          <p:nvGrpSpPr>
            <p:cNvPr id="218" name="Group 7"/>
            <p:cNvGrpSpPr/>
            <p:nvPr/>
          </p:nvGrpSpPr>
          <p:grpSpPr>
            <a:xfrm>
              <a:off x="-1800" y="0"/>
              <a:ext cx="1220400" cy="6951600"/>
              <a:chOff x="-1800" y="0"/>
              <a:chExt cx="1220400" cy="6951600"/>
            </a:xfrm>
          </p:grpSpPr>
          <p:sp>
            <p:nvSpPr>
              <p:cNvPr id="219" name="Rectangle 8"/>
              <p:cNvSpPr/>
              <p:nvPr/>
            </p:nvSpPr>
            <p:spPr>
              <a:xfrm rot="5400000">
                <a:off x="-2853000" y="2865600"/>
                <a:ext cx="6922800" cy="122004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6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Monotype Corsiva"/>
                  </a:rPr>
                  <a:t>          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Monotype Corsiva"/>
                  </a:rPr>
                  <a:t>  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20" name="Picture 9" descr="Unri-wrn"/>
              <p:cNvPicPr/>
              <p:nvPr/>
            </p:nvPicPr>
            <p:blipFill>
              <a:blip r:embed="rId1"/>
              <a:stretch/>
            </p:blipFill>
            <p:spPr>
              <a:xfrm>
                <a:off x="720" y="0"/>
                <a:ext cx="1204920" cy="1143000"/>
              </a:xfrm>
              <a:prstGeom prst="rect">
                <a:avLst/>
              </a:prstGeom>
              <a:ln w="9360">
                <a:solidFill>
                  <a:srgbClr val="ffff66"/>
                </a:solidFill>
                <a:miter/>
              </a:ln>
            </p:spPr>
          </p:pic>
          <p:pic>
            <p:nvPicPr>
              <p:cNvPr id="221" name="Picture 10" descr="DSC01909"/>
              <p:cNvPicPr/>
              <p:nvPr/>
            </p:nvPicPr>
            <p:blipFill>
              <a:blip r:embed="rId2"/>
              <a:stretch/>
            </p:blipFill>
            <p:spPr>
              <a:xfrm>
                <a:off x="720" y="5638680"/>
                <a:ext cx="1217880" cy="1312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2" name="Text Box 11"/>
            <p:cNvSpPr/>
            <p:nvPr/>
          </p:nvSpPr>
          <p:spPr>
            <a:xfrm>
              <a:off x="426960" y="1143000"/>
              <a:ext cx="316800" cy="47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UN I VERS 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 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10F6A-13C5-4764-AE2C-1A088868D0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85920" y="1571760"/>
            <a:ext cx="7786800" cy="50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comprehensiv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racer study (TS)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did not exis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University of Riau (UNRI) 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u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ll 2011.</a:t>
            </a:r>
            <a:br>
              <a:rPr sz="2800"/>
            </a:b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rious projects of TS have been done with the main aims in providing data for the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accredit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rocess. </a:t>
            </a:r>
            <a:br>
              <a:rPr sz="2800"/>
            </a:b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data collected from such former tracings were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insufficie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un-comparabl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limite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 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certai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spect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1357200" y="500040"/>
            <a:ext cx="749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6"/>
          <p:cNvGrpSpPr/>
          <p:nvPr/>
        </p:nvGrpSpPr>
        <p:grpSpPr>
          <a:xfrm>
            <a:off x="-1800" y="0"/>
            <a:ext cx="1220400" cy="6951600"/>
            <a:chOff x="-1800" y="0"/>
            <a:chExt cx="1220400" cy="6951600"/>
          </a:xfrm>
        </p:grpSpPr>
        <p:grpSp>
          <p:nvGrpSpPr>
            <p:cNvPr id="69" name="Group 7"/>
            <p:cNvGrpSpPr/>
            <p:nvPr/>
          </p:nvGrpSpPr>
          <p:grpSpPr>
            <a:xfrm>
              <a:off x="-1800" y="0"/>
              <a:ext cx="1220400" cy="6951600"/>
              <a:chOff x="-1800" y="0"/>
              <a:chExt cx="1220400" cy="6951600"/>
            </a:xfrm>
          </p:grpSpPr>
          <p:sp>
            <p:nvSpPr>
              <p:cNvPr id="70" name="Rectangle 8"/>
              <p:cNvSpPr/>
              <p:nvPr/>
            </p:nvSpPr>
            <p:spPr>
              <a:xfrm rot="5400000">
                <a:off x="-2853000" y="2865600"/>
                <a:ext cx="6922800" cy="122004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6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Monotype Corsiva"/>
                  </a:rPr>
                  <a:t>          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Monotype Corsiva"/>
                  </a:rPr>
                  <a:t>  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1" name="Picture 9" descr="Unri-wrn"/>
              <p:cNvPicPr/>
              <p:nvPr/>
            </p:nvPicPr>
            <p:blipFill>
              <a:blip r:embed="rId1"/>
              <a:stretch/>
            </p:blipFill>
            <p:spPr>
              <a:xfrm>
                <a:off x="720" y="0"/>
                <a:ext cx="1204920" cy="1143000"/>
              </a:xfrm>
              <a:prstGeom prst="rect">
                <a:avLst/>
              </a:prstGeom>
              <a:ln w="9360">
                <a:solidFill>
                  <a:srgbClr val="ffff66"/>
                </a:solidFill>
                <a:miter/>
              </a:ln>
            </p:spPr>
          </p:pic>
          <p:pic>
            <p:nvPicPr>
              <p:cNvPr id="72" name="Picture 10" descr="DSC01909"/>
              <p:cNvPicPr/>
              <p:nvPr/>
            </p:nvPicPr>
            <p:blipFill>
              <a:blip r:embed="rId2"/>
              <a:stretch/>
            </p:blipFill>
            <p:spPr>
              <a:xfrm>
                <a:off x="720" y="5638680"/>
                <a:ext cx="1217880" cy="1312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3" name="Text Box 11"/>
            <p:cNvSpPr/>
            <p:nvPr/>
          </p:nvSpPr>
          <p:spPr>
            <a:xfrm>
              <a:off x="426960" y="1143000"/>
              <a:ext cx="316800" cy="47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UN I VERS 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 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FCBE1-904D-470A-8D5F-8B018F6535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3920" y="1357200"/>
            <a:ext cx="7929720" cy="550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a.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How long did the alumni wait to get the first job and by what means?</a:t>
            </a:r>
            <a:br>
              <a:rPr sz="2800"/>
            </a:br>
            <a:br>
              <a:rPr sz="2800"/>
            </a:b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b. How was the alumni employability in term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the job sector, reasons in taking the job and 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rst 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salary?</a:t>
            </a:r>
            <a:br>
              <a:rPr sz="2800"/>
            </a:br>
            <a:br>
              <a:rPr sz="2800"/>
            </a:b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c. In what extend was the study program curriculum supporting the first job of the alumni?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1357200" y="285840"/>
            <a:ext cx="749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esearch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6"/>
          <p:cNvGrpSpPr/>
          <p:nvPr/>
        </p:nvGrpSpPr>
        <p:grpSpPr>
          <a:xfrm>
            <a:off x="-1800" y="0"/>
            <a:ext cx="1220400" cy="6951600"/>
            <a:chOff x="-1800" y="0"/>
            <a:chExt cx="1220400" cy="6951600"/>
          </a:xfrm>
        </p:grpSpPr>
        <p:grpSp>
          <p:nvGrpSpPr>
            <p:cNvPr id="78" name="Group 7"/>
            <p:cNvGrpSpPr/>
            <p:nvPr/>
          </p:nvGrpSpPr>
          <p:grpSpPr>
            <a:xfrm>
              <a:off x="-1800" y="0"/>
              <a:ext cx="1220400" cy="6951600"/>
              <a:chOff x="-1800" y="0"/>
              <a:chExt cx="1220400" cy="6951600"/>
            </a:xfrm>
          </p:grpSpPr>
          <p:sp>
            <p:nvSpPr>
              <p:cNvPr id="79" name="Rectangle 8"/>
              <p:cNvSpPr/>
              <p:nvPr/>
            </p:nvSpPr>
            <p:spPr>
              <a:xfrm rot="5400000">
                <a:off x="-2853000" y="2865600"/>
                <a:ext cx="6922800" cy="122004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6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Monotype Corsiva"/>
                  </a:rPr>
                  <a:t>          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Monotype Corsiva"/>
                  </a:rPr>
                  <a:t>  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0" name="Picture 9" descr="Unri-wrn"/>
              <p:cNvPicPr/>
              <p:nvPr/>
            </p:nvPicPr>
            <p:blipFill>
              <a:blip r:embed="rId1"/>
              <a:stretch/>
            </p:blipFill>
            <p:spPr>
              <a:xfrm>
                <a:off x="720" y="0"/>
                <a:ext cx="1204920" cy="1143000"/>
              </a:xfrm>
              <a:prstGeom prst="rect">
                <a:avLst/>
              </a:prstGeom>
              <a:ln w="9360">
                <a:solidFill>
                  <a:srgbClr val="ffff66"/>
                </a:solidFill>
                <a:miter/>
              </a:ln>
            </p:spPr>
          </p:pic>
          <p:pic>
            <p:nvPicPr>
              <p:cNvPr id="81" name="Picture 10" descr="DSC01909"/>
              <p:cNvPicPr/>
              <p:nvPr/>
            </p:nvPicPr>
            <p:blipFill>
              <a:blip r:embed="rId2"/>
              <a:stretch/>
            </p:blipFill>
            <p:spPr>
              <a:xfrm>
                <a:off x="720" y="5638680"/>
                <a:ext cx="1217880" cy="1312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2" name="Text Box 11"/>
            <p:cNvSpPr/>
            <p:nvPr/>
          </p:nvSpPr>
          <p:spPr>
            <a:xfrm>
              <a:off x="426960" y="1143000"/>
              <a:ext cx="316800" cy="47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UN I VERS 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 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73811-BE2C-4AD7-ABDC-3F8DD2808E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3920" y="856800"/>
            <a:ext cx="7929720" cy="600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Compi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g the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 alumni list from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alumni bo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 who attended the convocation in 20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09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nding the information on TS to the heads of s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tudy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rogra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. </a:t>
            </a:r>
            <a:br>
              <a:rPr sz="2800"/>
            </a:br>
            <a:br>
              <a:rPr sz="2800"/>
            </a:b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Publicising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he TS 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 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UNRI mailing list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 and social network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or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2800"/>
            </a:br>
            <a:br>
              <a:rPr sz="2800"/>
            </a:b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Sen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g 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-mai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SMS (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including P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 to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umni.</a:t>
            </a:r>
            <a:br>
              <a:rPr sz="2800"/>
            </a:br>
            <a:br>
              <a:rPr sz="2800"/>
            </a:b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Recontact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he alumni in Aug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ust 201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period 1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October – November 2011 (period 2)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1357200" y="214200"/>
            <a:ext cx="7497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Metho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6"/>
          <p:cNvGrpSpPr/>
          <p:nvPr/>
        </p:nvGrpSpPr>
        <p:grpSpPr>
          <a:xfrm>
            <a:off x="-1800" y="0"/>
            <a:ext cx="1220400" cy="6951600"/>
            <a:chOff x="-1800" y="0"/>
            <a:chExt cx="1220400" cy="6951600"/>
          </a:xfrm>
        </p:grpSpPr>
        <p:grpSp>
          <p:nvGrpSpPr>
            <p:cNvPr id="87" name="Group 7"/>
            <p:cNvGrpSpPr/>
            <p:nvPr/>
          </p:nvGrpSpPr>
          <p:grpSpPr>
            <a:xfrm>
              <a:off x="-1800" y="0"/>
              <a:ext cx="1220400" cy="6951600"/>
              <a:chOff x="-1800" y="0"/>
              <a:chExt cx="1220400" cy="6951600"/>
            </a:xfrm>
          </p:grpSpPr>
          <p:sp>
            <p:nvSpPr>
              <p:cNvPr id="88" name="Rectangle 8"/>
              <p:cNvSpPr/>
              <p:nvPr/>
            </p:nvSpPr>
            <p:spPr>
              <a:xfrm rot="5400000">
                <a:off x="-2853000" y="2865600"/>
                <a:ext cx="6922800" cy="122004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6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Monotype Corsiva"/>
                  </a:rPr>
                  <a:t>          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Monotype Corsiva"/>
                  </a:rPr>
                  <a:t>  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9" name="Picture 9" descr="Unri-wrn"/>
              <p:cNvPicPr/>
              <p:nvPr/>
            </p:nvPicPr>
            <p:blipFill>
              <a:blip r:embed="rId1"/>
              <a:stretch/>
            </p:blipFill>
            <p:spPr>
              <a:xfrm>
                <a:off x="720" y="0"/>
                <a:ext cx="1204920" cy="1143000"/>
              </a:xfrm>
              <a:prstGeom prst="rect">
                <a:avLst/>
              </a:prstGeom>
              <a:ln w="9360">
                <a:solidFill>
                  <a:srgbClr val="ffff66"/>
                </a:solidFill>
                <a:miter/>
              </a:ln>
            </p:spPr>
          </p:pic>
          <p:pic>
            <p:nvPicPr>
              <p:cNvPr id="90" name="Picture 10" descr="DSC01909"/>
              <p:cNvPicPr/>
              <p:nvPr/>
            </p:nvPicPr>
            <p:blipFill>
              <a:blip r:embed="rId2"/>
              <a:stretch/>
            </p:blipFill>
            <p:spPr>
              <a:xfrm>
                <a:off x="720" y="5638680"/>
                <a:ext cx="1217880" cy="1312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1" name="Text Box 11"/>
            <p:cNvSpPr/>
            <p:nvPr/>
          </p:nvSpPr>
          <p:spPr>
            <a:xfrm>
              <a:off x="426960" y="1143000"/>
              <a:ext cx="316800" cy="47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UN I VERS 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 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DE042-1677-4399-80AC-63A002CBDC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57200" y="1500120"/>
            <a:ext cx="7786800" cy="385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Establishment of UNRITRACE web site.</a:t>
            </a:r>
            <a:br>
              <a:rPr sz="2800"/>
            </a:b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Data was collected via 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question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naire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(using Qtafi) 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hat w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as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filled online through UNRI’s 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website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2800"/>
            </a:b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he uploaded question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naire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comprised of15 pages with 256 variables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ta analysis used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 SPSS Vers. 17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1357200" y="214200"/>
            <a:ext cx="749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44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6"/>
          <p:cNvGrpSpPr/>
          <p:nvPr/>
        </p:nvGrpSpPr>
        <p:grpSpPr>
          <a:xfrm>
            <a:off x="-1800" y="0"/>
            <a:ext cx="1220400" cy="6951600"/>
            <a:chOff x="-1800" y="0"/>
            <a:chExt cx="1220400" cy="6951600"/>
          </a:xfrm>
        </p:grpSpPr>
        <p:grpSp>
          <p:nvGrpSpPr>
            <p:cNvPr id="96" name="Group 7"/>
            <p:cNvGrpSpPr/>
            <p:nvPr/>
          </p:nvGrpSpPr>
          <p:grpSpPr>
            <a:xfrm>
              <a:off x="-1800" y="0"/>
              <a:ext cx="1220400" cy="6951600"/>
              <a:chOff x="-1800" y="0"/>
              <a:chExt cx="1220400" cy="6951600"/>
            </a:xfrm>
          </p:grpSpPr>
          <p:sp>
            <p:nvSpPr>
              <p:cNvPr id="97" name="Rectangle 8"/>
              <p:cNvSpPr/>
              <p:nvPr/>
            </p:nvSpPr>
            <p:spPr>
              <a:xfrm rot="5400000">
                <a:off x="-2853000" y="2865600"/>
                <a:ext cx="6922800" cy="122004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6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Monotype Corsiva"/>
                  </a:rPr>
                  <a:t>          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Monotype Corsiva"/>
                  </a:rPr>
                  <a:t>  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8" name="Picture 9" descr="Unri-wrn"/>
              <p:cNvPicPr/>
              <p:nvPr/>
            </p:nvPicPr>
            <p:blipFill>
              <a:blip r:embed="rId1"/>
              <a:stretch/>
            </p:blipFill>
            <p:spPr>
              <a:xfrm>
                <a:off x="720" y="0"/>
                <a:ext cx="1204920" cy="1143000"/>
              </a:xfrm>
              <a:prstGeom prst="rect">
                <a:avLst/>
              </a:prstGeom>
              <a:ln w="9360">
                <a:solidFill>
                  <a:srgbClr val="ffff66"/>
                </a:solidFill>
                <a:miter/>
              </a:ln>
            </p:spPr>
          </p:pic>
          <p:pic>
            <p:nvPicPr>
              <p:cNvPr id="99" name="Picture 10" descr="DSC01909"/>
              <p:cNvPicPr/>
              <p:nvPr/>
            </p:nvPicPr>
            <p:blipFill>
              <a:blip r:embed="rId2"/>
              <a:stretch/>
            </p:blipFill>
            <p:spPr>
              <a:xfrm>
                <a:off x="720" y="5638680"/>
                <a:ext cx="1217880" cy="1312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0" name="Text Box 11"/>
            <p:cNvSpPr/>
            <p:nvPr/>
          </p:nvSpPr>
          <p:spPr>
            <a:xfrm>
              <a:off x="426960" y="1143000"/>
              <a:ext cx="316800" cy="47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UN I VERS 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 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9F426-8D37-4192-8E39-626CA83BB4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85560" y="1214280"/>
            <a:ext cx="7715160" cy="550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Number of graduates and valid contact 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dress</a:t>
            </a:r>
            <a:br>
              <a:rPr sz="28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3600"/>
            </a:br>
            <a:br>
              <a:rPr sz="36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1357200" y="285840"/>
            <a:ext cx="735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6"/>
          <p:cNvGrpSpPr/>
          <p:nvPr/>
        </p:nvGrpSpPr>
        <p:grpSpPr>
          <a:xfrm>
            <a:off x="-1800" y="0"/>
            <a:ext cx="1220400" cy="6951600"/>
            <a:chOff x="-1800" y="0"/>
            <a:chExt cx="1220400" cy="6951600"/>
          </a:xfrm>
        </p:grpSpPr>
        <p:grpSp>
          <p:nvGrpSpPr>
            <p:cNvPr id="105" name="Group 7"/>
            <p:cNvGrpSpPr/>
            <p:nvPr/>
          </p:nvGrpSpPr>
          <p:grpSpPr>
            <a:xfrm>
              <a:off x="-1800" y="0"/>
              <a:ext cx="1220400" cy="6951600"/>
              <a:chOff x="-1800" y="0"/>
              <a:chExt cx="1220400" cy="6951600"/>
            </a:xfrm>
          </p:grpSpPr>
          <p:sp>
            <p:nvSpPr>
              <p:cNvPr id="106" name="Rectangle 8"/>
              <p:cNvSpPr/>
              <p:nvPr/>
            </p:nvSpPr>
            <p:spPr>
              <a:xfrm rot="5400000">
                <a:off x="-2853000" y="2865600"/>
                <a:ext cx="6922800" cy="122004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6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Monotype Corsiva"/>
                  </a:rPr>
                  <a:t>          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Monotype Corsiva"/>
                  </a:rPr>
                  <a:t>  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" name="Picture 9" descr="Unri-wrn"/>
              <p:cNvPicPr/>
              <p:nvPr/>
            </p:nvPicPr>
            <p:blipFill>
              <a:blip r:embed="rId1"/>
              <a:stretch/>
            </p:blipFill>
            <p:spPr>
              <a:xfrm>
                <a:off x="720" y="0"/>
                <a:ext cx="1204920" cy="1143000"/>
              </a:xfrm>
              <a:prstGeom prst="rect">
                <a:avLst/>
              </a:prstGeom>
              <a:ln w="9360">
                <a:solidFill>
                  <a:srgbClr val="ffff66"/>
                </a:solidFill>
                <a:miter/>
              </a:ln>
            </p:spPr>
          </p:pic>
          <p:pic>
            <p:nvPicPr>
              <p:cNvPr id="108" name="Picture 10" descr="DSC01909"/>
              <p:cNvPicPr/>
              <p:nvPr/>
            </p:nvPicPr>
            <p:blipFill>
              <a:blip r:embed="rId2"/>
              <a:stretch/>
            </p:blipFill>
            <p:spPr>
              <a:xfrm>
                <a:off x="720" y="5638680"/>
                <a:ext cx="1217880" cy="1312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9" name="Text Box 11"/>
            <p:cNvSpPr/>
            <p:nvPr/>
          </p:nvSpPr>
          <p:spPr>
            <a:xfrm>
              <a:off x="426960" y="1143000"/>
              <a:ext cx="316800" cy="47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UN I VERS 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 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0" name=""/>
          <p:cNvGraphicFramePr/>
          <p:nvPr/>
        </p:nvGraphicFramePr>
        <p:xfrm>
          <a:off x="1500120" y="2000160"/>
          <a:ext cx="7429680" cy="4802400"/>
        </p:xfrm>
        <a:graphic>
          <a:graphicData uri="http://schemas.openxmlformats.org/drawingml/2006/table">
            <a:tbl>
              <a:tblPr/>
              <a:tblGrid>
                <a:gridCol w="2551320"/>
                <a:gridCol w="1493640"/>
                <a:gridCol w="1693800"/>
                <a:gridCol w="1690920"/>
              </a:tblGrid>
              <a:tr h="6904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ult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raduat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nt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cted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Ad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s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alid Contac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ducati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7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3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8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atural Scienc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3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ngineer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gricultur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s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ry &amp; Mar</a:t>
                      </a:r>
                      <a:r>
                        <a:rPr b="0" lang="id-ID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.Sc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9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ed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cin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ocial Scienc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6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</a:t>
                      </a:r>
                      <a:r>
                        <a:rPr b="0" lang="id-ID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</a:t>
                      </a:r>
                      <a:r>
                        <a:rPr b="0" lang="id-ID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aw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conomic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0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id-ID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</a:t>
                      </a:r>
                      <a:r>
                        <a:rPr b="0" lang="id-ID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urs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13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</a:t>
                      </a:r>
                      <a:r>
                        <a:rPr b="1" lang="id-ID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</a:t>
                      </a:r>
                      <a:r>
                        <a:rPr b="1" lang="id-ID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55FC9-57DD-43FF-903E-6F1CA7BA2A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00120" y="1357200"/>
            <a:ext cx="6500880" cy="421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74 graduates fi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d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questionnaires</a:t>
            </a:r>
            <a:br>
              <a:rPr sz="2800"/>
            </a:b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Gross RR = (74/2133) * 100% = 3.4 %</a:t>
            </a:r>
            <a:br>
              <a:rPr sz="2800"/>
            </a:b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Net RR = (74 / 387) * 100%= 19.1 %</a:t>
            </a:r>
            <a:br>
              <a:rPr sz="2800"/>
            </a:br>
            <a:br>
              <a:rPr sz="2500"/>
            </a:br>
            <a:br>
              <a:rPr sz="25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Gender </a:t>
            </a:r>
            <a:br>
              <a:rPr sz="25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males = 45 (61%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les = 28 (39%)</a:t>
            </a:r>
            <a:br>
              <a:rPr sz="2800"/>
            </a:br>
            <a:br>
              <a:rPr sz="2500"/>
            </a:br>
            <a:br>
              <a:rPr sz="25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1428840" y="571680"/>
            <a:ext cx="728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Response r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6"/>
          <p:cNvGrpSpPr/>
          <p:nvPr/>
        </p:nvGrpSpPr>
        <p:grpSpPr>
          <a:xfrm>
            <a:off x="-1800" y="0"/>
            <a:ext cx="1220400" cy="6951600"/>
            <a:chOff x="-1800" y="0"/>
            <a:chExt cx="1220400" cy="6951600"/>
          </a:xfrm>
        </p:grpSpPr>
        <p:grpSp>
          <p:nvGrpSpPr>
            <p:cNvPr id="115" name="Group 7"/>
            <p:cNvGrpSpPr/>
            <p:nvPr/>
          </p:nvGrpSpPr>
          <p:grpSpPr>
            <a:xfrm>
              <a:off x="-1800" y="0"/>
              <a:ext cx="1220400" cy="6951600"/>
              <a:chOff x="-1800" y="0"/>
              <a:chExt cx="1220400" cy="6951600"/>
            </a:xfrm>
          </p:grpSpPr>
          <p:sp>
            <p:nvSpPr>
              <p:cNvPr id="116" name="Rectangle 8"/>
              <p:cNvSpPr/>
              <p:nvPr/>
            </p:nvSpPr>
            <p:spPr>
              <a:xfrm rot="5400000">
                <a:off x="-2853000" y="2865600"/>
                <a:ext cx="6922800" cy="122004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6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Monotype Corsiva"/>
                  </a:rPr>
                  <a:t>          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Monotype Corsiva"/>
                  </a:rPr>
                  <a:t>  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" name="Picture 9" descr="Unri-wrn"/>
              <p:cNvPicPr/>
              <p:nvPr/>
            </p:nvPicPr>
            <p:blipFill>
              <a:blip r:embed="rId1"/>
              <a:stretch/>
            </p:blipFill>
            <p:spPr>
              <a:xfrm>
                <a:off x="720" y="0"/>
                <a:ext cx="1204920" cy="1143000"/>
              </a:xfrm>
              <a:prstGeom prst="rect">
                <a:avLst/>
              </a:prstGeom>
              <a:ln w="9360">
                <a:solidFill>
                  <a:srgbClr val="ffff66"/>
                </a:solidFill>
                <a:miter/>
              </a:ln>
            </p:spPr>
          </p:pic>
          <p:pic>
            <p:nvPicPr>
              <p:cNvPr id="118" name="Picture 10" descr="DSC01909"/>
              <p:cNvPicPr/>
              <p:nvPr/>
            </p:nvPicPr>
            <p:blipFill>
              <a:blip r:embed="rId2"/>
              <a:stretch/>
            </p:blipFill>
            <p:spPr>
              <a:xfrm>
                <a:off x="720" y="5638680"/>
                <a:ext cx="1217880" cy="1312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" name="Text Box 11"/>
            <p:cNvSpPr/>
            <p:nvPr/>
          </p:nvSpPr>
          <p:spPr>
            <a:xfrm>
              <a:off x="426960" y="1143000"/>
              <a:ext cx="316800" cy="47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UN I VERS 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 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34442-47F0-452D-822F-018C296363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85920" y="1499760"/>
            <a:ext cx="750096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id-ID" sz="23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2300"/>
            </a:br>
            <a:br>
              <a:rPr sz="1600"/>
            </a:br>
            <a:br>
              <a:rPr sz="2300"/>
            </a:br>
            <a:br>
              <a:rPr sz="3200"/>
            </a:br>
            <a:br>
              <a:rPr sz="3200"/>
            </a:b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1214280" y="428760"/>
            <a:ext cx="74980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6"/>
          <p:cNvGrpSpPr/>
          <p:nvPr/>
        </p:nvGrpSpPr>
        <p:grpSpPr>
          <a:xfrm>
            <a:off x="-360" y="0"/>
            <a:ext cx="1220400" cy="6951600"/>
            <a:chOff x="-360" y="0"/>
            <a:chExt cx="1220400" cy="6951600"/>
          </a:xfrm>
        </p:grpSpPr>
        <p:grpSp>
          <p:nvGrpSpPr>
            <p:cNvPr id="124" name="Group 7"/>
            <p:cNvGrpSpPr/>
            <p:nvPr/>
          </p:nvGrpSpPr>
          <p:grpSpPr>
            <a:xfrm>
              <a:off x="-360" y="0"/>
              <a:ext cx="1220400" cy="6951600"/>
              <a:chOff x="-360" y="0"/>
              <a:chExt cx="1220400" cy="6951600"/>
            </a:xfrm>
          </p:grpSpPr>
          <p:sp>
            <p:nvSpPr>
              <p:cNvPr id="125" name="Rectangle 8"/>
              <p:cNvSpPr/>
              <p:nvPr/>
            </p:nvSpPr>
            <p:spPr>
              <a:xfrm rot="5400000">
                <a:off x="-2851560" y="2865600"/>
                <a:ext cx="6922800" cy="122004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6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Monotype Corsiva"/>
                  </a:rPr>
                  <a:t>          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Monotype Corsiva"/>
                  </a:rPr>
                  <a:t>  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6" name="Picture 9" descr="Unri-wrn"/>
              <p:cNvPicPr/>
              <p:nvPr/>
            </p:nvPicPr>
            <p:blipFill>
              <a:blip r:embed="rId1"/>
              <a:stretch/>
            </p:blipFill>
            <p:spPr>
              <a:xfrm>
                <a:off x="2160" y="0"/>
                <a:ext cx="1204920" cy="1143000"/>
              </a:xfrm>
              <a:prstGeom prst="rect">
                <a:avLst/>
              </a:prstGeom>
              <a:ln w="9360">
                <a:solidFill>
                  <a:srgbClr val="ffff66"/>
                </a:solidFill>
                <a:miter/>
              </a:ln>
            </p:spPr>
          </p:pic>
          <p:pic>
            <p:nvPicPr>
              <p:cNvPr id="127" name="Picture 10" descr="DSC01909"/>
              <p:cNvPicPr/>
              <p:nvPr/>
            </p:nvPicPr>
            <p:blipFill>
              <a:blip r:embed="rId2"/>
              <a:stretch/>
            </p:blipFill>
            <p:spPr>
              <a:xfrm>
                <a:off x="2160" y="5638680"/>
                <a:ext cx="1217880" cy="1312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8" name="Text Box 11"/>
            <p:cNvSpPr/>
            <p:nvPr/>
          </p:nvSpPr>
          <p:spPr>
            <a:xfrm>
              <a:off x="428400" y="1143000"/>
              <a:ext cx="316800" cy="47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UN I VERS 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 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Slide Number Placeholder 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1E8DC-4B40-496A-B760-64EA902575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itle 1"/>
          <p:cNvSpPr/>
          <p:nvPr/>
        </p:nvSpPr>
        <p:spPr>
          <a:xfrm>
            <a:off x="1214280" y="27468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600" spc="-1" strike="noStrike">
                <a:solidFill>
                  <a:srgbClr val="000000"/>
                </a:solidFill>
                <a:latin typeface="Calibri"/>
              </a:rPr>
              <a:t>Characteristics of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lumni</a:t>
            </a:r>
            <a:r>
              <a:rPr b="1" lang="id-ID" sz="3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1" lang="id-ID" sz="3600" spc="-1" strike="noStrike">
                <a:solidFill>
                  <a:srgbClr val="000000"/>
                </a:solidFill>
                <a:latin typeface="Calibri"/>
              </a:rPr>
              <a:t>arital 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Chart 14" descr=""/>
          <p:cNvPicPr/>
          <p:nvPr/>
        </p:nvPicPr>
        <p:blipFill>
          <a:blip r:embed="rId3"/>
          <a:stretch/>
        </p:blipFill>
        <p:spPr>
          <a:xfrm>
            <a:off x="1494000" y="1494000"/>
            <a:ext cx="6943680" cy="42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8T13:26:35Z</dcterms:created>
  <dc:creator>Microsoft</dc:creator>
  <dc:description/>
  <dc:language>en-US</dc:language>
  <cp:lastModifiedBy>Microsoft</cp:lastModifiedBy>
  <dcterms:modified xsi:type="dcterms:W3CDTF">2012-12-22T01:18:53Z</dcterms:modified>
  <cp:revision>46</cp:revision>
  <dc:subject/>
  <dc:title>Dissemination Strategy of  Tracer Study 2011 University of Riau  to embrace alumni  into  university capacity building and alumni career   Joko Samiaji Arisman Adnan   UNITRACE Phase II  DAAD – University of Kassel, Germany, 9 September 2011</dc:title>
</cp:coreProperties>
</file>