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6CD2-2B33-4953-91A8-7C1EA8737861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inv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E4C2-22E3-46C6-B254-8251565DC78F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5E68-F597-48D5-B175-6B4376842D8C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B3E-4347-44F0-84B3-0693DCB3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1FC-CB0B-4472-A110-5074482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231-AF14-46C4-8808-81C90192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49A-5959-443E-9233-0124CAF3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5C9C-849D-4989-966E-2959B8A2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141-61DD-4650-989E-9A062784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FB8A-E5D0-4A49-8E7B-F3A0050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5F0-819E-406C-8B76-22032424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BC2C-B069-4E29-9D3D-CC4B6B12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C3C0-2953-4ACC-90BF-65034394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07A8-4495-499F-8A1D-F8579DAC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E5F-54F1-48EB-B772-D0287946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57FA-09FB-4DD8-B9EA-B1748A0D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93C1-E66F-4381-92A1-D1993DE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2FC9-94F8-4482-8363-914F2CE6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A151-D18D-4FBE-99AC-A16D6230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1C68-B7EC-4CE4-849A-66BA67F8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7DBA7-B54A-41CB-A360-898DE793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5F60-6ADF-466A-A340-65CD556F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5E54-A027-4C01-834B-6C17AE44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0EE2-E437-4C26-9FC1-737FFE2B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DA53-A0EF-47AD-AD5E-6653BF4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751-91B3-47C3-912D-27ADC39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8996-B056-4CCD-A766-EE25405F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4300-8F89-4A9B-B180-A1509087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6CF1-89D6-4693-8DA8-C478CB0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870E-E42D-4DAB-9C72-31F9F246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4ADE-5DAF-47C9-A3EE-37E48C7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6928-3CBC-4078-B852-26804CD7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D6CA-617C-4403-B6CA-3530EDE0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3344C-A7E4-41B0-82BC-69B2B57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B002-B2C1-44FE-BDF8-EF737955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FB03-D7B3-4FAD-8ECF-5F10C91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58F-A8C0-4721-ADDD-2DE5CF7E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90F5-E640-4740-A3E2-11E83834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F29C-B7EC-4A0D-9AEF-C3628E82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921F-9DE1-4E85-94F1-E247A150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2998A-6F9A-4EA5-A99D-1D7D8ECE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6CE2-BA07-4EBF-9587-20BBF4C6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C8D9-112D-4977-8F81-E0E5EA5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2AD0-C44C-4A38-AC80-6A050343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12E8-9BC3-4801-A470-A87EC791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37D8-4615-467F-97A0-107FCE4D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37811-527C-4526-A796-095EFB5C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92A-9EBA-4667-9079-0294437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A04B-E7BE-456E-A5C6-90F5A724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ABFD-A586-4D76-9B07-6F7C1B46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D3F0A-58E9-4BAB-81A9-9F7AA83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BF3CD-5179-4659-B2E2-E5361CCA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0EA33-FD5B-4109-AA0F-16475581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9BFE-A4F3-442F-B8E5-80E16A5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8CCF-2E4C-4B47-932E-A039E76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A502-3461-4776-A5B4-BCA764D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97AC-88C6-4741-B486-28CCD55F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06E4-BB9A-4B21-99F1-E65E240C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1AB-E0E2-4A43-9418-EC1B0C08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9AA07-E4F2-4745-B376-F7C0D7C9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D948-0C2A-4CBF-95D5-4CD221E2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3E06-442B-4C51-A8AC-4E20054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0271E-6AE5-4898-A521-A7AB6715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8BAC5-BF98-400F-B3A5-98574AA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1A8D-2B2E-41E8-9C5C-61862D14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B0EC2-C0CB-4CEB-A4EB-7D20D6E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5E336-5F40-4782-B07E-356C2949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9089-4003-473D-817F-BD65DF34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20A5-2454-4D8B-9E2E-91DB529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4C4-8C87-4EE2-B8AD-C308262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3FCE-A21B-483C-9121-04E3ADA1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65CE-A1F7-4A16-9201-76F238AF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009A8-3EB6-452A-8823-115813A7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05991-981E-4E06-926D-EE2883B6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8D3A6-6AB8-4288-AF72-5D390CA7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92AC4-6FA4-4B33-999C-B0BC50A5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B0C6-BF77-47C8-BB3A-32ADE4D0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4A9E7-3409-481C-86BD-766CE47D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7E9E-B0B9-46E7-A282-02B8FEF6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38CBC-D758-4C95-8C1B-CB663A00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793-F4AB-4DA3-8B8B-2B218218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DA15-70F1-452F-B03F-27A3715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F3880-A1E5-42A5-A896-04037A3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F842-5CEC-486B-94E4-6345736A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EF777-F92F-4139-BC02-559B9529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D92A-29E1-4B13-A776-AEB040AC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52F-9FB5-499A-9355-79DF5F7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53D1-7560-4BC2-9586-72AF83C8B1F7}" type="slidenum"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CFE3-38B3-4BD5-821C-5F4EF4D33221}" type="slidenum"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4C3-36F7-4756-BDF0-22638A16F31E}" type="slidenum"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CE14-0CA8-4FE2-B5CF-5871EE441479}" type="slidenum"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1E6B-0893-4462-91BF-CDB24A4E9D0F}" type="slidenum"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65BB-1593-4CA2-9042-92959EFFF49C}" type="slidenum"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4296-3677-45A0-9C14-8DA75899588E}" type="slidenum">
              <a:rPr b="0" lang="id-ID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55440" y="1616040"/>
            <a:ext cx="8807400" cy="304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orbel"/>
              </a:rPr>
              <a:t>Estivana Felaza, Rita Mustika, Marcellus Simadibrat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orbel"/>
              </a:rPr>
              <a:t>Fakultas Kedokteran Universitas Indonesia 201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9" name="Content Placeholder 4" descr=""/>
          <p:cNvPicPr/>
          <p:nvPr/>
        </p:nvPicPr>
        <p:blipFill>
          <a:blip r:embed="rId2"/>
          <a:stretch/>
        </p:blipFill>
        <p:spPr>
          <a:xfrm>
            <a:off x="-201600" y="1279440"/>
            <a:ext cx="944892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rbel"/>
              </a:rPr>
              <a:t>Positive Aspects of Graduates’ Performa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Very thorough in performing physical examination and managing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Polite in communicating with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Enthusiastic in sharing knowledge with paramedic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Show a significant sense of empath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Most of this postive inputs were received from patients and paramedic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3" descr="ima4ges.jpg"/>
          <p:cNvPicPr/>
          <p:nvPr/>
        </p:nvPicPr>
        <p:blipFill>
          <a:blip r:embed="rId2"/>
          <a:stretch/>
        </p:blipFill>
        <p:spPr>
          <a:xfrm>
            <a:off x="6929280" y="3000240"/>
            <a:ext cx="19242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3" descr=""/>
          <p:cNvPicPr/>
          <p:nvPr/>
        </p:nvPicPr>
        <p:blipFill>
          <a:blip r:embed="rId2"/>
          <a:stretch/>
        </p:blipFill>
        <p:spPr>
          <a:xfrm>
            <a:off x="396720" y="493560"/>
            <a:ext cx="8204400" cy="3657600"/>
          </a:xfrm>
          <a:prstGeom prst="rect">
            <a:avLst/>
          </a:prstGeom>
          <a:ln w="0">
            <a:noFill/>
          </a:ln>
        </p:spPr>
      </p:pic>
      <p:pic>
        <p:nvPicPr>
          <p:cNvPr id="345" name="Diagram 4" descr=""/>
          <p:cNvPicPr/>
          <p:nvPr/>
        </p:nvPicPr>
        <p:blipFill>
          <a:blip r:embed="rId3"/>
          <a:stretch/>
        </p:blipFill>
        <p:spPr>
          <a:xfrm>
            <a:off x="1328760" y="3181320"/>
            <a:ext cx="5675400" cy="847800"/>
          </a:xfrm>
          <a:prstGeom prst="rect">
            <a:avLst/>
          </a:prstGeom>
          <a:ln w="0">
            <a:noFill/>
          </a:ln>
        </p:spPr>
      </p:pic>
      <p:pic>
        <p:nvPicPr>
          <p:cNvPr id="346" name="Diagram 5" descr=""/>
          <p:cNvPicPr/>
          <p:nvPr/>
        </p:nvPicPr>
        <p:blipFill>
          <a:blip r:embed="rId4"/>
          <a:stretch/>
        </p:blipFill>
        <p:spPr>
          <a:xfrm>
            <a:off x="1047600" y="4206960"/>
            <a:ext cx="6834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rbel"/>
              </a:rPr>
              <a:t>Suggestions for future improveme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Educational exposure to cultural compet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Provide more opportunities for clinical experience with optimal supervision and good role model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Adequate information regarding internship program, along with clear roles and responsibility of inter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Suggestions.gif"/>
          <p:cNvPicPr/>
          <p:nvPr/>
        </p:nvPicPr>
        <p:blipFill>
          <a:blip r:embed="rId2"/>
          <a:stretch/>
        </p:blipFill>
        <p:spPr>
          <a:xfrm>
            <a:off x="6143760" y="4714920"/>
            <a:ext cx="1844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rbel"/>
              </a:rPr>
              <a:t>Soft skills performance of FMUI's graduates still needs improvement in several aspec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rbel"/>
              </a:rPr>
              <a:t>Improvement can start in medical school by giving students adequate clinical experience, and provide proper exposure to cultural compet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3" descr=""/>
          <p:cNvPicPr/>
          <p:nvPr/>
        </p:nvPicPr>
        <p:blipFill>
          <a:blip r:embed="rId1"/>
          <a:stretch/>
        </p:blipFill>
        <p:spPr>
          <a:xfrm>
            <a:off x="2975040" y="208080"/>
            <a:ext cx="3724200" cy="1144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Placeholder 11" descr="Chrysanthemum.jpg"/>
          <p:cNvPicPr/>
          <p:nvPr/>
        </p:nvPicPr>
        <p:blipFill>
          <a:blip r:embed="rId2"/>
          <a:stretch/>
        </p:blipFill>
        <p:spPr>
          <a:xfrm>
            <a:off x="3260880" y="1689120"/>
            <a:ext cx="49878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rbel"/>
              </a:rPr>
              <a:t>Competency-based curriculum in FMU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Diagram 3" descr=""/>
          <p:cNvPicPr/>
          <p:nvPr/>
        </p:nvPicPr>
        <p:blipFill>
          <a:blip r:embed="rId2"/>
          <a:stretch/>
        </p:blipFill>
        <p:spPr>
          <a:xfrm>
            <a:off x="603360" y="2755800"/>
            <a:ext cx="3139920" cy="3132360"/>
          </a:xfrm>
          <a:prstGeom prst="rect">
            <a:avLst/>
          </a:prstGeom>
          <a:ln w="0">
            <a:noFill/>
          </a:ln>
        </p:spPr>
      </p:pic>
      <p:pic>
        <p:nvPicPr>
          <p:cNvPr id="315" name="Diagram 4" descr=""/>
          <p:cNvPicPr/>
          <p:nvPr/>
        </p:nvPicPr>
        <p:blipFill>
          <a:blip r:embed="rId3"/>
          <a:stretch/>
        </p:blipFill>
        <p:spPr>
          <a:xfrm>
            <a:off x="3419640" y="2176560"/>
            <a:ext cx="55162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orbel"/>
              </a:rPr>
              <a:t>Internship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rbel"/>
              </a:rPr>
              <a:t>Process of developing medical graduates professional quality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rbel"/>
              </a:rPr>
              <a:t>Enrich clinical experience in which graduates can apply competencies that they acquire during educ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rbel"/>
              </a:rPr>
              <a:t>Integrated, comprehensive, independen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rbel"/>
              </a:rPr>
              <a:t>Using family medicine approac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rbel"/>
              </a:rPr>
              <a:t>In order to develop alignment between medical education and medical practi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orbel"/>
              </a:rPr>
              <a:t>(Permenkes no 299/Menkes/Per/II/2010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2000"/>
          </a:bodyPr>
          <a:p>
            <a:pPr marL="402840" indent="-29340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Inter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Distributed in type C hospitals and Community Health Centers (Puskesmas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Work under supervision in delivering ca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FMUI has had 2 batches of graduates undergone Internship Progr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This survey is conducted to capture the competencies of graduates’ performance in their internship lo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4" descr="doctor-vector-icon-large.jpg"/>
          <p:cNvPicPr/>
          <p:nvPr/>
        </p:nvPicPr>
        <p:blipFill>
          <a:blip r:embed="rId2"/>
          <a:stretch/>
        </p:blipFill>
        <p:spPr>
          <a:xfrm>
            <a:off x="6072120" y="4400640"/>
            <a:ext cx="3071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rbel"/>
              </a:rPr>
              <a:t>Internship Surve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Data collected in May-July 2012 through questionnaire and FGD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Conducted in 6 internship appointed hospita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Involv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72 inter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14 superviso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23 GP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7 specialis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24 paramed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25 pati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Qualitative data was analyzed thematically aligned with the 7 Competencies of Indonesian Medical Doctor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Diagram 5" descr=""/>
          <p:cNvPicPr/>
          <p:nvPr/>
        </p:nvPicPr>
        <p:blipFill>
          <a:blip r:embed="rId2"/>
          <a:stretch/>
        </p:blipFill>
        <p:spPr>
          <a:xfrm>
            <a:off x="1206360" y="1682640"/>
            <a:ext cx="10869840" cy="4992840"/>
          </a:xfrm>
          <a:prstGeom prst="rect">
            <a:avLst/>
          </a:prstGeom>
          <a:ln w="0">
            <a:noFill/>
          </a:ln>
        </p:spPr>
      </p:pic>
      <p:pic>
        <p:nvPicPr>
          <p:cNvPr id="327" name="Content Placeholder 9" descr="images.jpg"/>
          <p:cNvPicPr/>
          <p:nvPr/>
        </p:nvPicPr>
        <p:blipFill>
          <a:blip r:embed="rId3"/>
          <a:stretch/>
        </p:blipFill>
        <p:spPr>
          <a:xfrm>
            <a:off x="2357280" y="4500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57200" y="1773000"/>
            <a:ext cx="4038480" cy="4624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648320" y="1773000"/>
            <a:ext cx="4038480" cy="4624200"/>
          </a:xfrm>
          <a:prstGeom prst="rect">
            <a:avLst/>
          </a:prstGeom>
          <a:ln w="0">
            <a:noFill/>
          </a:ln>
        </p:spPr>
      </p:pic>
      <p:pic>
        <p:nvPicPr>
          <p:cNvPr id="331" name="Diagram 4" descr=""/>
          <p:cNvPicPr/>
          <p:nvPr/>
        </p:nvPicPr>
        <p:blipFill>
          <a:blip r:embed="rId4"/>
          <a:stretch/>
        </p:blipFill>
        <p:spPr>
          <a:xfrm>
            <a:off x="1779480" y="353880"/>
            <a:ext cx="746784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33" name="Content Placeholder 6" descr="j0439287.jpg"/>
          <p:cNvPicPr/>
          <p:nvPr/>
        </p:nvPicPr>
        <p:blipFill>
          <a:blip r:embed="rId2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4" descr=""/>
          <p:cNvPicPr/>
          <p:nvPr/>
        </p:nvPicPr>
        <p:blipFill>
          <a:blip r:embed="rId3"/>
          <a:stretch/>
        </p:blipFill>
        <p:spPr>
          <a:xfrm>
            <a:off x="853920" y="706320"/>
            <a:ext cx="965520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4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9000"/>
          </a:bodyPr>
          <a:p>
            <a:pPr marL="433440" indent="-31572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Inter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Ability in evaluating self-performance needs to be practised m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Admitted the need for lifelong learn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spcBef>
                <a:spcPts val="499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rbel"/>
              </a:rPr>
              <a:t>Ask the exper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spcBef>
                <a:spcPts val="499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rbel"/>
              </a:rPr>
              <a:t>Discussing cases with supervisors and pe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spcBef>
                <a:spcPts val="499"/>
              </a:spcBef>
              <a:buClr>
                <a:srgbClr val="1b587c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rbel"/>
              </a:rPr>
              <a:t>Searching for literature in related subjec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Specialis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Interns’ knowledge were very up-to-da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Shows enthusiasm for lear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orbel"/>
              </a:rPr>
              <a:t>Paramedic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rbel"/>
              </a:rPr>
              <a:t>Interns need to be aware of their rights and obligations during the progra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2:19:54Z</dcterms:created>
  <dc:creator>esti</dc:creator>
  <dc:description/>
  <dc:language>en-US</dc:language>
  <cp:lastModifiedBy>iuce</cp:lastModifiedBy>
  <dcterms:modified xsi:type="dcterms:W3CDTF">2012-10-20T03:15:18Z</dcterms:modified>
  <cp:revision>50</cp:revision>
  <dc:subject/>
  <dc:title>SURVEY ON SOFT SKILLS PERFORMANCE OF FMUI's GRADUATES DURING INTERNSHIP PROGRAM:  an evaluation of FMUI's curriculum</dc:title>
</cp:coreProperties>
</file>