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3F4F2-FD68-4A5C-BAE0-7D37DC603C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6000" y="398160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741C5-CCE1-4987-8439-37387C15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792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4E899-E8B6-4D72-A404-360A6217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6992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384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600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6992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384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D1700-F567-4FB5-9016-1060232D15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00000" y="0"/>
            <a:ext cx="8244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37A3-C87F-4131-A93C-0FD4FE7A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3792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16000" y="398160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3792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6992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384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1600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6992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384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785F-AB8C-4001-B622-5823D156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3C106-0631-4296-B986-2E0AECEC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ADC1F-2068-42EA-8E7A-38ACB0CE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00000" y="0"/>
            <a:ext cx="8244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14EF3-74B2-4A5A-9493-3C0367EA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F75F-D84F-4DE9-8618-7E673D2D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792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0F3C-F3F2-4286-B6A3-458962F3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9CD5-88AF-4D7D-9977-608F9733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2600" y="5300640"/>
            <a:ext cx="768240" cy="1611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lvl="1" marL="907920" indent="-32364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lvl="2" marL="1305000" indent="-2826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lvl="3" marL="1693800" indent="-2746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lvl="4" marL="2093760" indent="-28548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lvl="5" marL="2093760" indent="-28548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lvl="6" marL="2093760" indent="-28548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0" y="6308280"/>
            <a:ext cx="1981440" cy="25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0800000">
            <a:off x="-15480" y="718920"/>
            <a:ext cx="915840" cy="6237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noAutofit/>
          </a:bodyPr>
          <a:p>
            <a:pPr marL="16113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Lucida Sans"/>
              </a:rPr>
              <a:t>Teichler: </a:t>
            </a:r>
            <a:r>
              <a:rPr b="0" lang="en-GB" sz="1800" spc="-1" strike="noStrike">
                <a:solidFill>
                  <a:srgbClr val="ffffff"/>
                </a:solidFill>
                <a:latin typeface="Lucida Sans"/>
              </a:rPr>
              <a:t>Key Findings of Tracer Studies in the Past and Future Challenges</a:t>
            </a:r>
            <a:r>
              <a:rPr b="0" lang="de-DE" sz="1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Lucida San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-12960" y="-12600"/>
            <a:ext cx="91260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800" spc="-1" strike="noStrike">
                <a:solidFill>
                  <a:srgbClr val="ffffff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06D2-BB2B-4C87-9034-2576D44998DA}" type="slidenum">
              <a:rPr b="0" lang="de-DE" sz="2800" spc="-1" strike="noStrike">
                <a:solidFill>
                  <a:srgbClr val="ffffff"/>
                </a:solidFill>
                <a:latin typeface="Lucida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95280" y="5597640"/>
            <a:ext cx="492120" cy="12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9320" y="2387520"/>
            <a:ext cx="7799400" cy="136440"/>
            <a:chOff x="679320" y="2387520"/>
            <a:chExt cx="7799400" cy="1364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679320" y="2387520"/>
              <a:ext cx="7799400" cy="1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82640" y="2444760"/>
              <a:ext cx="7578720" cy="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Sans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87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Lucida Sans"/>
              </a:rPr>
              <a:t>Key Findings of Tracer Studies in the Past and Future Challenges</a:t>
            </a: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280" y="2636640"/>
            <a:ext cx="8785440" cy="26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Lucida Sans"/>
              </a:rPr>
              <a:t>Contribution to the International Conference </a:t>
            </a:r>
            <a:br>
              <a:rPr sz="2300"/>
            </a:br>
            <a:r>
              <a:rPr b="1" lang="en-GB" sz="2300" spc="-1" strike="noStrike">
                <a:solidFill>
                  <a:srgbClr val="ffffff"/>
                </a:solidFill>
                <a:latin typeface="Lucida Sans"/>
              </a:rPr>
              <a:t>“Experiences with Link and Match in Higher Education. Results of Tracer Studies Worldwide (EXLIMA)“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indent="0" algn="ctr">
              <a:spcBef>
                <a:spcPts val="20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ffffff"/>
                </a:solidFill>
                <a:latin typeface="Lucida Sans"/>
              </a:rPr>
              <a:t>Bali (Indonesia), 22-25 </a:t>
            </a:r>
            <a:r>
              <a:rPr b="1" lang="de-DE" sz="2300" spc="-1" strike="noStrike">
                <a:solidFill>
                  <a:srgbClr val="ffffff"/>
                </a:solidFill>
                <a:latin typeface="Lucida Sans"/>
              </a:rPr>
              <a:t>October 2012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Lucida Sans"/>
              </a:rPr>
              <a:t>    </a:t>
            </a:r>
            <a:r>
              <a:rPr b="1" lang="en-GB" sz="2200" spc="-1" strike="noStrike">
                <a:solidFill>
                  <a:srgbClr val="ffffff"/>
                </a:solidFill>
                <a:latin typeface="Lucida Sans"/>
              </a:rPr>
              <a:t>Ulrich Teichler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"/>
          <p:cNvSpPr/>
          <p:nvPr/>
        </p:nvSpPr>
        <p:spPr>
          <a:xfrm>
            <a:off x="2195640" y="5229360"/>
            <a:ext cx="5132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INCHER-KASSEL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University of Kassel, 34109 Kassel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Germany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Tel. </a:t>
            </a: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++49-561-804 2415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Fax ++49-561-804 74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E-mail: teichler@incher-uni-kassel.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8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Lucida Sans"/>
              </a:rPr>
              <a:t>Simplistic Information</a:t>
            </a:r>
            <a:r>
              <a:rPr b="0" lang="de-DE" sz="3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128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3823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A small range of “objective” data on</a:t>
            </a:r>
            <a:r>
              <a:rPr b="0" lang="de-DE" sz="30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382320">
              <a:spcBef>
                <a:spcPts val="499"/>
              </a:spcBef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Sans"/>
              </a:rPr>
              <a:t>employment (employment status, occupational category and income), and</a:t>
            </a:r>
            <a:r>
              <a:rPr b="0" lang="de-DE" sz="20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382320">
              <a:spcBef>
                <a:spcPts val="499"/>
              </a:spcBef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Sans"/>
              </a:rPr>
              <a:t>higher education (type of higher education institution, level of degree, field of study and individual institution)</a:t>
            </a: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3823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is too simplistic because analyses want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38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to discuss</a:t>
            </a:r>
            <a:r>
              <a:rPr b="0" lang="de-DE" sz="30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382320">
              <a:spcBef>
                <a:spcPts val="499"/>
              </a:spcBef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Sans"/>
              </a:rPr>
              <a:t>generation and utilisation of knowledge</a:t>
            </a: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382320">
              <a:spcBef>
                <a:spcPts val="499"/>
              </a:spcBef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Sans"/>
              </a:rPr>
              <a:t>the extent and the dimensions of professional impact of higher education</a:t>
            </a:r>
            <a:r>
              <a:rPr b="0" lang="de-DE" sz="20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3823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Therefore, simplistic data are constantly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38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over-interpreted.</a:t>
            </a:r>
            <a:r>
              <a:rPr b="0" lang="de-DE" sz="30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60FE3-4F3E-4C55-AD66-083D94C4BF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8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Lucida Sans"/>
              </a:rPr>
              <a:t>Highly Ideological Interpretations</a:t>
            </a:r>
            <a:r>
              <a:rPr b="0" lang="de-DE" sz="3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71280" y="1557360"/>
            <a:ext cx="817236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Vertical match” paradigm</a:t>
            </a:r>
            <a:endParaRPr b="0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Horizontal match” paradigm</a:t>
            </a:r>
            <a:endParaRPr b="0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Vocationalism is beautiful” paradigm</a:t>
            </a:r>
            <a:endParaRPr b="0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Neglect of power of professions and organisations</a:t>
            </a:r>
            <a:endParaRPr b="0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Neglect of systemic limitations of information</a:t>
            </a:r>
            <a:endParaRPr b="0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Neglect of cultural variety between countries</a:t>
            </a:r>
            <a:endParaRPr b="0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Over-interpretation of the role of HE in generating the graduates’ competences</a:t>
            </a:r>
            <a:endParaRPr b="0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The misinterpretation of elements of HE having professional impact </a:t>
            </a:r>
            <a:endParaRPr b="0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B5048-1066-46D0-BCF2-18921C8502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7733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Lucida Sans"/>
              </a:rPr>
              <a:t>Two Major Ambivalences in the Worldwide Debates on Higher Education and the World of Work</a:t>
            </a:r>
            <a:endParaRPr b="0" lang="en-US" sz="3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8172360" cy="50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0">
              <a:spcBef>
                <a:spcPts val="52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The quantitative ambivalence: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lvl="1" marL="890640" indent="-352440">
              <a:spcBef>
                <a:spcPts val="524"/>
              </a:spcBef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On the one hand: Expansion of higher education is beneficial for economic growth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lvl="1" marL="890640" indent="-352440">
              <a:spcBef>
                <a:spcPts val="524"/>
              </a:spcBef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On the other hand: “Over-education” (employment problems faced by graduates)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marL="358920" indent="0">
              <a:spcBef>
                <a:spcPts val="52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The functional ambivalence: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lvl="1" marL="890640" indent="-352440">
              <a:spcBef>
                <a:spcPts val="524"/>
              </a:spcBef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On the one hand: Call for professional relevance of study programmes and study or for “employability”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lvl="1" marL="890640" indent="-352440">
              <a:spcBef>
                <a:spcPts val="524"/>
              </a:spcBef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On the other hand: Concerns about too little emphasis on academic learning, general education, and benefits beyond the labour market, about sub-ordination on current employers’ and neglect of critical function as well as of preparation for indeterminate work tasks and of innovation in general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641C-8B2A-495D-B1C4-E45797A84A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7733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Lucida Sans"/>
              </a:rPr>
              <a:t>Actors in HE are Likely to Misunderstand the Data and the Possible Conclusions to be Drawn</a:t>
            </a:r>
            <a:endParaRPr b="0" lang="en-US" sz="3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2013120"/>
            <a:ext cx="784872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Most frequent misunderstandings: 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312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Belief in the “match” – “mismatch” dichotomy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312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Belief in the “employability” approach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312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Wish to imitate “world-class universities”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312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Over-estimation of general competences</a:t>
            </a:r>
            <a:r>
              <a:rPr b="0" lang="de-DE" sz="30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C073-556C-4264-80E6-7F1E257ACE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Lucida Sans"/>
              </a:rPr>
              <a:t>The “Match” – “Mismatch” Dichotomy</a:t>
            </a:r>
            <a:endParaRPr b="0" lang="en-US" sz="3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Expectation of a close “vertical” link: between “level of educational attainment” and income/position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Expectation of a close “horizontal” link: between field of study and occupational category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Accepted or deliberately promoted expansion of higher education surpasses growth of “typical graduate jobs”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Dynamics of the world of work undermines chances of a close horizontal link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Rapid growth of graduates in jobs neither indicating “match” nor “mismatch”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What are the potentials of graduates in such situations?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73762-3C2A-4628-9137-11C93E4A5B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5573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Lucida Sans"/>
              </a:rPr>
              <a:t>The “Employability” (Mis-) Understanding</a:t>
            </a: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81010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Lucida Sans"/>
              </a:rPr>
              <a:t>The inclinations: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862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Lucida Sans"/>
              </a:rPr>
              <a:t>Adaptation according to characteristics of the most successful graduates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862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Lucida Sans"/>
              </a:rPr>
              <a:t>Adaptation to the whereabouts of graduates from most prestigious universities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862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Lucida Sans"/>
              </a:rPr>
              <a:t>Adaptation to presumed employers’ expectations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0"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Lucida Sans"/>
              </a:rPr>
              <a:t>Instead: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862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Lucida Sans"/>
              </a:rPr>
              <a:t>Broader function of universities: cultivating personality, innovative value of non-instrumental teaching and learning, educating change agents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862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Lucida Sans"/>
              </a:rPr>
              <a:t>“</a:t>
            </a:r>
            <a:r>
              <a:rPr b="0" lang="en-GB" sz="2300" spc="-1" strike="noStrike">
                <a:solidFill>
                  <a:srgbClr val="ffffff"/>
                </a:solidFill>
                <a:latin typeface="Lucida Sans"/>
              </a:rPr>
              <a:t>Fitness for purpose” approach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7E426-E1A5-45E1-B684-671B7CEDE7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5573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Lucida Sans"/>
              </a:rPr>
              <a:t>Character of Good Graduate Surveys</a:t>
            </a: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4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4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Lucida Sans"/>
            </a:endParaRPr>
          </a:p>
          <a:p>
            <a:pPr marL="444600" indent="-444600">
              <a:spcBef>
                <a:spcPts val="913"/>
              </a:spcBef>
              <a:buClr>
                <a:srgbClr val="cc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Various criteria of employment and work success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marL="444600" indent="-444600">
              <a:spcBef>
                <a:spcPts val="913"/>
              </a:spcBef>
              <a:buClr>
                <a:srgbClr val="cc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Collecting information suitable to challenge ideological approaches (“match”, “employability”, etc.)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marL="444600" indent="-444600">
              <a:spcBef>
                <a:spcPts val="913"/>
              </a:spcBef>
              <a:buClr>
                <a:srgbClr val="cc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Including retrospective students’ views of study conditions and provisions 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marL="444600" indent="-444600">
              <a:spcBef>
                <a:spcPts val="913"/>
              </a:spcBef>
              <a:buClr>
                <a:srgbClr val="cc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Approaching the links between learning, competences, and job requirements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marL="444600" indent="-444600">
              <a:spcBef>
                <a:spcPts val="913"/>
              </a:spcBef>
              <a:buClr>
                <a:srgbClr val="cc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Measuring determinants of graduate employment and work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marL="444600" indent="-444600">
              <a:spcBef>
                <a:spcPts val="913"/>
              </a:spcBef>
              <a:buClr>
                <a:srgbClr val="cc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Providing information relevant for the specific profile of the individual HEI or study programme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marL="444600" indent="-444600">
              <a:spcBef>
                <a:spcPts val="913"/>
              </a:spcBef>
              <a:buClr>
                <a:srgbClr val="cc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Having the diverse values of students and of higher education institutions in mind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2581-5821-4194-8EEB-D67169FBB2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4130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Lucida Sans"/>
              </a:rPr>
              <a:t>Criteria of Employment and Work Success</a:t>
            </a:r>
            <a:endParaRPr b="0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84872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lnSpc>
                <a:spcPct val="95000"/>
              </a:lnSpc>
              <a:spcBef>
                <a:spcPts val="964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Smooth transition: length of search, efforts in the search project)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964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Major objective measures of employment “success”: income, occupational category/position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964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Employment conditions: e.g. part-time contract, short-term contract, social benefits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964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Work success: e.g. interesting work, demanding work, changes of further learning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964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Links between study and employment work: appropriate employment, utilisation of competences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964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Links between orientations and actual work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964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Job satisfaction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AB75-1D75-444D-8C2A-B3E2B6A911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8446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Lucida Sans"/>
              </a:rPr>
              <a:t>Links between Learning, Competences and Job Requirements</a:t>
            </a: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Various types of competences and job requirements to be addressed (disciplinary and professional specialisation, general competences, values and approaches related to work)</a:t>
            </a:r>
            <a:endParaRPr b="0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Comparison of competences at time of graduation with current job requirements</a:t>
            </a:r>
            <a:endParaRPr b="0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Reflecting respondents’ biases</a:t>
            </a:r>
            <a:endParaRPr b="0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199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Analysing links between study conditions and provisions as well as study activities on the one hand and competences on the other hand</a:t>
            </a:r>
            <a:endParaRPr b="0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29CB4-4EEA-42C2-ADDF-60CA7A9323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6286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Measuring Determinants of Graduate Employment and Work</a:t>
            </a: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1137"/>
              </a:spcBef>
              <a:buClr>
                <a:srgbClr val="cc00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Socio-biographic background</a:t>
            </a:r>
            <a:endParaRPr b="0" lang="en-US" sz="26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137"/>
              </a:spcBef>
              <a:buClr>
                <a:srgbClr val="cc00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Prior schooling and competences at entry</a:t>
            </a:r>
            <a:endParaRPr b="0" lang="en-US" sz="26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137"/>
              </a:spcBef>
              <a:buClr>
                <a:srgbClr val="cc00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Study provisions</a:t>
            </a:r>
            <a:endParaRPr b="0" lang="en-US" sz="26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137"/>
              </a:spcBef>
              <a:buClr>
                <a:srgbClr val="cc00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Study conditions</a:t>
            </a:r>
            <a:endParaRPr b="0" lang="en-US" sz="26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137"/>
              </a:spcBef>
              <a:buClr>
                <a:srgbClr val="cc00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Study behaviour and life as student</a:t>
            </a:r>
            <a:endParaRPr b="0" lang="en-US" sz="26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137"/>
              </a:spcBef>
              <a:buClr>
                <a:srgbClr val="cc00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Motives and orientations</a:t>
            </a:r>
            <a:endParaRPr b="0" lang="en-US" sz="26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137"/>
              </a:spcBef>
              <a:buClr>
                <a:srgbClr val="cc00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Credentials (institution, fields, grades, etc.)</a:t>
            </a:r>
            <a:endParaRPr b="0" lang="en-US" sz="26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137"/>
              </a:spcBef>
              <a:buClr>
                <a:srgbClr val="cc00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Competences at graduation</a:t>
            </a:r>
            <a:endParaRPr b="0" lang="en-US" sz="26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137"/>
              </a:spcBef>
              <a:buClr>
                <a:srgbClr val="cc00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Search and transition </a:t>
            </a:r>
            <a:endParaRPr b="0" lang="en-US" sz="2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54D16-87FF-4475-AF0D-351B9DEAA1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Lucida Sans"/>
              </a:rPr>
              <a:t>This Conference Brings Together</a:t>
            </a: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84872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1500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Experienced experts of graduate surveys and of the use of the results of graduate surveys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500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New experts involved in graduate surveys and the interpretation of the results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500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Policy makers and practitioners in higher education interested in drawing conclusions from the results of graduate surveys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F3764-8E85-4AA3-8882-0C3139FAC7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8446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Lucida Sans"/>
              </a:rPr>
              <a:t>Providing Information Relevant for the Specific Profile of the Individual HEI or Study Programme</a:t>
            </a:r>
            <a:endParaRPr b="0" lang="en-US" sz="3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2438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Realistic benchmarks for employment success: comparison with HEIs of similar profile and quality as well as similar labour market conditions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3376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Specific questions related to the institution’s/programme’s profile: Examining “fitness for purpose”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6B32-BA16-421F-A0BF-DCBCABF149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6286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Lucida Sans"/>
              </a:rPr>
              <a:t>Having the Students’/Graduates’ Values in Mind</a:t>
            </a: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1844280"/>
            <a:ext cx="7848720" cy="49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lnSpc>
                <a:spcPct val="95000"/>
              </a:lnSpc>
              <a:spcBef>
                <a:spcPts val="913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Links between orientations and actual work situation for various orientations/values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913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The homo oeconomicus and the status seeker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913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The “professional”: expectation of interesting work and high status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913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The specialist/expert: utilisation of knowledge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913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The academically minded person: Interest in research and HE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913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The person wishing to improve the world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913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The work-life balance seeker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913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The comfortable life fan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913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Lucida Sans"/>
              </a:rPr>
              <a:t>Etc.</a:t>
            </a: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77536-96AA-4379-9D1F-C9DFCD6F74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Lucida Sans"/>
              </a:rPr>
              <a:t>Conclusion</a:t>
            </a: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84872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ffffff"/>
                </a:solidFill>
                <a:latin typeface="Lucida Sans"/>
              </a:rPr>
              <a:t>We need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1726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ffffff"/>
                </a:solidFill>
                <a:latin typeface="Lucida Sans"/>
              </a:rPr>
              <a:t>Relatively long questionnaires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1001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ffffff"/>
                </a:solidFill>
                <a:latin typeface="Lucida Sans"/>
              </a:rPr>
              <a:t>Relatively complex data analysis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1001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Lucida Sans"/>
              </a:rPr>
              <a:t>To employ specialists for the operational dimensions of graduates surveys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1001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Lucida Sans"/>
              </a:rPr>
              <a:t>To employ specialists for the interpreting and drawing conclusions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1001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Lucida Sans"/>
              </a:rPr>
              <a:t>An intensive discussion among the various actors (employers, managers, academics, students, career officers) in order to interpret the results appropriately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5000"/>
              </a:lnSpc>
              <a:spcBef>
                <a:spcPts val="1001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Lucida Sans"/>
              </a:rPr>
              <a:t>Strong management support for making all this happen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6B6B-A6AD-44D7-AAAF-116B649E3E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5573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Lucida Sans"/>
              </a:rPr>
              <a:t>The Keynote Speakers of this International Conference, Ulrich Teichler and Harald Schomburg,</a:t>
            </a:r>
            <a:endParaRPr b="0" lang="en-US" sz="3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7848720" cy="49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1287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Lucida Sans"/>
              </a:rPr>
              <a:t>are members of a research team at the International Centre for Higher Education Research of the University of Kassel (INCHER-Kassel), Germany,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287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Lucida Sans"/>
              </a:rPr>
              <a:t>are involved in graduate surveys in Germany for 30 years,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287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Lucida Sans"/>
              </a:rPr>
              <a:t>have initiated the first international comparative graduate survey and cooperate closely with experts of graduate surveys in many European countries and Japan,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1287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Lucida Sans"/>
              </a:rPr>
              <a:t>have been involved in training programmes for graduate surveys in many countries world-wide.</a:t>
            </a:r>
            <a:endParaRPr b="0" lang="en-US" sz="23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8F3D-9A22-4D63-AD84-49BD9267E0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Sans"/>
              </a:rPr>
              <a:t>We Can Tell You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2024"/>
              </a:spcBef>
              <a:buClr>
                <a:srgbClr val="cc0000"/>
              </a:buClr>
              <a:buSzPct val="2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Lucida Sans"/>
              </a:rPr>
              <a:t>optismistic stories and</a:t>
            </a:r>
            <a:endParaRPr b="0" lang="en-US" sz="3600" spc="-1" strike="noStrike">
              <a:solidFill>
                <a:srgbClr val="ffffff"/>
              </a:solidFill>
              <a:latin typeface="Lucida Sans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2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Lucida Sans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Lucida Sans"/>
              </a:rPr>
              <a:t>pessimistic stories</a:t>
            </a:r>
            <a:endParaRPr b="0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Lucida Sans"/>
              </a:rPr>
              <a:t>about opportunities and problems of conducting graduate surveys, analysing and interpreting the findings, and drawing practical conclusions.</a:t>
            </a:r>
            <a:endParaRPr b="0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863AF-E1E7-40E5-AD3C-43CBBBBF29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6286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Lucida Sans"/>
              </a:rPr>
              <a:t>A Short Terminological Note</a:t>
            </a: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6000" y="1889280"/>
            <a:ext cx="784872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Lucida Sans"/>
              </a:rPr>
              <a:t>Different terms are customary for the same thing:</a:t>
            </a:r>
            <a:endParaRPr b="0" lang="en-US" sz="3300" spc="-1" strike="noStrike">
              <a:solidFill>
                <a:srgbClr val="ffffff"/>
              </a:solidFill>
              <a:latin typeface="Lucida Sans"/>
            </a:endParaRPr>
          </a:p>
          <a:p>
            <a:pPr lvl="1" marL="950760" indent="-323640">
              <a:spcBef>
                <a:spcPts val="16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GB" sz="3300" spc="-1" strike="noStrike">
                <a:solidFill>
                  <a:srgbClr val="ffffff"/>
                </a:solidFill>
                <a:latin typeface="Lucida Sans"/>
              </a:rPr>
              <a:t>Graduate surveys</a:t>
            </a:r>
            <a:endParaRPr b="0" lang="en-US" sz="3300" spc="-1" strike="noStrike">
              <a:solidFill>
                <a:srgbClr val="ffffff"/>
              </a:solidFill>
              <a:latin typeface="Lucida Sans"/>
            </a:endParaRPr>
          </a:p>
          <a:p>
            <a:pPr lvl="1" marL="950760" indent="-323640">
              <a:spcBef>
                <a:spcPts val="16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GB" sz="3300" spc="-1" strike="noStrike">
                <a:solidFill>
                  <a:srgbClr val="ffffff"/>
                </a:solidFill>
                <a:latin typeface="Lucida Sans"/>
              </a:rPr>
              <a:t>Alumni surveys</a:t>
            </a:r>
            <a:endParaRPr b="0" lang="en-US" sz="3300" spc="-1" strike="noStrike">
              <a:solidFill>
                <a:srgbClr val="ffffff"/>
              </a:solidFill>
              <a:latin typeface="Lucida Sans"/>
            </a:endParaRPr>
          </a:p>
          <a:p>
            <a:pPr lvl="1" marL="950760" indent="-323640">
              <a:spcBef>
                <a:spcPts val="16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GB" sz="3300" spc="-1" strike="noStrike">
                <a:solidFill>
                  <a:srgbClr val="ffffff"/>
                </a:solidFill>
                <a:latin typeface="Lucida Sans"/>
              </a:rPr>
              <a:t>Tracer studies</a:t>
            </a:r>
            <a:endParaRPr b="0" lang="en-US" sz="3300" spc="-1" strike="noStrike">
              <a:solidFill>
                <a:srgbClr val="ffffff"/>
              </a:solidFill>
              <a:latin typeface="Lucida Sans"/>
            </a:endParaRPr>
          </a:p>
          <a:p>
            <a:pPr lvl="1" marL="950760" indent="-323640">
              <a:spcBef>
                <a:spcPts val="16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GB" sz="3300" spc="-1" strike="noStrike">
                <a:solidFill>
                  <a:srgbClr val="ffffff"/>
                </a:solidFill>
                <a:latin typeface="Lucida Sans"/>
              </a:rPr>
              <a:t>More recently even: tracking</a:t>
            </a:r>
            <a:br>
              <a:rPr sz="3300"/>
            </a:br>
            <a:r>
              <a:rPr b="0" lang="en-GB" sz="3300" spc="-1" strike="noStrike">
                <a:solidFill>
                  <a:srgbClr val="ffffff"/>
                </a:solidFill>
                <a:latin typeface="Lucida Sans"/>
              </a:rPr>
              <a:t> graduates</a:t>
            </a:r>
            <a:endParaRPr b="0" lang="en-US" sz="3300" spc="-1" strike="noStrike">
              <a:solidFill>
                <a:srgbClr val="ffffff"/>
              </a:solidFill>
              <a:latin typeface="Lucida Sans"/>
            </a:endParaRPr>
          </a:p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21A8A-BB3F-4EF4-95FC-C127FA8BF6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9810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Lucida Sans"/>
              </a:rPr>
              <a:t>Growing Public Interest</a:t>
            </a:r>
            <a:endParaRPr b="0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71280" y="1052640"/>
            <a:ext cx="817236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The public interest in the employment and work</a:t>
            </a:r>
            <a:endParaRPr b="0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64760" indent="-46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outcome of higher education has grown over the</a:t>
            </a:r>
            <a:endParaRPr b="0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64760" indent="-46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years in Europe as a consequence of</a:t>
            </a:r>
            <a:endParaRPr b="0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64760" indent="-464760">
              <a:spcBef>
                <a:spcPts val="45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Lucida Sans"/>
              </a:rPr>
              <a:t>higher education expansion</a:t>
            </a:r>
            <a:r>
              <a:rPr b="0" lang="en-GB" sz="2000" spc="-1" strike="noStrike">
                <a:solidFill>
                  <a:srgbClr val="ffffff"/>
                </a:solidFill>
                <a:latin typeface="Lucida Sans"/>
              </a:rPr>
              <a:t>, </a:t>
            </a:r>
            <a:br>
              <a:rPr sz="2000"/>
            </a:br>
            <a:r>
              <a:rPr b="0" lang="en-GB" sz="1800" spc="-1" strike="noStrike">
                <a:solidFill>
                  <a:srgbClr val="ffffff"/>
                </a:solidFill>
                <a:latin typeface="Lucida Sans"/>
              </a:rPr>
              <a:t>because the expanding lower level programmes and graduates are expected in most European countries to be more directly prepared for the world of work  (cf. in the </a:t>
            </a:r>
            <a:r>
              <a:rPr b="0" i="1" lang="en-GB" sz="1800" spc="-1" strike="noStrike">
                <a:solidFill>
                  <a:srgbClr val="ffffff"/>
                </a:solidFill>
                <a:latin typeface="Lucida Sans"/>
              </a:rPr>
              <a:t>Bologna Process</a:t>
            </a:r>
            <a:r>
              <a:rPr b="0" lang="en-GB" sz="1800" spc="-1" strike="noStrike">
                <a:solidFill>
                  <a:srgbClr val="ffffff"/>
                </a:solidFill>
                <a:latin typeface="Lucida Sans"/>
              </a:rPr>
              <a:t> the “employability debate” and the concern about the professional relevance of university bachelor)</a:t>
            </a:r>
            <a:r>
              <a:rPr b="0" lang="de-DE" sz="1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Lucida Sans"/>
            </a:endParaRPr>
          </a:p>
          <a:p>
            <a:pPr marL="464760" indent="-464760">
              <a:spcBef>
                <a:spcPts val="45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Lucida Sans"/>
              </a:rPr>
              <a:t>growing utilitarian expectations</a:t>
            </a:r>
            <a:br>
              <a:rPr sz="2400"/>
            </a:br>
            <a:r>
              <a:rPr b="0" lang="en-GB" sz="1800" spc="-1" strike="noStrike">
                <a:solidFill>
                  <a:srgbClr val="ffffff"/>
                </a:solidFill>
                <a:latin typeface="Lucida Sans"/>
              </a:rPr>
              <a:t>harboured with research to higher education (cf. in the </a:t>
            </a:r>
            <a:r>
              <a:rPr b="0" i="1" lang="en-GB" sz="1800" spc="-1" strike="noStrike">
                <a:solidFill>
                  <a:srgbClr val="ffffff"/>
                </a:solidFill>
                <a:latin typeface="Lucida Sans"/>
              </a:rPr>
              <a:t>Lisbon Process</a:t>
            </a:r>
            <a:r>
              <a:rPr b="0" lang="en-GB" sz="1800" spc="-1" strike="noStrike">
                <a:solidFill>
                  <a:srgbClr val="ffffff"/>
                </a:solidFill>
                <a:latin typeface="Lucida Sans"/>
              </a:rPr>
              <a:t> the call to make Europe the “most competitive economy” with the help of knowledge enhancement)</a:t>
            </a:r>
            <a:endParaRPr b="0" lang="en-US" sz="1800" spc="-1" strike="noStrike">
              <a:solidFill>
                <a:srgbClr val="ffffff"/>
              </a:solidFill>
              <a:latin typeface="Lucida Sans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Lucida Sans"/>
              </a:rPr>
              <a:t>increasing pressures to provide evidence </a:t>
            </a:r>
            <a:br>
              <a:rPr sz="2400"/>
            </a:br>
            <a:r>
              <a:rPr b="0" lang="en-GB" sz="1800" spc="-1" strike="noStrike">
                <a:solidFill>
                  <a:srgbClr val="ffffff"/>
                </a:solidFill>
                <a:latin typeface="Lucida Sans"/>
              </a:rPr>
              <a:t>about proper processes and desirable outcomes (cf. the popularity of terms and measures such as  “evaluation”, “accreditation”, “accountability” or “evidence-based policy”).</a:t>
            </a:r>
            <a:r>
              <a:rPr b="0" lang="de-DE" sz="1800" spc="-1" strike="noStrike">
                <a:solidFill>
                  <a:srgbClr val="ffffff"/>
                </a:solidFill>
                <a:latin typeface="Lucida Sans"/>
              </a:rPr>
              <a:t>  </a:t>
            </a:r>
            <a:br>
              <a:rPr sz="2400"/>
            </a:br>
            <a:r>
              <a:rPr b="0" i="1" lang="en-GB" sz="24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09613-09A3-4A03-A768-4B3F177FAE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7733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Increasing Importance as Feedback on Meso-Level</a:t>
            </a: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962000"/>
            <a:ext cx="810108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Nationally representative graduate surveys have been complemented recently by studies addressing graduate employment and work of graduates from individual universities and study programmes</a:t>
            </a:r>
            <a:endParaRPr b="0" lang="en-US" sz="2600" spc="-1" strike="noStrike">
              <a:solidFill>
                <a:srgbClr val="ffffff"/>
              </a:solidFill>
              <a:latin typeface="Lucida Sans"/>
            </a:endParaRPr>
          </a:p>
          <a:p>
            <a:pPr lvl="1" marL="990720" indent="-366840">
              <a:lnSpc>
                <a:spcPct val="95000"/>
              </a:lnSpc>
              <a:spcBef>
                <a:spcPts val="1089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Feedback for university management</a:t>
            </a:r>
            <a:endParaRPr b="0" lang="en-US" sz="2500" spc="-1" strike="noStrike">
              <a:solidFill>
                <a:srgbClr val="ffffff"/>
              </a:solidFill>
              <a:latin typeface="Lucida Sans"/>
            </a:endParaRPr>
          </a:p>
          <a:p>
            <a:pPr lvl="1" marL="990720" indent="-366840">
              <a:lnSpc>
                <a:spcPct val="95000"/>
              </a:lnSpc>
              <a:spcBef>
                <a:spcPts val="1089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Feedback for those in charge of study provisions and conditions</a:t>
            </a:r>
            <a:endParaRPr b="0" lang="en-US" sz="2500" spc="-1" strike="noStrike">
              <a:solidFill>
                <a:srgbClr val="ffffff"/>
              </a:solidFill>
              <a:latin typeface="Lucida Sans"/>
            </a:endParaRPr>
          </a:p>
          <a:p>
            <a:pPr lvl="1" marL="990720" indent="-366840">
              <a:lnSpc>
                <a:spcPct val="95000"/>
              </a:lnSpc>
              <a:spcBef>
                <a:spcPts val="1089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Feedback for prospective students and actual students of the individual universities and study programmes</a:t>
            </a:r>
            <a:endParaRPr b="0" lang="en-US" sz="25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FA55-CD3E-4071-87A6-558AC10A9C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4130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Lucida Sans"/>
              </a:rPr>
              <a:t>The Value of Graduate Surveys</a:t>
            </a: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9280" y="162828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964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Information on graduate employment and work as general feedback to HE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964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Understanding the diversity of graduate employment and work instead of “match” vs. “mismatch” dichotomy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964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Information how graduates view study conditions and provisions retrospectively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964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Understanding links between learning, competences, job requirements and work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964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Measuring determinants of employment/work success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spcBef>
                <a:spcPts val="964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Lucida Sans"/>
              </a:rPr>
              <a:t>Providing feedback for specific institutional profiles and for various values</a:t>
            </a:r>
            <a:endParaRPr b="0" lang="en-US" sz="2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21E5-E2A4-4A1C-B0E0-88541301B5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5573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Lucida Sans"/>
              </a:rPr>
              <a:t>The Value for Different Actors </a:t>
            </a:r>
            <a:br>
              <a:rPr sz="3800"/>
            </a:br>
            <a:r>
              <a:rPr b="0" lang="en-GB" sz="3800" spc="-1" strike="noStrike">
                <a:solidFill>
                  <a:srgbClr val="ffffff"/>
                </a:solidFill>
                <a:latin typeface="Lucida Sans"/>
              </a:rPr>
              <a:t>and Persons</a:t>
            </a:r>
            <a:endParaRPr b="0" lang="en-US" sz="3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752120"/>
            <a:ext cx="7848720" cy="49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For students’ choices and actions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For institutional quantitative-structural strategies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For institutional profiles 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For curriculum development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For evaluation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For career counselling and other career services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  <a:p>
            <a:pPr marL="469800" indent="-469800"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Lucida Sans"/>
              </a:rPr>
              <a:t>For alumni relationships</a:t>
            </a:r>
            <a:endParaRPr b="0" lang="en-US" sz="3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53B7F-105F-4ECC-B5FA-DF24F12701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3:32:07Z</dcterms:created>
  <dc:creator>Harald Schomburg</dc:creator>
  <dc:description/>
  <dc:language>en-US</dc:language>
  <cp:lastModifiedBy>dagi</cp:lastModifiedBy>
  <dcterms:modified xsi:type="dcterms:W3CDTF">2012-10-15T10:39:30Z</dcterms:modified>
  <cp:revision>246</cp:revision>
  <dc:subject/>
  <dc:title>Karrieren in der Wissenschaft</dc:title>
</cp:coreProperties>
</file>