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C44-05BA-4D1A-AD6F-5EE5F67B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24C-6B1B-4F10-A1BF-48D91AC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322-6650-484D-BDFD-D518B02A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B07-958E-4DFE-9BDD-FA8AF96B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6F4-FACF-407D-843E-1BBDD4FA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C55-C242-4744-8E6F-0F2B0702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9ECA-185B-455F-B3DD-D0B0888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2317-5110-4FB1-88D5-C8A6D4A8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6CF0-EB57-4DB0-B610-A36F84E4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B0D-3B77-49EA-8891-80C36E92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CB6-DCD6-4112-B1D7-97B0D13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33C-9052-4F66-8271-3AA3A13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A5C4-7565-4831-BD1D-9D6481E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4691-8DA9-4890-BA8C-7F9CFFFC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80A-B74D-4AC2-9F94-EE5831D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57E4-000C-47EF-8E25-7334FCFA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4AC-8F10-42EC-9A27-188EC820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70902-43C4-45BE-ABDC-B5535C32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D2742-99A0-40E4-B879-E557F433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3E3C9-B19A-4105-8E2B-13D5107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3192D-9F38-43AD-AA8D-17834BA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1B86D-EBDF-4C4D-AA26-24A4F993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1C6-A22F-448E-B100-523BF6E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FB7DB-79A8-41E5-8892-FA10ABE1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D17D7-15D8-4FAF-A6B4-DB67D0C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8F77F-6D36-4DEA-8D75-9BE7F15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083B5-546E-4C4A-A562-EF58CDA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6E6A3-24BA-4156-B82C-97D3472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06499-E670-4B0C-943C-DC27F4BA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6807D-6BC1-4928-98D2-AA93EEFD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51C6-562E-4D04-9EFD-1873510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9252-497B-478F-9322-EA3FADC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1AC1-F5AA-4933-878D-2B9ABB4A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B65-1935-4CD1-BAB8-ADA9149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2721-D280-4F30-8133-4981A909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404B-96FE-44CC-862B-E3E13C7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E73B-31A2-4783-A2A8-28F53E0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3CEA-7FAB-477A-ACB6-2114CEF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2DE4-E9DE-4AB5-AAA2-17FC54F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473C-2971-42C6-A232-A55357D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82C8-426D-4175-91CD-1DA9E44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D6BA-D272-408D-85E0-B021575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1BB8-B50E-43E1-ACBB-A989CEFE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CDECC-BD0C-4683-9F88-44723689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0BC-BEC7-4E0B-9367-6D694E3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D02FF-390A-43CF-A7FA-27BD63B2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20446-960B-42BC-B4A1-6494E109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C8797-BBE9-465C-BB4C-10014D7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C75A6-9A2B-4E3A-A32D-5BD58BF2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D835A-E150-49CD-90AB-1BB4499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7E938-B19B-4261-B94A-A38A0DF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A903B-F1B7-4421-831D-ACFD544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2D180-E03E-4FEB-8282-497308F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DDF71-EF4D-4D3C-B320-61D714D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80D64-1793-47C7-B50A-E5A24FBC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9AB-47A9-4BA0-BFBC-6681472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C71D7-F80D-4221-A965-FBBA06B1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7A36F-BF1D-4CD0-8004-702593E5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4C677-C5A1-4D7B-895D-2D5FCA6B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5C84F-34BA-4A3B-8D90-56A92CC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8BB3B-F5E8-474F-B149-C812EAC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8482B-E2E6-407E-AEBF-89BE308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D30AF-F9EF-4A1C-90F8-0D221FF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65E5B-D15E-4761-9141-1A7201FC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A3617-BD6D-412D-A9C5-A833FBF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3C705-4826-4FBB-8C4C-15F3A99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CA9-C506-43E6-8C99-44521F1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9299C-067E-4F2D-9BBC-CCC2E337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856F5-61E5-43B4-B34A-BD66DBB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286C0-DEEE-4D23-8188-0FDE1978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9F9EF-B6E0-40C7-BF71-5F4AF739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754AB-A940-41CA-9721-127AA08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A23A3-0ADE-4E00-A24C-AED8950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BB03C-BA18-49C5-A513-B82A27A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AB99F-CA55-4B4D-A3A5-38D62F20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61B1E-28B4-45DA-8E53-DC6D0C8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3C901-6082-4809-8210-48D480C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DCC-BA44-4B42-B25C-B5D3ABF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5A2C3-7499-4574-AAD4-D6764B35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7747F-175D-4D2C-A0E1-D4A94FD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13F6C-6B3A-4FED-98FA-F933DBF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0FBC3-5449-4F55-B5A4-6732C995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D721C-AB21-4AE5-919B-881784F5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758-778B-4504-ABD8-FCEBB20C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A87E-45B6-4CDA-A5DE-8D28E69C5B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" name="Picture 33" descr="logo.jpg"/>
          <p:cNvPicPr/>
          <p:nvPr/>
        </p:nvPicPr>
        <p:blipFill>
          <a:blip r:embed="rId2"/>
          <a:stretch/>
        </p:blipFill>
        <p:spPr>
          <a:xfrm>
            <a:off x="2895480" y="5029200"/>
            <a:ext cx="5181840" cy="1360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4"/>
          <p:cNvSpPr/>
          <p:nvPr/>
        </p:nvSpPr>
        <p:spPr>
          <a:xfrm>
            <a:off x="2080800" y="380988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.V.D. Wirjawan, Y.G.H. Pramono, C.H.A. Sudibyo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.W. Djatmiko, P.R. Angka, S. Suryoseputro, N. Persad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Picture 35" descr="wimaLogo.jpg"/>
          <p:cNvPicPr/>
          <p:nvPr/>
        </p:nvPicPr>
        <p:blipFill>
          <a:blip r:embed="rId3"/>
          <a:stretch/>
        </p:blipFill>
        <p:spPr>
          <a:xfrm>
            <a:off x="4267080" y="2286000"/>
            <a:ext cx="85896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6D1-5F62-4ADC-BFEA-D3FC642C72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BE9-A49F-453F-84ED-C84E315742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D3C-34CF-4EC6-A222-55D91D2A76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47D-CE23-4F30-8689-A96825A47D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B65B-1EC2-4562-81CD-4751F1E772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42DB-A267-4074-9779-B22E30136D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cestudy.wima.ac.id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29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ONCLUSIO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stitutionalized tracer study system at WMSCU has been develop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unexpected very low response from alum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work needs to be done to improve the implemented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ACKNOWLEDGEMEN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work was supported by the Directorate General of Higher Education I-MHERE Implementing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THANK YOU …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7" name="Content Placeholder 3" descr="wimaLogo.jpg"/>
          <p:cNvPicPr/>
          <p:nvPr/>
        </p:nvPicPr>
        <p:blipFill>
          <a:blip r:embed="rId1"/>
          <a:stretch/>
        </p:blipFill>
        <p:spPr>
          <a:xfrm>
            <a:off x="3809880" y="1676520"/>
            <a:ext cx="1295640" cy="1492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operators1.jpg"/>
          <p:cNvPicPr/>
          <p:nvPr/>
        </p:nvPicPr>
        <p:blipFill>
          <a:blip r:embed="rId2"/>
          <a:stretch/>
        </p:blipFill>
        <p:spPr>
          <a:xfrm>
            <a:off x="5334120" y="3124080"/>
            <a:ext cx="2913120" cy="2028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tracer1.jpg"/>
          <p:cNvPicPr/>
          <p:nvPr/>
        </p:nvPicPr>
        <p:blipFill>
          <a:blip r:embed="rId3"/>
          <a:stretch/>
        </p:blipFill>
        <p:spPr>
          <a:xfrm>
            <a:off x="457200" y="312408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OUTLIN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posed Desig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rst Year Implemen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of the I-TS Implemen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ture P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MSCU was founded in 196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MSCU has more than 25,000 alumn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acer study was conducted sporadicall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umni’s satisfaction to the alma ma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 of curriculum and the compet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ansition from school to employ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stitutional accreditation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itutionalized tracer stu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PROPOSED DESIG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ementation P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I-TS will be conducted annual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ptember – Novemb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ment of Survey Instru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ain instrument as required by the I-MHE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ditional instrument specifically developed by WMSC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relevant instru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ystem Implemen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ine polling applic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ementing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nter of Ethics and Career Advisor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PROPOSED DESIGN (2)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targ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ree consecutive years of graduation clas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been graduated for at least two yea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ensus – all the graduates in the population targ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ine polling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ndardiz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iform  instrument across the univers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5 pages, 73 items implemented onlin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uration of data collec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 months  : Sept – Nov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FIRST YEAR IMPLEMENTATIO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-TS instru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ulsory items as required by I-MHE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ditional items specific for WMSC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: socio-biography characteris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: learning activities and experienc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: job searching and transitions to employ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: job characteris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: job and competences, relevance education and jo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ment of the Online Polling Ap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tracestudy.wima.ac.i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acer study for alumn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rvey on employer’s satisfac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FIRST YEAR IMPLEMENTATION (2)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termine the population targe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008 – 2010 graduates (3,091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ist of the graduates’ e-mail addres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961 valid e-mail addres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nd e-mail blast to the graduates’ e-mail addr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vitation by the Rect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IN generation attached to the email bl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rove the alumni particip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heck the validity of the alumni’s e-mail add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pand the database of alumni’s e-mail add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mind re-invite  the identified alumni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STATUS OF THE I-TS IMPLEMENTATIO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online polling ap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ill needs to be re-examin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sponse from the alum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ery low response r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tal participants was less than 5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spected proble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umni get problem to access the questionna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FUTURE PLA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rove the program accessibilit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 improving the alumni’s e-mail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olve the teaching staff of every study program in initiating contact to the alum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effectiveness of reminder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ete data collection by November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the data analysis and prepare the re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8:37:52Z</dcterms:created>
  <dc:creator>Djoko-Sandal</dc:creator>
  <dc:description/>
  <dc:language>en-US</dc:language>
  <cp:lastModifiedBy>Caem'z</cp:lastModifiedBy>
  <dcterms:modified xsi:type="dcterms:W3CDTF">2012-10-15T05:18:30Z</dcterms:modified>
  <cp:revision>122</cp:revision>
  <dc:subject/>
  <dc:title>Slide 1</dc:title>
</cp:coreProperties>
</file>