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79F-D5AE-4AD3-87FA-598623F6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E57-B272-432F-9FEF-75519DED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484-EE7C-4E48-A482-8111A5CB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707-655F-4B3F-970F-170463A2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92C-AF3C-4FB2-8498-14C13DE0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1B6-CF6C-46E5-969C-47D62D82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02E-1208-48BF-9B42-3E3D98C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BA6-3D43-44E9-ADCD-83E889A9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20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C03-2F39-4D46-804B-46A38D88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E95-90AC-4109-A992-1BB0822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060-6A7E-403F-9BC3-27F48D6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382-A8F9-4665-AF5B-475CD5B6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FB14-EE28-4150-834C-7DB348DC2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eablue1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78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seablue3"/>
          <p:cNvPicPr/>
          <p:nvPr/>
        </p:nvPicPr>
        <p:blipFill>
          <a:blip r:embed="rId3"/>
          <a:stretch/>
        </p:blipFill>
        <p:spPr>
          <a:xfrm>
            <a:off x="0" y="6259680"/>
            <a:ext cx="914400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nabling Tracer Studies to Indonesian Univers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ting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7976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al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070000" y="1320840"/>
            <a:ext cx="50040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iting Peri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072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encies: Knowledge/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Screen Shot 2012-09-24 at 9.26.33 AM.png"/>
          <p:cNvPicPr/>
          <p:nvPr/>
        </p:nvPicPr>
        <p:blipFill>
          <a:blip r:embed="rId1"/>
          <a:stretch/>
        </p:blipFill>
        <p:spPr>
          <a:xfrm>
            <a:off x="971640" y="1557360"/>
            <a:ext cx="7372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encies: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Screen Shot 2012-09-24 at 9.26.56 AM.png"/>
          <p:cNvPicPr/>
          <p:nvPr/>
        </p:nvPicPr>
        <p:blipFill>
          <a:blip r:embed="rId1"/>
          <a:stretch/>
        </p:blipFill>
        <p:spPr>
          <a:xfrm>
            <a:off x="539640" y="1365120"/>
            <a:ext cx="78804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encies: Interpersonal/Organiz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Screen Shot 2012-09-24 at 9.27.09 AM.png"/>
          <p:cNvPicPr/>
          <p:nvPr/>
        </p:nvPicPr>
        <p:blipFill>
          <a:blip r:embed="rId1"/>
          <a:stretch/>
        </p:blipFill>
        <p:spPr>
          <a:xfrm>
            <a:off x="684360" y="1528920"/>
            <a:ext cx="7632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 and Futur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online tracer study is an efficient and fast way to providing tracer study facilities to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niversities to add additional questions on top of the minimum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ga of Tracer 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ni data are not well-mai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tegrated, centralized student administr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ni data is not as important as when the alumni were sti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ng with alumni is usually through alumni association (they are not part of the university anymor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ga of Tracer Studi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the Alumni does not guarantee the success of Tra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eed back response from printed questionnaires sent to the alum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interviewing is expensive and consume significant amount of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Tracer Study online requires hardware and network infrastructure as well as IT Application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Higher Education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as Pangkalan Data Perguruan Tinggi (PD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es must report academic activities to PD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in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academic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r teach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es maintain master data through online facilities  (University, Study Program, and Lecturer Mast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Reports to PDPT are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DPT and Tracer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student and gradu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number, name, study program, year of entry, date of graduation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PT server is available for tracer study on behalf of the participating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 authentication system that allows entry only by ow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 Templ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on Tracer Study Question Framework should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mework should be accommodated by those who conduct   their own trac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2819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Tracer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537228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Student Rec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1298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 Identification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Screen Shot 2012-09-24 at 8.50.00 AM.png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4:35:48Z</dcterms:created>
  <dc:creator>Wahyu C. Wibowo</dc:creator>
  <dc:description/>
  <dc:language>en-US</dc:language>
  <cp:lastModifiedBy>Wahyu Wibowo</cp:lastModifiedBy>
  <dcterms:modified xsi:type="dcterms:W3CDTF">2012-10-22T06:06:10Z</dcterms:modified>
  <cp:revision>19</cp:revision>
  <dc:subject/>
  <dc:title>Page Design</dc:title>
</cp:coreProperties>
</file>